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356-79FE-4A4E-AE44-208266AE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7D8-8F92-4278-89E2-99CF75EE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05130-0252-490C-9A6E-B84EC2E4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50FDD-E2F8-4BAE-8374-FD5BF429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B73CF-7C9E-4341-BB47-898498BD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1BCFE-1AC7-451F-A43D-3C653004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F610C-1A91-4F11-BBBA-C9CA7DEF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98A6C-52BC-4ADB-AF30-63F4A728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68BC2-A48F-4787-849F-BEFD4E1A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F4E37-C950-450C-9703-E8D69176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3D421-DEC5-4C3A-BAF6-5422DDB0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09D9D-9C5F-4FD3-A0AB-9DFDA63F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F16-B626-4C42-B9D8-013C360E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7B477-C578-4B35-99AB-4390A720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9C831-D67A-47DB-BAF4-A29D0F34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9ACD7-6EE3-4807-8F05-1E061F12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3BA6A-7760-4C07-A188-4D170375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639B2-CF0D-4026-9CBE-26F252ED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DAE2D-F5CA-444D-8B22-D95441C8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C833D-1D15-42D3-A0EB-5D204E25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EC49E-AD0B-43BD-B6BE-D41B9D6B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9E11A-FE85-4144-87DC-3007CFCA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2D6FC-712F-4F0C-A4AA-96A98E36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F1B-028B-4829-BEB3-B8FCF3B7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3F7E2-D98A-474F-84E0-35871152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E0B97-357E-4ACA-A14D-7B2B6874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02F88-3C51-4D8D-8574-095E936E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E6310-086D-4CCC-A389-2D73296F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E0EB9-2F57-4DD9-84CD-21572AB5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59DF6-702A-4CC6-BEAA-9C70E1B5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CE49B-7EDE-43D8-B962-69D3245E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703E9-6AB1-4777-8436-25B38E3B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33148-1B93-4F25-A0C7-77A345C7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E43A8-1B4E-4E81-9E92-D093425A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042E-ABD5-434F-9210-9408508A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8E406-E84F-4B77-AD78-C9B7010D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D722B-9C9D-4280-A6E2-9D5A6EE0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F0CAA-9DD5-44CD-A062-DCCEFF47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67DBA-36EA-4FCF-9FF3-BA2DC270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A8B0C-9BB6-4502-B263-3AD45A13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1E5AE-2BD3-4194-939D-425FDB55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53006-4F91-40F5-8746-573AE0BE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CEE0A-1DE0-41F3-86C9-3D140951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7B57E-0250-4DCF-A8BD-10A0BD9B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B4305-41F2-4827-B859-8759B0C6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7349-5EEB-4133-9BDF-8350DE90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08D48-8A30-4C94-84E9-83EEA6F8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B06FC-E077-4B9A-A2CB-BBACC9DE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94B51-A6D5-481C-83CE-04419AB8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F28EF-2814-4078-8FC7-19D161E7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414B1-DA8E-4708-B8F6-BA3D3560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8865-C43E-4202-A743-487D7F2A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F4BD-CB4D-47CC-8F5F-869D66D4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75F6-42E8-465D-9F40-D2082525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C7E6-01B5-44C7-9756-BDD24C61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8E36-D141-471B-8706-2078362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69A-2C69-4F61-888F-A01A6831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2BDD-E899-4FC5-B74A-1AC0BED4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776D-1B44-4B52-995A-E4A14719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C950-62AB-48C0-B1C6-024B04D3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076E-8407-4A58-AB9A-2CA24A06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9C55-992C-4923-931D-BF55EF1C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A6E8F-3820-480D-AB78-7443FF2B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06A8-7501-462C-9B10-F2B2271A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DCDD-C796-491D-B174-0C69CECC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5E2C-3922-4A9C-B1C0-61B1DA93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97DE-CBB7-4009-82D2-6FFD5F61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771-33A4-413E-A1B2-04ACFD54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224D-50A6-4D79-9BCE-E78260AF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CCC1-7119-4F3D-A172-C450A2A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4732-C181-4031-A467-1CE720E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F114-963B-41BE-BA16-0DF6A50A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8729-01D7-4E14-8FB3-309E9B7E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6FA8-16A5-4159-80A6-D4F1FBC0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C0957-3FDF-42E5-B063-B7EAA285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7BE6-ADB0-43C8-9282-B7D9862A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852B-190B-46DC-86DF-BC0EE03F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E9CE-4965-4C72-B631-F909FAA2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735-58AD-4183-9835-DBE5C51B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0B51E-B39B-448B-81F6-D8FE85EF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F799A-4E70-49B8-9448-84D14FD4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453B-637B-4AC7-99F7-9B0DF10C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F34B-2322-4222-AFA2-2D4AF88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467F-65A0-404F-BCA7-DEE0B789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7AB6-19BD-4A8D-86C0-3358224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50E5-F88B-43D8-9AF2-0A066162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031F-9B16-4980-8B85-44E21DE7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2C15-0A34-4BE9-9839-F3AA2C2E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8886-7E88-49F9-A0BB-D5589C23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C08-A991-4F53-A06F-4DB07413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AC34-251E-4EA6-BD5B-B5CF904A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3155-9F61-4332-891F-0BEF0128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0BFF-7572-4DE5-A6CC-6E2421AE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3D1C-8AA7-46C5-804E-9F6FCCAE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CE536-F2FF-49F3-942F-BC7CDF7E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5AD5-CDFA-41FE-A6E6-CA11B17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25EBB-9A5C-41CE-B4EA-CE40548C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02D37-B6FC-4DAD-B32A-C31BCE7A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7C8B2-A3BB-4075-9F24-FF0EE5C0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29F5-DC9B-4E3C-9EC4-557F16A5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C60-697C-4D40-9D40-6B92F4C7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6697C-3625-461F-8B3A-B2970A6B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245F1-8E2B-43A5-B06C-D73EE5D9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BD67C-42C3-4B46-960C-518E7BD0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6697-DF89-4090-AD11-7412776B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1578-7B80-474A-939F-E16248BC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62A5-FA89-4B69-A316-E6451408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3E6CE-266D-4A09-97E5-9F308164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AC13-0D16-4ADF-9342-A6B24066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6CB82-B54E-460F-B25F-EAEE866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56E76-4737-4561-8E07-8F74ADEA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EA5-A383-42E6-8EF7-A0BCE124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26C04-DE7E-4215-A866-5B744002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E8E4F-3DAF-45B0-BEF9-FBE7F202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59D0D-FC38-4885-B437-34CC747D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8F2FF-1FC9-4477-A9E0-CE6BF87A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178BB-ED5E-446A-8A4F-37B4956F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CF3F5-7754-4511-8B96-46D6CF1D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C2C62-A983-46E0-B597-643098D9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AA816-63FD-4142-A318-30B55006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FC0A8-8359-47FA-A526-F9C75343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0740C-6863-4BE9-920A-08C6C3A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EC9-EE2C-40B6-9F04-DEA4743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3600-C3EE-47B8-B859-D8B5FBD8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F7B70-50FE-4FA4-8A4F-0B6107C0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B151D-AFB0-467B-8904-CC616421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1F443-176D-44C8-AF90-31E5B578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C8F20-B3CB-4A3B-87F6-4B5C93B7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3D891-C8B6-4327-ACC1-BA90251D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62C2E-F442-486B-8350-BDF9B3AA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59CFA-FF68-42A2-8263-46AE80B0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BD64A-86FC-4967-926B-43495CC9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1EE18-9C81-45AA-8AF6-CB59714A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62F-3136-4060-B547-00A15DED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96F53-607C-4C5F-B530-8CB4B081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3B28C-8C4A-43A5-8D61-22BFB848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AC642-67F0-48FA-9421-6064B5FF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3E342-57D8-4805-8330-148F5302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D4D32-0DE1-4E40-A891-C27969D7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C6590-24C0-41D3-9D23-A6005304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E287E-531A-447A-8C71-14D35BB9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A3B9C-035B-49D2-9C58-DF79E459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EB850-C3B5-4FA5-A8E5-B0019E8E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CF8AA-6160-4D93-9D94-75E5C9FD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F989-52D3-41EB-AEB9-29F590DC46F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9160-77D2-4466-B61F-26E9F48D639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2D1C-5279-4CE0-B68D-2967036338B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788E-1D8B-4F1A-8AE1-63E117F4FB1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06A4-3F9C-4412-8146-8D1AA876D9D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29B6-5A9F-4A88-947F-89870395A80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74F1-A755-4F4A-BB9A-2B1213C95CC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AC1C-7024-4BC2-93A0-8ECE8196ABC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5CC5-CC20-45CD-9FE7-A77EDB0387C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07A2-7C4F-4FA9-AF67-B202DB31E9D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E781-3DAC-437C-91F9-35483507939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2E76-192E-48FA-BA3A-CABDCEE76B1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71680" y="1197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75798"/>
                </a:solidFill>
                <a:latin typeface="Times New Roman"/>
                <a:ea typeface="Times New Roman"/>
              </a:rPr>
              <a:t>Математика </a:t>
            </a:r>
            <a:br>
              <a:rPr sz="8000"/>
            </a:br>
            <a:r>
              <a:rPr b="0" lang="ru-RU" sz="8000" spc="-1" strike="noStrike">
                <a:solidFill>
                  <a:srgbClr val="475798"/>
                </a:solidFill>
                <a:latin typeface="Times New Roman"/>
                <a:ea typeface="Times New Roman"/>
              </a:rPr>
              <a:t>во 2 «А» классе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75798"/>
                </a:solidFill>
                <a:latin typeface="Georgia"/>
              </a:rPr>
              <a:t>Задание № 3 с 7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2195640"/>
          <a:ext cx="8229600" cy="2241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 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Box 4"/>
          <p:cNvSpPr/>
          <p:nvPr/>
        </p:nvSpPr>
        <p:spPr>
          <a:xfrm>
            <a:off x="298764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5"/>
          <p:cNvSpPr/>
          <p:nvPr/>
        </p:nvSpPr>
        <p:spPr>
          <a:xfrm>
            <a:off x="2987640" y="3789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4932360" y="3060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7"/>
          <p:cNvSpPr/>
          <p:nvPr/>
        </p:nvSpPr>
        <p:spPr>
          <a:xfrm>
            <a:off x="5148360" y="3789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8"/>
          <p:cNvSpPr/>
          <p:nvPr/>
        </p:nvSpPr>
        <p:spPr>
          <a:xfrm>
            <a:off x="7093080" y="3068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"/>
          <p:cNvSpPr/>
          <p:nvPr/>
        </p:nvSpPr>
        <p:spPr>
          <a:xfrm>
            <a:off x="7020000" y="3789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75798"/>
                </a:solidFill>
                <a:latin typeface="Georgia"/>
              </a:rPr>
              <a:t>Задание № 4 с 7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12:а       14: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с:4           с:5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х*12        15*х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TextBox 3"/>
          <p:cNvSpPr/>
          <p:nvPr/>
        </p:nvSpPr>
        <p:spPr>
          <a:xfrm>
            <a:off x="4284720" y="22892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eorgi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4315320" y="350028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eorgia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4356000" y="47372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eorgia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75798"/>
                </a:solidFill>
                <a:latin typeface="Georgia"/>
              </a:rPr>
              <a:t>Задание № 5 с 7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2" descr="C:\Users\Алёна\Desktop\1456316982013.jpg"/>
          <p:cNvPicPr/>
          <p:nvPr/>
        </p:nvPicPr>
        <p:blipFill>
          <a:blip r:embed="rId1"/>
          <a:srcRect l="4271" t="56463" r="8977" b="2494"/>
          <a:stretch/>
        </p:blipFill>
        <p:spPr>
          <a:xfrm>
            <a:off x="0" y="1773360"/>
            <a:ext cx="914400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475798"/>
              </a:solidFill>
              <a:latin typeface="Georgia"/>
            </a:endParaRPr>
          </a:p>
        </p:txBody>
      </p:sp>
      <p:pic>
        <p:nvPicPr>
          <p:cNvPr id="665" name="Picture 2" descr="C:\Users\Алёна\Desktop\1456317003300.jpg"/>
          <p:cNvPicPr/>
          <p:nvPr/>
        </p:nvPicPr>
        <p:blipFill>
          <a:blip r:embed="rId1"/>
          <a:srcRect l="20334" t="52293" r="11348" b="0"/>
          <a:stretch/>
        </p:blipFill>
        <p:spPr>
          <a:xfrm>
            <a:off x="-69840" y="765000"/>
            <a:ext cx="9213840" cy="48261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475798"/>
                </a:solidFill>
                <a:latin typeface="Times New Roman"/>
                <a:ea typeface="Times New Roman"/>
              </a:rPr>
              <a:t>Самооценка.</a:t>
            </a:r>
            <a:endParaRPr b="0" lang="en-US" sz="8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сё получилось, я собой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ле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меня были трудности, но я с ни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ился.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ничего не получилос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ut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99680" y="642600"/>
            <a:ext cx="830124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значение выражения: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+ (50 – 30) – 23 =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ut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75798"/>
                </a:solidFill>
                <a:latin typeface="Times New Roman"/>
                <a:ea typeface="Times New Roman"/>
              </a:rPr>
              <a:t>Составьте по схемам выражения и найдите их значение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28760" y="1738080"/>
            <a:ext cx="85723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  -   8                      8   :   2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:   2          20  -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(20 – 8) : 2 = 6      20 – 8 : 2 = 16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Прямоугольник 13"/>
          <p:cNvSpPr/>
          <p:nvPr/>
        </p:nvSpPr>
        <p:spPr>
          <a:xfrm>
            <a:off x="1000080" y="2428920"/>
            <a:ext cx="785880" cy="64296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4"/>
          <p:cNvSpPr/>
          <p:nvPr/>
        </p:nvSpPr>
        <p:spPr>
          <a:xfrm>
            <a:off x="6000840" y="2357280"/>
            <a:ext cx="785880" cy="64296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5"/>
          <p:cNvSpPr/>
          <p:nvPr/>
        </p:nvSpPr>
        <p:spPr>
          <a:xfrm>
            <a:off x="1928880" y="3143160"/>
            <a:ext cx="785880" cy="64296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6"/>
          <p:cNvSpPr/>
          <p:nvPr/>
        </p:nvSpPr>
        <p:spPr>
          <a:xfrm>
            <a:off x="7429680" y="2357280"/>
            <a:ext cx="785520" cy="64296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17"/>
          <p:cNvSpPr/>
          <p:nvPr/>
        </p:nvSpPr>
        <p:spPr>
          <a:xfrm>
            <a:off x="3214800" y="3143160"/>
            <a:ext cx="785880" cy="64296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18"/>
          <p:cNvSpPr/>
          <p:nvPr/>
        </p:nvSpPr>
        <p:spPr>
          <a:xfrm>
            <a:off x="2500200" y="2357280"/>
            <a:ext cx="785880" cy="64296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Прямая со стрелкой 20"/>
          <p:cNvCxnSpPr/>
          <p:nvPr/>
        </p:nvCxnSpPr>
        <p:spPr>
          <a:xfrm>
            <a:off x="1428840" y="2927160"/>
            <a:ext cx="7149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7" name="Прямая со стрелкой 21"/>
          <p:cNvCxnSpPr/>
          <p:nvPr/>
        </p:nvCxnSpPr>
        <p:spPr>
          <a:xfrm flipH="1">
            <a:off x="2499480" y="2926440"/>
            <a:ext cx="5007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8" name="Прямоугольник 30"/>
          <p:cNvSpPr/>
          <p:nvPr/>
        </p:nvSpPr>
        <p:spPr>
          <a:xfrm>
            <a:off x="5003640" y="3146400"/>
            <a:ext cx="785880" cy="64296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31"/>
          <p:cNvSpPr/>
          <p:nvPr/>
        </p:nvSpPr>
        <p:spPr>
          <a:xfrm>
            <a:off x="6429240" y="3146400"/>
            <a:ext cx="785880" cy="64296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Прямая со стрелкой 33"/>
          <p:cNvCxnSpPr/>
          <p:nvPr/>
        </p:nvCxnSpPr>
        <p:spPr>
          <a:xfrm>
            <a:off x="6214680" y="2927160"/>
            <a:ext cx="4294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1" name="Прямая со стрелкой 34"/>
          <p:cNvCxnSpPr>
            <a:stCxn id="613" idx="2"/>
          </p:cNvCxnSpPr>
          <p:nvPr/>
        </p:nvCxnSpPr>
        <p:spPr>
          <a:xfrm flipH="1">
            <a:off x="7357680" y="3000240"/>
            <a:ext cx="46584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642600" y="259920"/>
            <a:ext cx="818676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действий: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)              * :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:  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Прямоугольник 3"/>
          <p:cNvSpPr/>
          <p:nvPr/>
        </p:nvSpPr>
        <p:spPr>
          <a:xfrm>
            <a:off x="2357280" y="2500200"/>
            <a:ext cx="1071720" cy="100008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Прямая со стрелкой 5"/>
          <p:cNvCxnSpPr/>
          <p:nvPr/>
        </p:nvCxnSpPr>
        <p:spPr>
          <a:xfrm>
            <a:off x="3714480" y="2922120"/>
            <a:ext cx="185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Прямоугольник 6"/>
          <p:cNvSpPr/>
          <p:nvPr/>
        </p:nvSpPr>
        <p:spPr>
          <a:xfrm>
            <a:off x="5857920" y="2500200"/>
            <a:ext cx="1071360" cy="100008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7"/>
          <p:cNvSpPr/>
          <p:nvPr/>
        </p:nvSpPr>
        <p:spPr>
          <a:xfrm>
            <a:off x="4071960" y="4292640"/>
            <a:ext cx="1071720" cy="1000080"/>
          </a:xfrm>
          <a:prstGeom prst="rect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-416880"/>
            <a:ext cx="853452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600" spc="-1" strike="noStrike">
              <a:solidFill>
                <a:srgbClr val="475798"/>
              </a:solidFill>
              <a:latin typeface="Times New Roman"/>
              <a:ea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– 12 : (2 * 3) = 3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– 12 : (2 * 3) = 28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– 12 : (2 * 3) = 27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ut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8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475798"/>
                </a:solidFill>
                <a:latin typeface="Times New Roman"/>
                <a:ea typeface="Times New Roman"/>
              </a:rPr>
              <a:t>Порядок действий в выражениях со скобками.</a:t>
            </a:r>
            <a:endParaRPr b="0" lang="en-US" sz="4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00040" y="1856880"/>
            <a:ext cx="8329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выражении есть скобки, то сначала вычисляют значение выражения в скобках. В полученном выражении выполняют по порядку слева направо сначала умножение и деление, а потом сложение и вычита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    )                  *  :                 +  -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31" name="Скругленный прямоугольник 4"/>
          <p:cNvSpPr/>
          <p:nvPr/>
        </p:nvSpPr>
        <p:spPr>
          <a:xfrm>
            <a:off x="2214720" y="5229360"/>
            <a:ext cx="785520" cy="78552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Скругленный прямоугольник 7"/>
          <p:cNvSpPr/>
          <p:nvPr/>
        </p:nvSpPr>
        <p:spPr>
          <a:xfrm>
            <a:off x="6443640" y="5229360"/>
            <a:ext cx="785880" cy="78552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кругленный прямоугольник 8"/>
          <p:cNvSpPr/>
          <p:nvPr/>
        </p:nvSpPr>
        <p:spPr>
          <a:xfrm>
            <a:off x="4427640" y="5229360"/>
            <a:ext cx="785880" cy="78552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Стрелка вправо 15"/>
          <p:cNvSpPr/>
          <p:nvPr/>
        </p:nvSpPr>
        <p:spPr>
          <a:xfrm>
            <a:off x="3203640" y="5516640"/>
            <a:ext cx="107136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Стрелка вправо 16"/>
          <p:cNvSpPr/>
          <p:nvPr/>
        </p:nvSpPr>
        <p:spPr>
          <a:xfrm>
            <a:off x="5292720" y="5516640"/>
            <a:ext cx="1071720" cy="21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57120" y="713880"/>
            <a:ext cx="8329680" cy="54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       2       1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– 12 : (2 * 3) = 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Овал 3"/>
          <p:cNvSpPr/>
          <p:nvPr/>
        </p:nvSpPr>
        <p:spPr>
          <a:xfrm>
            <a:off x="2631960" y="1700280"/>
            <a:ext cx="500040" cy="642960"/>
          </a:xfrm>
          <a:prstGeom prst="ellipse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4"/>
          <p:cNvSpPr/>
          <p:nvPr/>
        </p:nvSpPr>
        <p:spPr>
          <a:xfrm>
            <a:off x="4143240" y="1700280"/>
            <a:ext cx="500040" cy="642960"/>
          </a:xfrm>
          <a:prstGeom prst="ellipse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5"/>
          <p:cNvSpPr/>
          <p:nvPr/>
        </p:nvSpPr>
        <p:spPr>
          <a:xfrm>
            <a:off x="5508720" y="1700280"/>
            <a:ext cx="500040" cy="642960"/>
          </a:xfrm>
          <a:prstGeom prst="ellipse">
            <a:avLst/>
          </a:prstGeom>
          <a:noFill/>
          <a:ln w="115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75798"/>
                </a:solidFill>
                <a:latin typeface="Georgia"/>
              </a:rPr>
              <a:t>Задание № 1 с 7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Georgia"/>
              </a:rPr>
              <a:t>         </a:t>
            </a:r>
            <a:r>
              <a:rPr b="0" lang="ru-RU" sz="2700" spc="-1" strike="noStrike">
                <a:solidFill>
                  <a:srgbClr val="ffff00"/>
                </a:solidFill>
                <a:latin typeface="Georgia"/>
              </a:rPr>
              <a:t>2        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а) 2*(13-7)=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Georgia"/>
              </a:rPr>
              <a:t>            </a:t>
            </a:r>
            <a:r>
              <a:rPr b="0" lang="ru-RU" sz="2700" spc="-1" strike="noStrike">
                <a:solidFill>
                  <a:srgbClr val="ffff00"/>
                </a:solidFill>
                <a:latin typeface="Georgia"/>
              </a:rPr>
              <a:t>2        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б) 27:(84-75)=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700" spc="-1" strike="noStrike">
                <a:solidFill>
                  <a:srgbClr val="ffff00"/>
                </a:solidFill>
                <a:latin typeface="Georgia"/>
              </a:rPr>
              <a:t>1      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) (15-3):4=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TextBox 3"/>
          <p:cNvSpPr/>
          <p:nvPr/>
        </p:nvSpPr>
        <p:spPr>
          <a:xfrm>
            <a:off x="3419640" y="21337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4"/>
          <p:cNvSpPr/>
          <p:nvPr/>
        </p:nvSpPr>
        <p:spPr>
          <a:xfrm>
            <a:off x="3780000" y="321300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5"/>
          <p:cNvSpPr/>
          <p:nvPr/>
        </p:nvSpPr>
        <p:spPr>
          <a:xfrm>
            <a:off x="3203640" y="4365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75798"/>
                </a:solidFill>
                <a:latin typeface="Georgia"/>
              </a:rPr>
              <a:t>Задание № 2 с 7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Проверка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      3        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(3*7)+(18:2)=30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     3       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(24:3)-(32-28)=4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7:28:16Z</dcterms:created>
  <dc:creator>Seg</dc:creator>
  <dc:description/>
  <dc:language>en-US</dc:language>
  <cp:lastModifiedBy>Алёна</cp:lastModifiedBy>
  <dcterms:modified xsi:type="dcterms:W3CDTF">2019-12-12T20:54:03Z</dcterms:modified>
  <cp:revision>60</cp:revision>
  <dc:subject/>
  <dc:title>Математика</dc:title>
</cp:coreProperties>
</file>