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7953-8358-4E59-87EB-087B88E6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91C8-7B3E-4DEF-AB9C-2EDB1115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C2B0-B2F2-41E9-8699-9FB26C68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704A-C70B-474D-8BEB-7A123D95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39FB-A0D5-4321-A494-8293C0D80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3176-549A-4F10-B963-C34890EC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5F4E-63AE-471A-9F98-E4E71146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8C9F-9240-4CEE-8EDB-83244D19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AE5D-6E45-4677-867D-71CC3F1F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63B1-AA5A-44D8-8094-D9CAA2B2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7493-C3E8-499D-9271-EAC95BE2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D777-B7F9-41BC-B4C1-788E0632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4F73-7E13-4DB9-A703-DBE92101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F2C7-5159-4725-8293-491C484B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EA6D-93CC-4DE5-A8AF-028AA795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6ABF-3710-4560-8D1E-74D815CA9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346A-3AD7-49DE-A77D-6CAA7C14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73270-BA2D-4770-B1F1-7B5CED4A7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82A05-80D4-4ABC-839D-4856E81E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82599-2C59-4C1C-9437-E64E2FA3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2DFA7-CCB4-42C1-B6F6-BD026F02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B0606-18AE-4B83-8DAF-A99B7407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4D6D-840E-45D3-8433-239B2E38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851A2-740C-44EB-996F-4AC3FB1C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46BB1-B637-4651-BD54-EE6EA8E6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04CE0-79A1-4737-A33A-401DB6AC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60483-EBFE-43B7-B749-881D0FB2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FE714-13FD-4568-92BC-4BF13F60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A8AFF-B0CE-4B4D-B55A-6C290C12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07126-021A-4368-B4A3-84A7AEFA1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24C09-9679-46CE-B3B5-5C4A14A0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23170-D0EE-4A69-8D89-DB781C5E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1EC70-B9AB-495D-BA0D-C0DD0456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3F56-5382-40E3-B92C-C512F1EE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82A0E-610D-4A80-A0CF-C8A6B05C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A5BA7-3883-4F25-8246-1A91776F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8CB6B-3F89-4E31-AAEF-337ABE65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2D18E-756A-4428-8022-876B1A49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04042-9A2F-486B-B1E8-84092A7F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644CB-1367-45DD-93DD-669D0440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B476B-E6A2-479E-8146-9F49AFF5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6D1A1-ABF8-4A49-9067-9682848E2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725F3-1D75-4350-A574-FB7FF331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EB25-B823-4538-A706-8BD1628C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ABF2-C55F-4851-8EB4-D042D6CD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E8F7-AF6A-4A6D-9280-0DFCEFDE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399A-28EA-40F5-A969-6E1F3E42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8196-A182-4B92-891D-D80D3B97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99CE-87DD-4B4F-AF5D-45E1C7D6CAE3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2C9A-EA57-488D-A575-B70F5A139C14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B2F3-7D51-4483-A2AA-326FE6C35B93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F5FB-FE56-4E4D-A658-5E96AD489EB9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Rectangle 2" descr=""/>
          <p:cNvPicPr/>
          <p:nvPr/>
        </p:nvPicPr>
        <p:blipFill>
          <a:blip r:embed="rId1"/>
          <a:stretch/>
        </p:blipFill>
        <p:spPr>
          <a:xfrm>
            <a:off x="36360" y="944640"/>
            <a:ext cx="9826920" cy="34941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6"/>
          <p:cNvSpPr/>
          <p:nvPr/>
        </p:nvSpPr>
        <p:spPr>
          <a:xfrm>
            <a:off x="6215040" y="600084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подаватель       Силантьева Т.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Rectangle 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377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щё в давние времена люди старались использовать энергию топлива для превращения её в механическую. В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XVI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. был изобретён тепловой двигатель, который в последующие годы был усовершенствован, но идея осталась той же. Во всех двигателях энергия топлива переходит сначала в энергию газа или пара, а газ (пар) расширяясь, совершает работу и охлаждается,а часть его внутренней энергии при этом превращается в механическую энергию. К сожалению, коэффициент полезного действия не высо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301680" y="2923920"/>
            <a:ext cx="8540640" cy="31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вигатель внутреннего сгорани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ровая турбин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кетный двигател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14" descr="BD10298_"/>
          <p:cNvPicPr/>
          <p:nvPr/>
        </p:nvPicPr>
        <p:blipFill>
          <a:blip r:embed="rId2"/>
          <a:stretch/>
        </p:blipFill>
        <p:spPr>
          <a:xfrm>
            <a:off x="395280" y="31417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5" descr="BD10298_"/>
          <p:cNvPicPr/>
          <p:nvPr/>
        </p:nvPicPr>
        <p:blipFill>
          <a:blip r:embed="rId3"/>
          <a:stretch/>
        </p:blipFill>
        <p:spPr>
          <a:xfrm>
            <a:off x="395280" y="371628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6" descr="BD10298_"/>
          <p:cNvPicPr/>
          <p:nvPr/>
        </p:nvPicPr>
        <p:blipFill>
          <a:blip r:embed="rId4"/>
          <a:stretch/>
        </p:blipFill>
        <p:spPr>
          <a:xfrm>
            <a:off x="395280" y="4292640"/>
            <a:ext cx="214200" cy="2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Rectangle 2" descr=""/>
          <p:cNvPicPr/>
          <p:nvPr/>
        </p:nvPicPr>
        <p:blipFill>
          <a:blip r:embed="rId1"/>
          <a:stretch/>
        </p:blipFill>
        <p:spPr>
          <a:xfrm>
            <a:off x="291960" y="79200"/>
            <a:ext cx="8528040" cy="15606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49600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ВИГАТЕЛЬ ВНУТРЕННЕГО СГОРАНИЯ, тепловой двигатель, в котором часть химической энергии топлива, сгорающего в рабочей полости, преобразуется в механическую энергию. По роду топлива различают жидкостные и газовые; по рабочему циклу непрерывного действия, 2- и 4-тактные; по способу приготовления горючей смеси с внешним (напр., карбюраторные) и внутренним (напр., дизели) смесеобразованием; по виду преобразователя энергии поршневые, турбинные, реактивные и комбинированные. Коэффициент полезного действия 0,4-0,5. Первый двигатель внутреннего сгорания сконструирован Э. Ленуаром в 1860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наше время чаще встречается автомобильный транспорт, который работает на тепловом двигателе внутреннего сгорания, работающем на жидком топливе. Рабочий цикл в двигателе происходит за четыре хода поршня, за четыре такта. Поэтому такой двигатель и называется четырёхтактным. Цикл двигателя состоит из следующих четырёх тактов: 1.впуск, 2.сжатие, 3.рабочий ход, 4.выпуск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7" descr="ДВС"/>
          <p:cNvPicPr/>
          <p:nvPr/>
        </p:nvPicPr>
        <p:blipFill>
          <a:blip r:embed="rId2"/>
          <a:stretch/>
        </p:blipFill>
        <p:spPr>
          <a:xfrm>
            <a:off x="5083200" y="1676520"/>
            <a:ext cx="3324240" cy="2135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76" name="Rectangle 11"/>
          <p:cNvSpPr/>
          <p:nvPr/>
        </p:nvSpPr>
        <p:spPr>
          <a:xfrm>
            <a:off x="755640" y="4005360"/>
            <a:ext cx="3887640" cy="14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ля усиления мощности и лучшей системы обеспеченности равномерности вращения вала, используют 4,8 и более цилиндровых двигателей. Особенно мощные двигатели на теплоходах, тепловозах и д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Rectangle 2" descr=""/>
          <p:cNvPicPr/>
          <p:nvPr/>
        </p:nvPicPr>
        <p:blipFill>
          <a:blip r:embed="rId1"/>
          <a:stretch/>
        </p:blipFill>
        <p:spPr>
          <a:xfrm>
            <a:off x="291960" y="225360"/>
            <a:ext cx="8528040" cy="13352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95280" y="1628280"/>
            <a:ext cx="8299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современной технике так же широко применяют и другой тип теплового двигателя. В нём пар или нагретый до высокой температуры газ вращает вал двигателя без помощи поршня, шатуна и коленчатого вала. Такие двигатели называют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</a:rPr>
              <a:t>турбина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АРОВАЯ ТУРБИНА, турбина, преобразующая тепловую энергию водяного пара в механическую работу. Подразделяются на стационарные (напр., на теплоэлектростанции) и транспортные (судовые). Выполняются одно- и многокорпусными (обычно не более 4 корпусов), одновальными (валы всех корпусов на одной оси) и с параллельным расположением 2-3 валов. В Российской Федерации строят паровые турбины мощностью от нескольких кВт до 1200 МВ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современных турбинах, для увеличения мощности применяют не один, а несколько дисков, насажанных на общий вал. Турбины применяют на тепловых электростанциях и на кораблях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5" descr="ГТ"/>
          <p:cNvPicPr/>
          <p:nvPr/>
        </p:nvPicPr>
        <p:blipFill>
          <a:blip r:embed="rId2"/>
          <a:stretch/>
        </p:blipFill>
        <p:spPr>
          <a:xfrm>
            <a:off x="1619280" y="4581360"/>
            <a:ext cx="597708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Rectangle 5" descr=""/>
          <p:cNvPicPr/>
          <p:nvPr/>
        </p:nvPicPr>
        <p:blipFill>
          <a:blip r:embed="rId1"/>
          <a:stretch/>
        </p:blipFill>
        <p:spPr>
          <a:xfrm>
            <a:off x="291960" y="225360"/>
            <a:ext cx="8528040" cy="13352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1680" y="1676520"/>
            <a:ext cx="8447040" cy="15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АКЕТНЫЙ ДВИГАТЕЛЬ, реактивный двигатель, не использующий для работы окружающую среду (воздух, воду). Распространены химические ракетные двигатели (разрабатывают и испытывают электрические, ядерные и другие ракетные двигатели). Простейший ракетный двигатель работает на сжатом газе. По назначению различают разгонные, тормозные, управляющие и др. Применяют на ракетах (отсюда название), самолетах и др. Основной двигатель в космонавтике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4" descr="Ракетный"/>
          <p:cNvPicPr/>
          <p:nvPr/>
        </p:nvPicPr>
        <p:blipFill>
          <a:blip r:embed="rId2"/>
          <a:stretch/>
        </p:blipFill>
        <p:spPr>
          <a:xfrm>
            <a:off x="611280" y="3429000"/>
            <a:ext cx="78483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Rectangle 2" descr=""/>
          <p:cNvPicPr/>
          <p:nvPr/>
        </p:nvPicPr>
        <p:blipFill>
          <a:blip r:embed="rId1"/>
          <a:stretch/>
        </p:blipFill>
        <p:spPr>
          <a:xfrm>
            <a:off x="291960" y="225360"/>
            <a:ext cx="8528040" cy="133524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РНО ЦИКЛ, обратимый круговой процесс, состоящий из двух изотермических и двух адиабатных процессов; впервые рассмотрен Н. Л. С. Карно (1824) в связи с определением кпд тепловых машин. Кпд Карно цикла n не зависит от свойств рабочего тела (пара, газа и т. п.) и определяется температурами теплоотдатчика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 и теплоприемника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, n = (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-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/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Кпд любой тепловой машины не может быть больше кпд Карно цикла (при тех же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 и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7" descr="carno"/>
          <p:cNvPicPr/>
          <p:nvPr/>
        </p:nvPicPr>
        <p:blipFill>
          <a:blip r:embed="rId2"/>
          <a:stretch/>
        </p:blipFill>
        <p:spPr>
          <a:xfrm>
            <a:off x="5730840" y="2490840"/>
            <a:ext cx="202896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Rectangle 2" descr=""/>
          <p:cNvPicPr/>
          <p:nvPr/>
        </p:nvPicPr>
        <p:blipFill>
          <a:blip r:embed="rId1"/>
          <a:stretch/>
        </p:blipFill>
        <p:spPr>
          <a:xfrm>
            <a:off x="291960" y="396720"/>
            <a:ext cx="8528040" cy="14083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рицательное влияние тепловых машин на окружающую среду связано с действием различных факторов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-первых, при сжигании топлива используется кислород из атмосферы, вследствие чего содержание кислорода в воздухе постепенно уменьшаетс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-вторых, сжигание топлива сопровождается выделением в атмосферу углекислого газ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третьих, при сжигании угля и нефти атмосфера загрязняется азотными и серными соединениями, вредными для здоровья человек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автомобильные двигатели ежегодно выбрасывают в атмосферу два-три тонн свинц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бросы вредных веществ в атмосферу- не единственная сторона воздействия энергетики на природу. Согласно законам термодинамики производство электрической и механической энергии в принципе не может быть осуществлено без отвода в окружающую среду значительных количеств теплоты. Это не может не приводить к постепенному повышению средней температуры на земле. Одно из направлений, связанное с охраной окружающей среды, это увеличение эффективности использования энергии, борьба за её экономию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Rectangle 2" descr=""/>
          <p:cNvPicPr/>
          <p:nvPr/>
        </p:nvPicPr>
        <p:blipFill>
          <a:blip r:embed="rId1"/>
          <a:stretch/>
        </p:blipFill>
        <p:spPr>
          <a:xfrm>
            <a:off x="291960" y="396720"/>
            <a:ext cx="8528040" cy="1408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дин из путей уменьшения загрязнения окружающей среды- использование в автомобилях вместо карбюраторных бензиновых двигателей дизелей, в топливо которых не добавляют соединения свинца. Перспективными являются разработки автомобилей, в которых вместо бензиновых двигателей применяются электродвигатели или двигатели, использующие в качестве топлива водоро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09:47:03Z</dcterms:created>
  <dc:creator>Харьков Сергей</dc:creator>
  <dc:description/>
  <dc:language>en-US</dc:language>
  <cp:lastModifiedBy>Admin</cp:lastModifiedBy>
  <dcterms:modified xsi:type="dcterms:W3CDTF">2017-04-23T17:44:56Z</dcterms:modified>
  <cp:revision>13</cp:revision>
  <dc:subject/>
  <dc:title>Тепловые двигатели</dc:title>
</cp:coreProperties>
</file>