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82A-BED5-4E4B-BCEF-8B1F0C10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474-640A-4925-9756-CC9398E8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077-7C83-4329-BCDE-93A4CEE4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D63-8B05-438C-B0EA-4C69341F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BB2A-4F70-4DC8-BAB7-8CB4D3C9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5ADD-383B-439D-9CF3-7AFDBE07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2435-7350-4709-8243-10B88106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0B1C-52C4-454D-8BA2-17E4B01F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08CE-113D-4BCC-8CD4-09427621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F855-2D88-4BDE-88F9-711FE92A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3588-1DD9-4337-9E68-E85B4A34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EFD-7B14-4E08-A3E4-D1CAB7B2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6854-517F-4D45-A667-A89D521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4CA1-2BE9-41C5-BE32-484E07A9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40D3-7120-480A-BACF-C92A3257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8037-A5C8-47D4-8931-BB41E41C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872F-07B2-4CA9-8D1A-B938482C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CF4D-9238-4A4E-BDF6-55B5EA8F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B1FF-BAB0-4592-98D6-5B2B6467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DA1A9-6ECF-4F19-8B60-C227BA62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5A0FA-9960-4E34-AFE8-360FC198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F72B-BEC0-49BF-A8E9-373A29DE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373-9D00-401B-90DF-326F3055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0E52-E6C7-42F3-BD56-F1AEBE82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10F8C-87F4-492B-9B1B-070D46E8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BA03-CB72-40CD-9067-48312832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63B7-5826-41AD-9067-72688CAB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6F8A-E6B8-46F7-8A85-A87B5D60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6913-6D41-42B1-A2AF-68F00CD8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9FA9-244C-4571-82A5-84F94CCC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633B-BAA6-4361-9142-25C656EE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F7688-0BB7-452C-940A-E5549EBE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92950-0EA6-45ED-8B53-209AE18D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AD4-F9A0-494D-91EA-3EB6708C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116C-55BA-4803-81AB-0CA23CDC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D95ED-FC6B-4469-8EB6-132D7331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BECF-6DD2-441F-BFCE-1629B782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B617-FAF0-4CF1-AB9E-FB6394B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A940-24B6-4B98-B855-5A005D4C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897B-28FC-449E-A670-3C2FF4D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53941-AAFC-4DD4-ABC5-E164982B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0C949-DA16-4C50-AB42-0A26EF35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BEEB-8652-4187-81E8-164A59D4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34A-4E66-41E0-B325-0ED8C65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24E-2AB2-4175-8A7E-B31727AC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001-9422-4E94-A4D6-742F8EC4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D10-C419-48EA-9748-3E9C7EFB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F24-063E-44B0-AC1E-8F40B3D3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D9E2-7C78-4B5C-BE2B-9A17E81826F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AC9A-E20F-4064-B586-EDFDBBD70C0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4886-5ED1-4B83-B5F2-EF19B9CF97C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B0FB-AF99-4BB6-B9E0-C6F1D6D7F92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36360" y="944640"/>
            <a:ext cx="9826920" cy="3494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6215040" y="6000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подаватель       Силантьева Т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щё в давние времена люди старались использовать энергию топлива для превращения её в механическую. В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 был изобретён тепловой двигатель, который в последующие годы был усовершенствован, но идея осталась той же. Во всех двигателях энергия топлива переходит сначала в энергию газа или пара, а газ (пар) расширяясь, совершает работу и охлаждается,а часть его внутренней энергии при этом превращается в механическую энергию. К сожалению, коэффициент полезного действия не выс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301680" y="2923920"/>
            <a:ext cx="854064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игатель внутреннего сгоран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овая турб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кетный двигате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14" descr="BD10298_"/>
          <p:cNvPicPr/>
          <p:nvPr/>
        </p:nvPicPr>
        <p:blipFill>
          <a:blip r:embed="rId2"/>
          <a:stretch/>
        </p:blipFill>
        <p:spPr>
          <a:xfrm>
            <a:off x="395280" y="31417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BD10298_"/>
          <p:cNvPicPr/>
          <p:nvPr/>
        </p:nvPicPr>
        <p:blipFill>
          <a:blip r:embed="rId3"/>
          <a:stretch/>
        </p:blipFill>
        <p:spPr>
          <a:xfrm>
            <a:off x="395280" y="371628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BD10298_"/>
          <p:cNvPicPr/>
          <p:nvPr/>
        </p:nvPicPr>
        <p:blipFill>
          <a:blip r:embed="rId4"/>
          <a:stretch/>
        </p:blipFill>
        <p:spPr>
          <a:xfrm>
            <a:off x="395280" y="4292640"/>
            <a:ext cx="21420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91960" y="79200"/>
            <a:ext cx="8528040" cy="1560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ВИГАТЕЛЬ ВНУТРЕННЕГО СГОРАНИЯ, тепловой двигатель, в котором часть химической энергии топлива, сгорающего в рабочей полости, преобразуется в механическую энергию. По роду топлива различают жидкостные и газовые; по рабочему циклу непрерывного действия, 2- и 4-тактные; по способу приготовления горючей смеси с внешним (напр., карбюраторные) и внутренним (напр., дизели) смесеобразованием; по виду преобразователя энергии поршневые, турбинные, реактивные и комбинированные. Коэффициент полезного действия 0,4-0,5. Первый двигатель внутреннего сгорания сконструирован Э. Ленуаром в 186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наше время чаще встречается автомобильный транспорт, который работает на тепловом двигателе внутреннего сгорания, работающем на жидком топливе. Рабочий цикл в двигателе происходит за четыре хода поршня, за четыре такта. Поэтому такой двигатель и называется четырёхтактным. Цикл двигателя состоит из следующих четырёх тактов: 1.впуск, 2.сжатие, 3.рабочий ход, 4.выпуск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ДВС"/>
          <p:cNvPicPr/>
          <p:nvPr/>
        </p:nvPicPr>
        <p:blipFill>
          <a:blip r:embed="rId2"/>
          <a:stretch/>
        </p:blipFill>
        <p:spPr>
          <a:xfrm>
            <a:off x="5083200" y="1676520"/>
            <a:ext cx="3324240" cy="2135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6" name="Rectangle 11"/>
          <p:cNvSpPr/>
          <p:nvPr/>
        </p:nvSpPr>
        <p:spPr>
          <a:xfrm>
            <a:off x="755640" y="4005360"/>
            <a:ext cx="388764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усиления мощности и лучшей системы обеспеченности равномерности вращения вала, используют 4,8 и более цилиндровых двигателей. Особенно мощные двигатели на теплоходах, тепловозах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91960" y="225360"/>
            <a:ext cx="8528040" cy="1335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99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овременной технике так же широко применяют и другой тип теплового двигателя. В нём пар или нагретый до высокой температуры газ вращает вал двигателя без помощи поршня, шатуна и коленчатого вала. Такие двигатели называют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турбин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АРОВАЯ ТУРБИНА, турбина, преобразующая тепловую энергию водяного пара в механическую работу. Подразделяются на стационарные (напр., на теплоэлектростанции) и транспортные (судовые). Выполняются одно- и многокорпусными (обычно не более 4 корпусов), одновальными (валы всех корпусов на одной оси) и с параллельным расположением 2-3 валов. В Российской Федерации строят паровые турбины мощностью от нескольких кВт до 1200 МВ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овременных турбинах, для увеличения мощности применяют не один, а несколько дисков, насажанных на общий вал. Турбины применяют на тепловых электростанциях и на корабля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5" descr="ГТ"/>
          <p:cNvPicPr/>
          <p:nvPr/>
        </p:nvPicPr>
        <p:blipFill>
          <a:blip r:embed="rId2"/>
          <a:stretch/>
        </p:blipFill>
        <p:spPr>
          <a:xfrm>
            <a:off x="1619280" y="4581360"/>
            <a:ext cx="59770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5" descr=""/>
          <p:cNvPicPr/>
          <p:nvPr/>
        </p:nvPicPr>
        <p:blipFill>
          <a:blip r:embed="rId1"/>
          <a:stretch/>
        </p:blipFill>
        <p:spPr>
          <a:xfrm>
            <a:off x="291960" y="225360"/>
            <a:ext cx="8528040" cy="1335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1680" y="1676520"/>
            <a:ext cx="844704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КЕТНЫЙ ДВИГАТЕЛЬ, реактивный двигатель, не использующий для работы окружающую среду (воздух, воду). Распространены химические ракетные двигатели (разрабатывают и испытывают электрические, ядерные и другие ракетные двигатели). Простейший ракетный двигатель работает на сжатом газе. По назначению различают разгонные, тормозные, управляющие и др. Применяют на ракетах (отсюда название), самолетах и др. Основной двигатель в космонав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4" descr="Ракетный"/>
          <p:cNvPicPr/>
          <p:nvPr/>
        </p:nvPicPr>
        <p:blipFill>
          <a:blip r:embed="rId2"/>
          <a:stretch/>
        </p:blipFill>
        <p:spPr>
          <a:xfrm>
            <a:off x="611280" y="3429000"/>
            <a:ext cx="7848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2" descr=""/>
          <p:cNvPicPr/>
          <p:nvPr/>
        </p:nvPicPr>
        <p:blipFill>
          <a:blip r:embed="rId1"/>
          <a:stretch/>
        </p:blipFill>
        <p:spPr>
          <a:xfrm>
            <a:off x="291960" y="225360"/>
            <a:ext cx="8528040" cy="13352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НО ЦИКЛ, обратимый круговой процесс, состоящий из двух изотермических и двух адиабатных процессов; впервые рассмотрен Н. Л. С. Карно (1824) в связи с определением кпд тепловых машин. Кпд Карно цикла n не зависит от свойств рабочего тела (пара, газа и т. п.) и определяется температурами теплоотдатчика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и теплоприемника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, n =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/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Кпд любой тепловой машины не может быть больше кпд Карно цикла (при тех же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7" descr="carno"/>
          <p:cNvPicPr/>
          <p:nvPr/>
        </p:nvPicPr>
        <p:blipFill>
          <a:blip r:embed="rId2"/>
          <a:stretch/>
        </p:blipFill>
        <p:spPr>
          <a:xfrm>
            <a:off x="5730840" y="2490840"/>
            <a:ext cx="2028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291960" y="396720"/>
            <a:ext cx="8528040" cy="1408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рицательное влияние тепловых машин на окружающую среду связано с действием различных факто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-первых, при сжигании топлива используется кислород из атмосферы, вследствие чего содержание кислорода в воздухе постепенно уменьшае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-вторых, сжигание топлива сопровождается выделением в атмосферу углекислого газ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третьих, при сжигании угля и нефти атмосфера загрязняется азотными и серными соединениями, вредными для здоровья чело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автомобильные двигатели ежегодно выбрасывают в атмосферу два-три тонн свинц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росы вредных веществ в атмосферу- не единственная сторона воздействия энергетики на природу. Согласно законам термодинамики производство электрической и механической энергии в принципе не может быть осуществлено без отвода в окружающую среду значительных количеств теплоты. Это не может не приводить к постепенному повышению средней температуры на земле. Одно из направлений, связанное с охраной окружающей среды, это увеличение эффективности использования энергии, борьба за её экономию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291960" y="396720"/>
            <a:ext cx="8528040" cy="140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ин из путей уменьшения загрязнения окружающей среды- использование в автомобилях вместо карбюраторных бензиновых двигателей дизелей, в топливо которых не добавляют соединения свинца. Перспективными являются разработки автомобилей, в которых вместо бензиновых двигателей применяются электродвигатели или двигатели, использующие в качестве топлива водор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9:47:03Z</dcterms:created>
  <dc:creator>Харьков Сергей</dc:creator>
  <dc:description/>
  <dc:language>en-US</dc:language>
  <cp:lastModifiedBy>Admin</cp:lastModifiedBy>
  <dcterms:modified xsi:type="dcterms:W3CDTF">2017-04-23T17:44:56Z</dcterms:modified>
  <cp:revision>13</cp:revision>
  <dc:subject/>
  <dc:title>Тепловые двигатели</dc:title>
</cp:coreProperties>
</file>