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FE8-92AF-4794-AAFD-E95DBDF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E60-63B8-44C2-8DB6-BFB1D73B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E143-7E1B-4619-8FAD-1B7FE2C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A65A-4F89-4182-880B-A96F829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E6CC0-8580-4FB3-BA01-B960C30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53C43-C133-4EE7-B2C7-00E854A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48807-F056-423D-A621-2CC5688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41C19-423E-431C-A30F-8240239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6B76-E1B8-4A34-9D47-494D70A7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564AF-DAE6-449A-ABFC-1FE179C8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43043-A17C-47CE-BC49-CAE50E24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D39F-1798-48F1-97E4-BF507DB7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798-FBAA-4CFB-B5A6-54BF50DB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30946-329C-49B5-8627-9146811A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0AF61-8070-41D9-A1FA-F60B2B79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B7520-D4F8-479E-A18E-5DEEA12F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146C4-E487-43B9-A604-0756A0A5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D8FD8-DE59-4ACD-9DA0-14E2CE6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E09FE-F649-4626-8479-90D4AFA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34A1A-3B57-4397-9B68-87046B4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050B-D600-4D54-9BA3-7CBB33C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22ADC-7197-4075-8BD3-73A24FE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727DF-8C7B-46BD-91C3-69518599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3F6-3025-4561-B852-AE5BDEC2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CC833-661E-4EED-83C2-6B6F05A9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4344-362A-421E-90D3-10C97D4B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77BDF-308E-482D-AEBD-E50EBE78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06BE7-BD9D-405F-9D95-F1A28C60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CE1E-F410-41A5-B4EE-02B8D6B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B5C2D-3029-4F78-8E5A-168AFC61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6A51-D81F-42DC-A3E5-DC01B2D9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A799-B9C1-49E1-A0AD-5B7379E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0AD0A-77AA-478D-9C3E-5E7CD16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5E78-70AD-4113-82D2-3FE8CFB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D090-2B0D-495C-AA1C-944824D5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FA5C3-1AF3-49A1-8B5E-670B0D7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8EB88-2FE6-43CF-AA42-424DA583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B34B-51D1-4532-83D5-DA3E7BCA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6BFD3-194C-4BEB-9A3E-D2AB501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C2B81-9DF4-46B1-ABC9-540F689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77D2F-BDD4-4DA7-BDC5-3733E5C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801B0-30E2-4CA7-B99E-5F095EA3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EFA76-4CCE-450F-9D11-9F541DC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10D19-2D48-4BBF-ACD9-1BE5E56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41972-471E-40FB-92CF-B37C915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015-212E-4847-A75D-1A7B50C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CBD82-2ED4-4777-A393-CE454C3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20974-ED8E-4AAE-9351-3609589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ABA7B-D262-4785-958D-803990CD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34A43-B83F-4D0D-BF94-23885330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E4AAA-5E67-4A8B-A350-202EB70C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EEDC8-3F45-420C-8C61-7C88BE69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660C9-056A-48D0-83B8-DA7FB600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F6AB8-69F4-454C-8667-1B779BF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EFEEA-B7B2-434C-BA00-E9155D1D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FBE5A-0626-45C0-B6EF-BA30999B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D330-B24C-4985-A814-9CAFF37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FACA3-92BE-4238-9538-93401312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3F238-55E1-46B7-B504-9087764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AC7C0-ECBF-4C9F-B1EC-929CD7C2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833D6-2311-48F6-8094-DC9B247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3B30D-3C24-414A-A2A7-A0FEB83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15872-458A-4430-B239-C37E65BC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76348-B854-48E4-A77C-E01A18E2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4D46E-7A29-4FBD-9B75-1BE716A8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B73B8-C27E-4A45-B108-FBD09325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00526-4B20-47ED-AEBE-38D04AF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7E8E-9D83-40FF-B079-E1D30843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9FEE6-EA6C-4952-A914-701C70AD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629E0-0C2D-45F8-BDBA-BBF7014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2B421-FB56-4467-8505-856EE857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62594-1416-4B2A-9745-93C9CD9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009CC-2454-4A49-B04E-ABD89DA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44A75-B1B0-48E4-A882-F96564D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B67D3-F2B9-4CD3-9D01-A18F426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D98CC-5A04-428E-A3D8-C1F3729D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B274C-2B5F-4406-B629-2065566F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E8F41-251C-47EB-9F70-630E250B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9E70-54AF-4245-90BF-F54C752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D9330-437F-446C-8397-4705D12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EE4EC-CBCF-4B2E-B86B-6261D509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D3888-F3C2-4A9C-8EAD-2DFDF94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216B8-00C9-4988-B194-AF015AC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E65C4-576B-40BF-B173-63C82C0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66031-39EC-4D7C-A472-2BA5CF0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C0C0B-5C31-48C4-9568-5DAB7D2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B54D1-C31C-4B76-A3E2-B7BDD68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3AE3B-E2A7-4804-AA4B-B7B035FB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803CB-AC5C-4951-9E59-B60EDE55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3F23-B712-4FAA-B239-13A2034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D245E-535D-4BF1-A3AE-BF246867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09BF8-92BB-46DB-B81D-DBF35CE3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BBCA2-3C4A-4C9A-BDC7-FFBFF03E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2457B-B40E-4275-B715-6F6BF74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74E88-5628-4D0C-A34B-F19417B9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9602E-D0D6-4C07-BC7E-492FF8B3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86D75-3075-4D59-B442-34D11EF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A4EC4-FAA6-46B3-8A48-6A1A8F8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00AD82-CD9D-4719-B4A9-79DB575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CA1A3-4D01-4C7F-8617-6F08817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1C7C-2836-47AE-B5D6-9470976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BCBEC-A2AF-4847-845A-B9D532B4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2D6FB-D784-4A01-923A-FAB913D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A106B-67ED-4CA3-9B0B-02CEE2AC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FCD69-1E06-489F-B2B2-BFD7AF5F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17AFA-4E89-42EA-9DB4-D975ABF4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1E473-4988-408A-8D51-4111C08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ABD34-05BD-414C-953C-6942D18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A5062-35A4-46BE-9368-0CBD2C9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B0E9A-713F-4E56-A046-CE3D6988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A36FB-A62D-4D55-85D7-DC32F83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171-7596-46F6-970B-32CEB81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1B7-BAF1-46F8-8571-A2EBD009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5D024-A795-4009-9FEC-232703C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04A51-A852-4BE8-996D-BF51D1A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0475F-22B7-4206-BE5A-473A246F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48C22-0829-4786-8B95-92C26A15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15F7D-A2E4-4D2A-B573-99433B34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2AF44-D86C-47DD-8FB8-4272922B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AD2F2-4685-48A8-B9CB-4EA8A1A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85BEF-C620-463F-BEDD-346F0B0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6912E-38A2-4EA5-91DB-BEC5746F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9D7B3-F1CA-4438-89DE-61D49C6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9B9-5F44-4774-9426-F757A67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7CE8F-34B0-4991-84DE-9EDFB497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61A50-7FEE-479E-BCC0-87EADB6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E25B3-3C45-4FAC-8389-029530F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F6077-25DD-4BA0-917C-D0A891C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AC1FC-0C8E-4F4D-89E1-E23029F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05A7E-9C7E-48B5-8A05-58120490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3A3C7-FAF9-4A5E-9F15-FB69F25F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7041-E3CB-46D4-9393-DF5F8333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FC9-937A-43B9-80C5-C1FE613E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F75-DBAA-493D-A043-05BAEF04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9BAB-3CFF-4284-AA3A-A4CF5592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A664-5D53-4E16-947D-9C9D796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34C2-429C-4F1C-9FDA-63DBF124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9B90-232D-4BB7-A73F-303139BA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1D73-CCC5-489F-B5B3-FE894CC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F66-CA87-4FBF-A55A-40EFD65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719A-1093-45D0-9A53-E36C3903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C975-9F29-418D-98D1-FFAB75C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5D7C-645D-4DC6-A5BE-D946078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7994-E37A-4F86-B119-09A9125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6632-C10B-4720-8D4F-123134D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4540-F0B8-4274-96E2-8AAEED53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10B2-63D8-4605-ACB3-02B305C5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DD4E-2564-42EF-9A13-8B15612B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0DF5-AA20-46FE-8331-D776EB5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FE43-4EE2-4F77-98C1-6E97F0C3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635-F0D3-445A-A339-F7634F5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2471-365F-4C80-ABDE-04FB093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636F-6E56-438B-9E16-9CB91DBB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5D01-043C-4068-B6EC-F7484B0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2124-5B1C-460B-82CE-3C8A579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88DB-5F81-450A-A8F6-18A1D3D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39C3-C79D-4002-BD36-0FB00C7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EF58-B4BC-4B38-9AED-3FE27A8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9B15-123A-4AE0-94F5-E2200AF2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35D0-EE5B-47F4-8788-86B7AB5B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79DA-D216-4DE6-98A3-765F7F1E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0A8-7BC1-4F9A-B609-FDC0707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75C4-730D-4138-A09A-280DD275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CEA5-9C0D-43E8-9086-5FC96E8E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9DA0-1BF9-45C0-8182-3888C3CE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0ECC-ECA3-42B3-8823-46C18EE7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698A-8709-4743-8CCF-B0D919F1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D592-9865-44A1-AF07-F7B59955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451E-4698-413A-B6A4-6C6494B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8FED-A15C-49E1-9013-D229343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73C8-D6F0-450F-8C00-386D0E5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9BFE-0380-4044-8A9D-DBAD65F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03D-43CE-4E3A-AFC2-A54DC71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30F99-5420-4C89-A52C-508B940A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C993-54E5-4C1D-B5E6-D53328F0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8F48-48DD-4CE6-81C6-527F8F56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859E-B85C-4038-A7D1-D18E9E0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9236-75BD-4218-A953-812A3095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C7E3-825D-45EF-AE6B-125B891C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B108-F909-491A-B0BF-FC64B07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66EB-3075-485E-9B05-AEBDFEB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9DE2-059F-4CA4-A809-D329FAB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D314-A2F6-4C65-A6A8-6EBE6A2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F5F-36B5-4C3A-9DDC-88C132D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3381-2D49-477D-991C-C42CA746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1D36-9922-45C5-90C3-58469C71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3E4A-18CD-45D5-8761-C71F7AFA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24BC-B0C6-434F-9A7F-A6EFBA00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D6C5-BF26-4884-B188-CF32EEC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C9C9-A86B-49E9-95ED-255F6E9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538B4-FD0F-44AC-BE3A-8312890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1354F-B634-4D08-801A-55ACD76B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ECAD-F0B0-4970-99D6-A9CC150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BF48-C555-4FF9-8F27-D31D039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116-978F-4B2D-A80F-577B2D9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34AAD-B1FB-4518-80AF-2343E33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18C4-67B0-4145-82D7-D59D617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8D22-BA36-4DE4-8130-FB4D4A75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D35E-45C6-47EB-8D28-188F5BAF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1218-1212-4760-8E12-80C3AA09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EACB-B295-4AED-85BD-2B1DA5FD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6176F-8D04-47FF-8904-D3CAEFE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4667-8758-4834-9E38-1E885BE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2BDD3-0B1E-4B69-A072-B9EEE255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0BCD-B839-4CFD-8420-FCD22488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05D-2B52-4B6A-BD30-0717824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9CD60-CD82-4A8B-87CA-C81DABFA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74D97-91F8-40B3-BAB2-EC4FA10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9972-B99C-4A31-AA0A-2C0679B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AA6A1-A182-4D11-A7C9-CE10D81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F53A0-7A11-45A8-B2C0-15E4A240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FCCC-D32D-4DB3-80EC-508308C7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7CCE4-C535-42EA-81F9-2AA22062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69976-0EB6-4B66-BB8E-E2BF97D1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EABA0-9D64-4C9E-84B3-0FBAE5D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1C8BF-F10F-49BE-80D1-97DEDD1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3A3A-1CB8-42D1-9C4D-ACDDF3E489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2B0-2936-41EF-BF06-5A2B7F758A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329-6394-477C-836D-C91B15049A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0D90-7ABE-43A1-AEB2-F46D6A7985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772-797B-4175-9BF4-C4A8541002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8AEF-EE2E-4C74-8DDA-FAC06EDA0C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F793-211D-47CD-99C1-422DB689D3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154-7012-4961-A116-EA4313DF66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4835-869C-4778-81C7-902856643E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32D-F846-4DFD-9273-F0BB8EEDE4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581-F085-4481-857D-85D2574643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D186-76E7-4470-98CF-98D956590F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7A8-021C-49AE-BE9A-EE3CE3877D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EE77-357A-4DB2-A8BB-2A14CB12C7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8705-6D3B-4349-8B30-6522E70972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701-04DD-4786-8D3D-03E6C4F9E5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A0F-D009-439A-8F9B-27EF79A496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198-425D-4B52-BABD-FD93F5C000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Прямоугольник 1"/>
          <p:cNvSpPr/>
          <p:nvPr/>
        </p:nvSpPr>
        <p:spPr>
          <a:xfrm>
            <a:off x="1911240" y="471600"/>
            <a:ext cx="93394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Эти занимательные опыты»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группа № 4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Калинычева Е.В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го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6" name="Рисунок 2" descr=""/>
          <p:cNvPicPr/>
          <p:nvPr/>
        </p:nvPicPr>
        <p:blipFill>
          <a:blip r:embed="rId1"/>
          <a:stretch/>
        </p:blipFill>
        <p:spPr>
          <a:xfrm>
            <a:off x="336600" y="4905360"/>
            <a:ext cx="3151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10363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В ЛЕТНИЙ ПЕРИО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Объект 3" descr=""/>
          <p:cNvPicPr/>
          <p:nvPr/>
        </p:nvPicPr>
        <p:blipFill>
          <a:blip r:embed="rId1"/>
          <a:stretch/>
        </p:blipFill>
        <p:spPr>
          <a:xfrm>
            <a:off x="227160" y="131616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4" descr=""/>
          <p:cNvPicPr/>
          <p:nvPr/>
        </p:nvPicPr>
        <p:blipFill>
          <a:blip r:embed="rId2"/>
          <a:stretch/>
        </p:blipFill>
        <p:spPr>
          <a:xfrm>
            <a:off x="4282920" y="1316160"/>
            <a:ext cx="3638880" cy="264924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5" descr=""/>
          <p:cNvPicPr/>
          <p:nvPr/>
        </p:nvPicPr>
        <p:blipFill>
          <a:blip r:embed="rId3"/>
          <a:stretch/>
        </p:blipFill>
        <p:spPr>
          <a:xfrm>
            <a:off x="8386920" y="1316160"/>
            <a:ext cx="3411360" cy="263664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6" descr=""/>
          <p:cNvPicPr/>
          <p:nvPr/>
        </p:nvPicPr>
        <p:blipFill>
          <a:blip r:embed="rId4"/>
          <a:stretch/>
        </p:blipFill>
        <p:spPr>
          <a:xfrm>
            <a:off x="1579680" y="4187880"/>
            <a:ext cx="3379680" cy="2535120"/>
          </a:xfrm>
          <a:prstGeom prst="rect">
            <a:avLst/>
          </a:prstGeom>
          <a:ln w="0">
            <a:noFill/>
          </a:ln>
        </p:spPr>
      </p:pic>
      <p:pic>
        <p:nvPicPr>
          <p:cNvPr id="794" name="Рисунок 7" descr=""/>
          <p:cNvPicPr/>
          <p:nvPr/>
        </p:nvPicPr>
        <p:blipFill>
          <a:blip r:embed="rId5"/>
          <a:stretch/>
        </p:blipFill>
        <p:spPr>
          <a:xfrm>
            <a:off x="6345360" y="4187880"/>
            <a:ext cx="33670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193680"/>
            <a:ext cx="103633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В ОСЕННИЙ ПЕРИО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6" name="Объект 3" descr=""/>
          <p:cNvPicPr/>
          <p:nvPr/>
        </p:nvPicPr>
        <p:blipFill>
          <a:blip r:embed="rId1"/>
          <a:stretch/>
        </p:blipFill>
        <p:spPr>
          <a:xfrm>
            <a:off x="446040" y="1425600"/>
            <a:ext cx="3405240" cy="2552760"/>
          </a:xfrm>
          <a:prstGeom prst="rect">
            <a:avLst/>
          </a:prstGeom>
          <a:ln w="0">
            <a:noFill/>
          </a:ln>
        </p:spPr>
      </p:pic>
      <p:pic>
        <p:nvPicPr>
          <p:cNvPr id="797" name="Рисунок 4" descr=""/>
          <p:cNvPicPr/>
          <p:nvPr/>
        </p:nvPicPr>
        <p:blipFill>
          <a:blip r:embed="rId2"/>
          <a:stretch/>
        </p:blipFill>
        <p:spPr>
          <a:xfrm>
            <a:off x="4365720" y="1425600"/>
            <a:ext cx="3593880" cy="255276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5" descr=""/>
          <p:cNvPicPr/>
          <p:nvPr/>
        </p:nvPicPr>
        <p:blipFill>
          <a:blip r:embed="rId3"/>
          <a:stretch/>
        </p:blipFill>
        <p:spPr>
          <a:xfrm>
            <a:off x="8474040" y="1425600"/>
            <a:ext cx="3575160" cy="255276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6" descr=""/>
          <p:cNvPicPr/>
          <p:nvPr/>
        </p:nvPicPr>
        <p:blipFill>
          <a:blip r:embed="rId4"/>
          <a:stretch/>
        </p:blipFill>
        <p:spPr>
          <a:xfrm>
            <a:off x="446040" y="421164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7" descr=""/>
          <p:cNvPicPr/>
          <p:nvPr/>
        </p:nvPicPr>
        <p:blipFill>
          <a:blip r:embed="rId5"/>
          <a:stretch/>
        </p:blipFill>
        <p:spPr>
          <a:xfrm>
            <a:off x="4365720" y="4211640"/>
            <a:ext cx="3593880" cy="255420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8" descr=""/>
          <p:cNvPicPr/>
          <p:nvPr/>
        </p:nvPicPr>
        <p:blipFill>
          <a:blip r:embed="rId6"/>
          <a:stretch/>
        </p:blipFill>
        <p:spPr>
          <a:xfrm>
            <a:off x="8474040" y="4211640"/>
            <a:ext cx="3575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1" descr=""/>
          <p:cNvPicPr/>
          <p:nvPr/>
        </p:nvPicPr>
        <p:blipFill>
          <a:blip r:embed="rId1"/>
          <a:stretch/>
        </p:blipFill>
        <p:spPr>
          <a:xfrm>
            <a:off x="762120" y="125280"/>
            <a:ext cx="4433760" cy="321336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2" descr=""/>
          <p:cNvPicPr/>
          <p:nvPr/>
        </p:nvPicPr>
        <p:blipFill>
          <a:blip r:embed="rId2"/>
          <a:stretch/>
        </p:blipFill>
        <p:spPr>
          <a:xfrm>
            <a:off x="6802560" y="125280"/>
            <a:ext cx="4433760" cy="321336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3" descr=""/>
          <p:cNvPicPr/>
          <p:nvPr/>
        </p:nvPicPr>
        <p:blipFill>
          <a:blip r:embed="rId3"/>
          <a:stretch/>
        </p:blipFill>
        <p:spPr>
          <a:xfrm>
            <a:off x="762120" y="3460680"/>
            <a:ext cx="4433760" cy="332424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4" descr=""/>
          <p:cNvPicPr/>
          <p:nvPr/>
        </p:nvPicPr>
        <p:blipFill>
          <a:blip r:embed="rId4"/>
          <a:stretch/>
        </p:blipFill>
        <p:spPr>
          <a:xfrm>
            <a:off x="6802560" y="3460680"/>
            <a:ext cx="4433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В ЗИМНИЙ ПЕРИОД</a:t>
            </a:r>
            <a:br>
              <a:rPr sz="3600"/>
            </a:br>
            <a:r>
              <a:rPr b="0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ПЫТЫ СО ЛЬДОМ И ВОДОЙ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Объект 3" descr=""/>
          <p:cNvPicPr/>
          <p:nvPr/>
        </p:nvPicPr>
        <p:blipFill>
          <a:blip r:embed="rId1"/>
          <a:stretch/>
        </p:blipFill>
        <p:spPr>
          <a:xfrm>
            <a:off x="208080" y="1751040"/>
            <a:ext cx="3335400" cy="2502000"/>
          </a:xfrm>
          <a:prstGeom prst="rect">
            <a:avLst/>
          </a:prstGeom>
          <a:ln w="0">
            <a:noFill/>
          </a:ln>
        </p:spPr>
      </p:pic>
      <p:pic>
        <p:nvPicPr>
          <p:cNvPr id="808" name="Рисунок 4" descr=""/>
          <p:cNvPicPr/>
          <p:nvPr/>
        </p:nvPicPr>
        <p:blipFill>
          <a:blip r:embed="rId2"/>
          <a:stretch/>
        </p:blipFill>
        <p:spPr>
          <a:xfrm>
            <a:off x="208080" y="4479840"/>
            <a:ext cx="3335400" cy="2228760"/>
          </a:xfrm>
          <a:prstGeom prst="rect">
            <a:avLst/>
          </a:prstGeom>
          <a:ln w="0">
            <a:noFill/>
          </a:ln>
        </p:spPr>
      </p:pic>
      <p:pic>
        <p:nvPicPr>
          <p:cNvPr id="809" name="Рисунок 5" descr=""/>
          <p:cNvPicPr/>
          <p:nvPr/>
        </p:nvPicPr>
        <p:blipFill>
          <a:blip r:embed="rId3"/>
          <a:stretch/>
        </p:blipFill>
        <p:spPr>
          <a:xfrm>
            <a:off x="8340840" y="165276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810" name="Рисунок 6" descr=""/>
          <p:cNvPicPr/>
          <p:nvPr/>
        </p:nvPicPr>
        <p:blipFill>
          <a:blip r:embed="rId4"/>
          <a:stretch/>
        </p:blipFill>
        <p:spPr>
          <a:xfrm>
            <a:off x="4232160" y="264312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207720"/>
            <a:ext cx="1036332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Ы С БУМАГОЙ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2" name="Объект 3" descr=""/>
          <p:cNvPicPr/>
          <p:nvPr/>
        </p:nvPicPr>
        <p:blipFill>
          <a:blip r:embed="rId1"/>
          <a:stretch/>
        </p:blipFill>
        <p:spPr>
          <a:xfrm>
            <a:off x="433440" y="1162080"/>
            <a:ext cx="3567240" cy="2674800"/>
          </a:xfrm>
          <a:prstGeom prst="rect">
            <a:avLst/>
          </a:prstGeom>
          <a:ln w="0">
            <a:noFill/>
          </a:ln>
        </p:spPr>
      </p:pic>
      <p:pic>
        <p:nvPicPr>
          <p:cNvPr id="813" name="Рисунок 4" descr=""/>
          <p:cNvPicPr/>
          <p:nvPr/>
        </p:nvPicPr>
        <p:blipFill>
          <a:blip r:embed="rId2"/>
          <a:stretch/>
        </p:blipFill>
        <p:spPr>
          <a:xfrm>
            <a:off x="4102200" y="3683160"/>
            <a:ext cx="3963960" cy="2641320"/>
          </a:xfrm>
          <a:prstGeom prst="rect">
            <a:avLst/>
          </a:prstGeom>
          <a:ln w="0">
            <a:noFill/>
          </a:ln>
        </p:spPr>
      </p:pic>
      <p:pic>
        <p:nvPicPr>
          <p:cNvPr id="814" name="Рисунок 5" descr=""/>
          <p:cNvPicPr/>
          <p:nvPr/>
        </p:nvPicPr>
        <p:blipFill>
          <a:blip r:embed="rId3"/>
          <a:stretch/>
        </p:blipFill>
        <p:spPr>
          <a:xfrm>
            <a:off x="8167680" y="1162080"/>
            <a:ext cx="36608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103633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ЫТЫ С МАГНИТОМ И ПЕСКОМ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6" name="Объект 3" descr=""/>
          <p:cNvPicPr/>
          <p:nvPr/>
        </p:nvPicPr>
        <p:blipFill>
          <a:blip r:embed="rId1"/>
          <a:stretch/>
        </p:blipFill>
        <p:spPr>
          <a:xfrm>
            <a:off x="557280" y="787320"/>
            <a:ext cx="3476520" cy="2606760"/>
          </a:xfrm>
          <a:prstGeom prst="rect">
            <a:avLst/>
          </a:prstGeom>
          <a:ln w="0">
            <a:noFill/>
          </a:ln>
        </p:spPr>
      </p:pic>
      <p:pic>
        <p:nvPicPr>
          <p:cNvPr id="817" name="Рисунок 4" descr=""/>
          <p:cNvPicPr/>
          <p:nvPr/>
        </p:nvPicPr>
        <p:blipFill>
          <a:blip r:embed="rId2"/>
          <a:stretch/>
        </p:blipFill>
        <p:spPr>
          <a:xfrm>
            <a:off x="4389480" y="78732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818" name="Рисунок 5" descr=""/>
          <p:cNvPicPr/>
          <p:nvPr/>
        </p:nvPicPr>
        <p:blipFill>
          <a:blip r:embed="rId3"/>
          <a:stretch/>
        </p:blipFill>
        <p:spPr>
          <a:xfrm>
            <a:off x="8226360" y="787320"/>
            <a:ext cx="3638520" cy="2606760"/>
          </a:xfrm>
          <a:prstGeom prst="rect">
            <a:avLst/>
          </a:prstGeom>
          <a:ln w="0">
            <a:noFill/>
          </a:ln>
        </p:spPr>
      </p:pic>
      <p:pic>
        <p:nvPicPr>
          <p:cNvPr id="819" name="Рисунок 6" descr=""/>
          <p:cNvPicPr/>
          <p:nvPr/>
        </p:nvPicPr>
        <p:blipFill>
          <a:blip r:embed="rId4"/>
          <a:stretch/>
        </p:blipFill>
        <p:spPr>
          <a:xfrm>
            <a:off x="3462480" y="3630600"/>
            <a:ext cx="53337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-290880"/>
            <a:ext cx="1036332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 В ВЕСЕННИЙ ПЕРИО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1" name="Объект 3" descr=""/>
          <p:cNvPicPr/>
          <p:nvPr/>
        </p:nvPicPr>
        <p:blipFill>
          <a:blip r:embed="rId1"/>
          <a:stretch/>
        </p:blipFill>
        <p:spPr>
          <a:xfrm>
            <a:off x="530280" y="773280"/>
            <a:ext cx="3611520" cy="2709720"/>
          </a:xfrm>
          <a:prstGeom prst="rect">
            <a:avLst/>
          </a:prstGeom>
          <a:ln w="0">
            <a:noFill/>
          </a:ln>
        </p:spPr>
      </p:pic>
      <p:pic>
        <p:nvPicPr>
          <p:cNvPr id="822" name="Рисунок 4" descr=""/>
          <p:cNvPicPr/>
          <p:nvPr/>
        </p:nvPicPr>
        <p:blipFill>
          <a:blip r:embed="rId2"/>
          <a:stretch/>
        </p:blipFill>
        <p:spPr>
          <a:xfrm>
            <a:off x="4807080" y="773280"/>
            <a:ext cx="3879720" cy="2709720"/>
          </a:xfrm>
          <a:prstGeom prst="rect">
            <a:avLst/>
          </a:prstGeom>
          <a:ln w="0">
            <a:noFill/>
          </a:ln>
        </p:spPr>
      </p:pic>
      <p:pic>
        <p:nvPicPr>
          <p:cNvPr id="823" name="Рисунок 5" descr=""/>
          <p:cNvPicPr/>
          <p:nvPr/>
        </p:nvPicPr>
        <p:blipFill>
          <a:blip r:embed="rId3"/>
          <a:stretch/>
        </p:blipFill>
        <p:spPr>
          <a:xfrm>
            <a:off x="530280" y="3851280"/>
            <a:ext cx="3611520" cy="25351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6" descr=""/>
          <p:cNvPicPr/>
          <p:nvPr/>
        </p:nvPicPr>
        <p:blipFill>
          <a:blip r:embed="rId4"/>
          <a:stretch/>
        </p:blipFill>
        <p:spPr>
          <a:xfrm>
            <a:off x="4903920" y="3851280"/>
            <a:ext cx="3782880" cy="253512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7" descr=""/>
          <p:cNvPicPr/>
          <p:nvPr/>
        </p:nvPicPr>
        <p:blipFill>
          <a:blip r:embed="rId5"/>
          <a:stretch/>
        </p:blipFill>
        <p:spPr>
          <a:xfrm>
            <a:off x="8802720" y="22636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3880" y="2901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4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400040" y="1177560"/>
            <a:ext cx="92678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ИССЛЕДОВАТЕЛЬСКАЯ ДЕЯТЕЛЬНОСТЬ ВЫЗЫВАЕТ ОГРОМНЫЙ ИНТЕРЕС У ДЕТЕЙ. ИССЛЕДОВАНИЯ ПРЕДОСТАВЛЯЮТ РЕБЕНКУ ВОЗМОЖНОСТЬ САМОМУ НАЙТИ ОТВЕТЫ НА ВОПРОС «КАК?» И «ПОЧЕМУ?». НА ПРОТЯЖЕНИИ ВСЕГО ДОШКОЛЬНОГО ДЕТСТВА, НАРЯДУ С ИГРОВОЙ ДЕЯТЕЛЬНОСТЬЮ, ОГРОМНОЕ ЗНАЧЕНИЕ В РАЗВИТИИ ЛИЧНОСТИ РЕБЕНКА, В ПРОЦЕССАХ СОЦИАЛИЗАЦИИ ИМЕЕТ ПОЗНАВАТЕЛЬНАЯ ДЕЯТЕЛЬНОСТЬ, КОТОРАЯ НАМИ ПОНИМАЕТСЯ НЕ ТОЛЬКО КАК ПРОЦЕСС УСВОЕНИЯ ЗНАНИЙ, УМЕНИЙ И НАВЫКОВ, А ГЛАВНЫМ ОБРАЗОМ КАК ПОИСК ЗНАНИЙ САМОСТОЯТЕЛЬНО ИЛИ ПОД ТАКТИЧНЫМ РУКОВОДСТВОМ ВЗРОСЛОГО, ОСУЩЕСТВЛЯЕМОГО В ПРОЦЕССЕ ГУМАНИСТИЧЕСКОГО ВЗАИМОДЕЙСТВИЯ, СОТРУДНИЧЕСТВА, СОТВОРЧЕСТВ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РЕБЕНОК ПОЗНАЕТ ОБЪЕКТ В ХОДЕ ПРАКТИЧЕСКОЙ ДЕЯТЕЛЬНОСТИ С НИМ. КИТАЙСКАЯ ПОСЛОВИЦА ГЛАСИТ: «РАССКАЖИ – И Я ЗАБУДУ, ПОКАЖИ – И Я ЗАПОМНЮ, ДАЙ ПОПРОБОВАТЬ – Я ПОЙМУ». УСВАИВАЕТСЯ ВСЕ ПРОЧНО И НАДОЛГО, КОГДА РЕБЕНОК СЛЫШИТ, ВИДИТ И ДЕЛАЕТ САМ. УДОВЛЕТВОРЯЯ СВОЮ ЛЮБОЗНАТЕЛЬНОСТЬ В ПРОЦЕССЕ АКТИВНОЙ ПОЗНАВАТЕЛЬНО – ИССЛЕДОВАТЕЛЬСКОЙ ДЕЯТЕЛЬНОСТИ, КОТОРАЯ В ЕСТЕСТВЕННОЙ ФОРМЕ ПРОЯВЛЯЕТСЯ В ВИДЕ ДЕТСКОГО ЭКСПЕРИМЕНТИРОВАНИЯ, РЕБЕНОК С ОДНОЙ СТОРОНЫ РАСШИРЯЕТ ПРЕДСТАВЛЕНИЯ О МИРЕ, С ДРУГОЙ – НАЧИНАЕТ ОВЛАДЕВАТЬ ОСНОВОПОЛАГАЮЩИМИ КУЛЬТУРНЫМИ ФОРМАМИ УПОРЯДОЧЕНИЯ ОПЫТА: ПРИЧИННО – СЛЕДСТВЕННЫМИ, ПРОСТРАНСТВЕННЫМИ И ВРЕМЕННЫМИ ОТНОШЕНИЯМИ, ПОЗВОЛЯЮЩИМИ СВЯЗАТЬ ОТДЕЛЬНЫЕ ПРЕДСТАВЛЕНИЯ В ЦЕЛОСТНУЮ КАРТИНУ МИР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814400" y="304920"/>
            <a:ext cx="8715600" cy="568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 ДОЛГОСРОЧНЫЙ; ПОИСКОВО-ИССЛЕДОВАТЕЛЬСКИЙ.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 ПРОЕКТА: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ТЕЛЬСКИЙ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ОК РЕАЛИЗАЦИИ: ОДИН ГОД</a:t>
            </a:r>
            <a:br>
              <a:rPr sz="29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БЛЕМА: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ТАКИЕ ИССЛЕДОВАТЕЛИ?</a:t>
            </a:r>
            <a:br>
              <a:rPr sz="28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рямоугольник 1"/>
          <p:cNvSpPr/>
          <p:nvPr/>
        </p:nvSpPr>
        <p:spPr>
          <a:xfrm>
            <a:off x="728640" y="271440"/>
            <a:ext cx="1048716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ое внедрение детского экспериментирования как средства развития познавательной активност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ширять представления детей об окружающем мире через знакомство с основными физическими свойствами и явлениями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Развивать связную речь детей: побуждать рассуждать, аргументировать, пользоваться речью - доказательством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еспечивать переход от предметно-практического действия к образно-символическому (схематизация, символизация связей и отношений между предметами и явлениями окружающего мира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Развивать наблюдательность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Воспитывать интерес детей к экспериментальной деятельности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Воспитывать такие качества как эмпатия, желание помочь другим, умение договариваться друг с другом для решения общих задач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23508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Ы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2" name="Подзаголовок 2" descr=""/>
          <p:cNvPicPr/>
          <p:nvPr/>
        </p:nvPicPr>
        <p:blipFill>
          <a:blip r:embed="rId1"/>
          <a:stretch/>
        </p:blipFill>
        <p:spPr>
          <a:xfrm>
            <a:off x="1311120" y="1517760"/>
            <a:ext cx="79790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3880" y="4712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703520" y="1454040"/>
            <a:ext cx="9477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АЯ ДЕЯТЕЛЬНОСТЬ ВОСПИТАТЕЛЯ С ДЕТЬМИ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АЯ ДЕЯТЕЛЬНОСТЬ ДЕТЕЙ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ОНТАЛЬНЫЕ ЗАНЯТИЯ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ТОРИН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ЕНИЯ В ПРИРОДЕ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АТРИВАНИЕ АЛЬБОМОВ, ПОЗНАВАТЕЛЬНОЙ ЛИТЕРАТУРЫ И ФОТОГРАФИЙ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ЕДЫ ПО ТЕМЕ ЭКСПЕРИМЕНТ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-6858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ЕВЫЕ ПРОГУЛК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8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АБОТЫ НАД ПРОЕКТО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011240" y="568080"/>
            <a:ext cx="1118088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ГОТОВИТЕЛЬНЫ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ТИВАЦИЯ ДЕТЕ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ЦЕЛИ И ЗАДАЧ ПРОЕКТ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ИМЕЮЩИХСЯ УСЛОВИЙ В ГРУППЕ, ДЕТСКОМ САДУ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КА КОМПЛЕКСНО - ТЕМАТИЧЕСКОГО ПЛАНА РАБОТЫ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БОР НАГЛЯДНО-ДИДАКТИЧЕСКИХ ПОСОБИЙ, ДЕМОНСТРАЦИОННОГО МАТЕРИАЛА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САМОСТОЯТЕЛЬНОЙ ДЕЯТЕЛЬНОСТИ ДЕТЕЙ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ЦЕНТРА ЭКСПЕРИМЕНТАЛЬНО-ПОИСКОВОЙ ДЕЯТЕЛЬНОСТИ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ОБРАЗОВАТЕЛЬНОГО ЭКСПЕРИМЕНТАЛЬНО-ПОИСКОВОГО ПРОСТРАНСТВА В ГРУППЕ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 ЭТАП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НОВНО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РАБОТЫ С ДЕТЬМИ ПО ЭКСПЕРИМЕНТАЛЬНОЙ ДЕЯТЕЛЬНОСТИ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АЯ ПРАКТИЧЕСКАЯ ДЕЯТЕЛЬНОСТЬ ДЕТЕЙ ПО ПРОЕКТУ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ЕНИЕ РОДИТЕЛЕЙ В ЭКСПЕРИМЕНТАЛЬНУЮ ДЕЯТЕЛЬНОСТЬ ДЕТЕ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 ЭТАП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КЛЮЧИТЕЛЬНЫ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И ОБОБЩЕНИЕ РЕЗУЛЬТАТОВ, ПОЛУЧЕННЫХ В ПРОЦЕССЕ ПОЗНАВАТЕЛЬНО- ИССЛЕДОВАТЕЛЬСКОЙ ДЕЯТЕЛЬНОСТИ ДЕТЕЙ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КВН «МЫ - ЭКСПЕРИМЕНТАТОРЫ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Прямоугольник 1"/>
          <p:cNvSpPr/>
          <p:nvPr/>
        </p:nvSpPr>
        <p:spPr>
          <a:xfrm>
            <a:off x="2494080" y="401760"/>
            <a:ext cx="732924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полагаемые результаты: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своение детьми знаний, представлений об окружающем мире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Создание единого инновационного пространства;          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Чёткое выполнение поставленной задачи;                                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вышение уровня мотивации к экспериментированию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Прямоугольник 1"/>
          <p:cNvSpPr/>
          <p:nvPr/>
        </p:nvSpPr>
        <p:spPr>
          <a:xfrm>
            <a:off x="1039680" y="401760"/>
            <a:ext cx="103903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бота с родителями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Анкетирование родителе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онсультации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оль семьи в развитии поисково-исследовательской активности ребенка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рганизация детского экспериментирования в домашних условиях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аучите ребенка любить живую природу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Значение экспериментальной деятельности для детей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Экспериментируем дома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знакомление родителей с экспериментальным уголком в ДОУ (подбор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ов и помощь в оформлении лаборатории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аглядная информация: подборка иллюстраций, картин; сбор информации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оздание совместных с детьми альбомов по проведению опытов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4492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бмен опытом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3T07:22:54Z</dcterms:created>
  <dc:creator>User15</dc:creator>
  <dc:description/>
  <dc:language>en-US</dc:language>
  <cp:lastModifiedBy>MAXA</cp:lastModifiedBy>
  <dcterms:modified xsi:type="dcterms:W3CDTF">2019-12-11T22:34:31Z</dcterms:modified>
  <cp:revision>14</cp:revision>
  <dc:subject/>
  <dc:title>Презентация PowerPoint</dc:title>
</cp:coreProperties>
</file>