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447D-D5DF-4F2D-97BF-A41B8FC47B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mdou18.edu.yar.ru/kolonka_dlya_roditeley.html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ЧЕГО НУЖНО УХАЖИВАТЬ ЗА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УБ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dou18.edu.yar.ru/kolonka_dlya_roditele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EB4-AC8D-4D43-B1D2-5FD5D2683D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E39-DD5A-44A2-8B0A-18214EFE54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97B8-70D4-411D-B7E8-5A28667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AEF1-A736-4B8D-BD42-BA876A6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C0F2-6D55-423C-9E3B-B74F8F36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BA92-E356-482D-87F0-28720C2A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C36-ED9E-41F7-9881-E6796352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A12-13B0-4A83-BD91-6BD64DE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7E6-9D96-424F-906A-2DF2B58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8BAF-4F6A-4B58-BF68-8A1141A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8312-2E4A-4683-BF2A-11319C9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4FD0-F174-42BC-931D-EBFE1DF8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A67-45E0-47B1-B554-619800C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2CFC-D973-4AD7-9046-2E40687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152C-2401-4438-A597-9E6779B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610-A40D-43ED-9FE5-43E429B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708-EB65-4CDF-B842-6DDA282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663-AD4A-4F8B-8B82-831166DD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5625-A84C-4DA8-84EA-B00C7BF0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AC01-4C3D-4308-BB8E-FF8281A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A712-38BD-4E0A-A89F-C6086A1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CC40-7660-4F25-AC7C-B1E5C279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59E8-11AA-4C26-8C96-2EBB9A3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3626-790D-4CAB-B8FD-B88169F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5FC9-863A-4098-BC30-0743179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7BC7-E3EE-418D-B8D9-6705931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2b26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c3045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A13-CE19-48E0-8AAD-1A758DB0C4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2b26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c3045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A12-BF01-43BD-914E-67E464F0E7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fdfbe3"/>
                </a:solidFill>
                <a:latin typeface="Tahoma"/>
              </a:rPr>
              <a:t>МБДОУ детский сад №9 «Золотой ключик»</a:t>
            </a:r>
            <a:br>
              <a:rPr sz="2000"/>
            </a:br>
            <a:r>
              <a:rPr b="0" lang="ru-RU" sz="2000" spc="-1" strike="noStrike">
                <a:solidFill>
                  <a:srgbClr val="fdfbe3"/>
                </a:solidFill>
                <a:latin typeface="Tahoma"/>
              </a:rPr>
              <a:t>                                  </a:t>
            </a:r>
            <a:r>
              <a:rPr b="0" lang="ru-RU" sz="2000" spc="-1" strike="noStrike">
                <a:solidFill>
                  <a:srgbClr val="fdfbe3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dfbe3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«Здоровые зубы – здоровью любы»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257440" y="4114800"/>
            <a:ext cx="3886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спитатель: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Шалыгина М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41972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Развивающая среда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3" name="Picture 7" descr="C:\Users\Света\Desktop\зубы\PA180246.JPG"/>
          <p:cNvPicPr/>
          <p:nvPr/>
        </p:nvPicPr>
        <p:blipFill>
          <a:blip r:embed="rId1"/>
          <a:stretch/>
        </p:blipFill>
        <p:spPr>
          <a:xfrm>
            <a:off x="6094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Творческая мастерская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6" name="Picture 6" descr="C:\Users\пользователь\Desktop\проект зубы\20190405_110006.jpg"/>
          <p:cNvPicPr/>
          <p:nvPr/>
        </p:nvPicPr>
        <p:blipFill>
          <a:blip r:embed="rId1"/>
          <a:stretch/>
        </p:blipFill>
        <p:spPr>
          <a:xfrm>
            <a:off x="762120" y="1600200"/>
            <a:ext cx="7837200" cy="440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:\Users\пользователь\Desktop\проект зубы\20190405_110440.jpg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492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C:\Users\пользователь\Desktop\IMG-7a1b30f62684e385f88376a7c9164298-V.jpg"/>
          <p:cNvPicPr/>
          <p:nvPr/>
        </p:nvPicPr>
        <p:blipFill>
          <a:blip r:embed="rId1"/>
          <a:stretch/>
        </p:blipFill>
        <p:spPr>
          <a:xfrm>
            <a:off x="4937040" y="609480"/>
            <a:ext cx="4054680" cy="563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пользователь\Desktop\IMG-6ae8b89055d9189665a207781e52a092-V.jpg"/>
          <p:cNvPicPr/>
          <p:nvPr/>
        </p:nvPicPr>
        <p:blipFill>
          <a:blip r:embed="rId2"/>
          <a:stretch/>
        </p:blipFill>
        <p:spPr>
          <a:xfrm>
            <a:off x="568440" y="609480"/>
            <a:ext cx="3546360" cy="563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dfbe3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dfbe3"/>
                </a:solidFill>
                <a:latin typeface="Tahoma"/>
              </a:rPr>
              <a:t>Вывод </a:t>
            </a:r>
            <a:br>
              <a:rPr sz="2800"/>
            </a:br>
            <a:r>
              <a:rPr b="1" i="1" lang="ru-RU" sz="2800" spc="-1" strike="noStrike">
                <a:solidFill>
                  <a:srgbClr val="fdfbe3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dfbe3"/>
                </a:solidFill>
                <a:latin typeface="Tahoma"/>
              </a:rPr>
              <a:t>    </a:t>
            </a:r>
            <a:br>
              <a:rPr sz="2800"/>
            </a:br>
            <a:r>
              <a:rPr b="0" lang="ru-RU" sz="3200" spc="-1" strike="noStrike">
                <a:solidFill>
                  <a:srgbClr val="fdfbe3"/>
                </a:solidFill>
                <a:latin typeface="Tahoma"/>
              </a:rPr>
              <a:t>     Начинать процесс «зубосберегания» лучше с молочных зубов. Рано воспитанная привычка чистить зубы, становится для ребенка естественной, и поможет ему сберечь здоровье коренных зубов. </a:t>
            </a:r>
            <a:r>
              <a:rPr b="1" i="1" lang="ru-RU" sz="3200" spc="-1" strike="noStrike">
                <a:solidFill>
                  <a:srgbClr val="fdfbe3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dfbe3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dfbe3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Паспорт проекта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ид проект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 практически-ориентирова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должительность проект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осроч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стники проект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редней группы, воспитатели группы, роди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ок реализации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мар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ы быть здоровыми, нужно овладеть искусством его сохранения и укреп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ополагающий вопрос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адо ли  ухаживать за молочными зуба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блемный вопрос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удет если не чистить зуб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удет если не посещать врача стоматолог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1066680"/>
            <a:ext cx="4876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ть детям сведения, необходимые для укрепления здоровья, выработать на основе этих знаний необходимые гигиенические навыки и привычки, которые нужны для жизн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Задачи.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ять знания детей о гигиене полости р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ь правильно и последовательно чистить зубы, пользоваться зубной щет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ывать доброжелательное отношение к посещению врача стоматологического кабин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ывать у детей бережное отношение        к своему здоров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у родителей представлений о здоровом образе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Ожидаемые результаты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62160" y="15998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знание детьми понятия «здоровье» и влияние образа жизни на состояние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адение навыками и умениями чистить зубы..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у детей представлений о необходимости чистить зу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Содержание проекта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дготовительный эта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копление материала по теме про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иллюстраций по 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а дидактических иг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а консультаций для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стихов, загадок, пословиц и погово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авку зубных принадлеж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Основной этап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60"/>
                </a:solidFill>
                <a:latin typeface="Tahoma"/>
              </a:rPr>
              <a:t>Работа с деть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атривание иллюстр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дактические 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учивание пословиц, стихов, загад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произведений по те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альбомов детских работ «Здоровые зубы - здоровью любы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c460"/>
                </a:solidFill>
                <a:latin typeface="Tahoma"/>
              </a:rPr>
              <a:t>Работа с роди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лечение родителей к оформлению уголка  зубных принадлеж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я «Как защитить детские зубы от кариес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ка «Содержите в чистоте зубную щетку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ahoma"/>
              </a:rPr>
              <a:t>Заключительный этап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выставки зубных принадлеж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«Королева зубная щет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пользователь</cp:lastModifiedBy>
  <dcterms:modified xsi:type="dcterms:W3CDTF">2019-12-12T15:37:4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