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E92E-9981-4C38-8810-F586BA576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B8B0-55E7-4302-8930-5C91585D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F821-D96B-4C74-8442-C98C0494E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E9BD-6F61-4A4E-962E-562E89F2B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3B84-4648-4A08-B125-1759965A3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5D77-CB2E-4F6C-8344-A54B249C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50412-6FC1-481B-BD99-D073C828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7FFE-FC0F-4C51-A78D-F63656DC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1F21-DCDD-4572-8BCD-5D21E7E0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427B-85AE-4D84-93B6-39ADAC8F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E87F-4108-477C-9610-1862734A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6FF8-B04F-401E-BCE1-669805C1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AB4B-038F-4000-AD19-E6848B06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D679-60E1-4345-B25F-E9DF8220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8AAD-05A7-46D0-9125-0054696B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42D9-61A3-419F-837E-5435AC0AC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432C2-09E3-4EDA-A41E-765B903F0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51557-5B18-4811-89E3-B5C1BE280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EF2A3-C7CF-4E29-B910-D7865AD5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1AC97-8EAD-4371-BCE0-D4FAC65C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86121-80A5-447C-866F-DD7997FD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16EE2-C331-4E9C-8084-7EACDCE2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9473-2E2E-48B6-A1A6-604FC548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FE2C9-8F40-4270-9F4B-66D2BBCD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57287-7EC0-4085-9F59-8BF36549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E4C3D-4FAD-4C00-8BDB-E62399B1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35EBE-9766-4620-9EE6-7B9B258E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6896B-257B-43E2-8959-337FA9AD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50BA7-07A6-4A99-A4E9-DECA277FF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825D9-4AFE-454D-B8C6-793F9B7A3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3B856-975A-4A58-97C3-28D538710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D0BAF-34F5-4150-B0AD-704E4423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CAC83-95C2-4DDF-8E38-71B6BB1F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B1F3-7E3F-4659-A36C-7851CC8B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C878E-532F-4BE0-9370-034B98DA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0AC53-946C-4C4B-9EA9-6BF38B90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7AFE3-ABDA-46DA-8E0A-2C3B5356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EBBBD-301C-4354-AB12-9DBBD091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31D82-6896-4E67-99E3-55559873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BDEC3-9719-417C-B332-44220409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49F37-B233-4274-B763-87C4C46B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A3285-4C82-4D69-992A-20779E7E1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FC063-51CB-48E7-B81F-0B0993569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C6C09-2DB9-4068-8A97-03AEFFE59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5C28-723A-4227-990B-6787A549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4C97D-FA73-46F5-AD4C-00AE8001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0EE58-9EEE-41AE-9625-7F4217FE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45783-7F51-40FE-8A6B-16187180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8F7B2-7292-4E96-838D-1B53611F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BA484-C0E2-4916-A31B-7788FCC5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C24C7-5732-4831-895E-AFFC0293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870AD-2748-4706-955E-A165FBEA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8C737-D519-4DA3-B780-8B422B12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992F8-75AA-4203-990F-122FFD46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BFE60-9527-43F3-BCC0-1182554CC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9215-61B0-4BBC-960A-A0DBD578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5F892-3D4B-4B9C-9E11-F71C738DE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9C5F7A-8EDC-418E-B0FE-342F5F05C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B1FA3D-4495-4EE8-80E5-0C994132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F7B932-4E91-4942-A6CF-6CA01C93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82D52B-3965-4A91-B9EA-6519CD0B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8BC695-7845-4696-96D6-A217ACD5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EF0798-FB61-43A6-BB4D-69685B7C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F3F4ED-A4C1-48E2-9560-EC6BFD7B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1853EF-3AB0-4B53-B487-25D9B238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20F532-9097-4C6C-B6C4-0770A0B1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DE32-0ED2-47B4-98B2-03571B0F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5A86A8-CDCE-41A0-A365-E84EDE15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61D7A1-7CDC-4F37-9BAC-99825CDA0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C49695-D41F-43C5-8B68-75D29B5F2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258BC-85BE-425E-B8C2-1DD393D57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9E94D-3311-448B-A060-F0A346D3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B2F4D-44D3-4DC6-BC5F-1DF669C6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C2D77-F120-4A72-846F-F0A015DC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A1E05-BC1A-4EEB-85AE-7C43C52D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F26BE-C430-4B4E-B8A9-6912DF47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867E7-D045-4C66-AE83-41DCAFD9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A209-3F1B-4FC8-9D32-1F1C25E1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191A3-AE3F-4D61-BEEC-AB32A372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A8C38-C32B-434A-9135-8E80A928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DF74B-F1DD-4A67-B69B-9C7975C8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4F28A-FA0D-4CBE-8C40-459CE9AFD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330ED-66DA-4B8C-96D3-490A18E61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0B48-7B43-43DA-BAE7-9BE6BBFD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9634-9A96-4E21-92F3-A494F132D50C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3D2B-2DE1-4D7B-BFF4-7C16F0ABE81C}" type="slidenum">
              <a:rPr b="0" lang="ru-RU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27D2-F0A5-4C91-B197-65D0411C52E9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3BF0-1876-42A0-9A6E-127E5BEA0A46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15F5-D3B2-497C-A7C0-A0079A832443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C661-8D32-4F8F-A69D-35B114D7A865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8197-0D29-4431-9D4B-4BFAC233D553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9" descr="1470_2_big"/>
          <p:cNvPicPr/>
          <p:nvPr/>
        </p:nvPicPr>
        <p:blipFill>
          <a:blip r:embed="rId1"/>
          <a:stretch/>
        </p:blipFill>
        <p:spPr>
          <a:xfrm>
            <a:off x="108000" y="3441600"/>
            <a:ext cx="3024000" cy="33116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1" descr="724237_loshad-rospis"/>
          <p:cNvPicPr/>
          <p:nvPr/>
        </p:nvPicPr>
        <p:blipFill>
          <a:blip r:embed="rId2"/>
          <a:stretch/>
        </p:blipFill>
        <p:spPr>
          <a:xfrm>
            <a:off x="108000" y="843120"/>
            <a:ext cx="3024000" cy="28018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3" descr="givotnie-119_b"/>
          <p:cNvPicPr/>
          <p:nvPr/>
        </p:nvPicPr>
        <p:blipFill>
          <a:blip r:embed="rId3"/>
          <a:stretch/>
        </p:blipFill>
        <p:spPr>
          <a:xfrm>
            <a:off x="6072120" y="620640"/>
            <a:ext cx="2928960" cy="28083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5" descr="image007"/>
          <p:cNvPicPr/>
          <p:nvPr/>
        </p:nvPicPr>
        <p:blipFill>
          <a:blip r:embed="rId4"/>
          <a:stretch/>
        </p:blipFill>
        <p:spPr>
          <a:xfrm>
            <a:off x="3135240" y="1546200"/>
            <a:ext cx="2976480" cy="37893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7" descr="116_10"/>
          <p:cNvPicPr/>
          <p:nvPr/>
        </p:nvPicPr>
        <p:blipFill>
          <a:blip r:embed="rId5"/>
          <a:stretch/>
        </p:blipFill>
        <p:spPr>
          <a:xfrm>
            <a:off x="6072120" y="3284640"/>
            <a:ext cx="3060720" cy="3587760"/>
          </a:xfrm>
          <a:prstGeom prst="rect">
            <a:avLst/>
          </a:prstGeom>
          <a:ln w="0">
            <a:noFill/>
          </a:ln>
        </p:spPr>
      </p:pic>
      <p:sp>
        <p:nvSpPr>
          <p:cNvPr id="336" name="Прямоугольник 1"/>
          <p:cNvSpPr/>
          <p:nvPr/>
        </p:nvSpPr>
        <p:spPr>
          <a:xfrm>
            <a:off x="179280" y="44280"/>
            <a:ext cx="88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В древности фигурка коня оберегала от таинственных злых сил. Конь – это символ солнца, огня, света и тепл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Прямоугольник 3" descr=""/>
          <p:cNvPicPr/>
          <p:nvPr/>
        </p:nvPicPr>
        <p:blipFill>
          <a:blip r:embed="rId6"/>
          <a:stretch/>
        </p:blipFill>
        <p:spPr>
          <a:xfrm>
            <a:off x="2378160" y="5334120"/>
            <a:ext cx="4486320" cy="160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468360" y="260280"/>
            <a:ext cx="842472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Century Gothic"/>
              </a:rPr>
              <a:t>Из каких элементов состоит узор ?</a:t>
            </a:r>
            <a:r>
              <a:rPr b="1" i="1" lang="ru-RU" sz="2000" spc="-1" strike="noStrike">
                <a:solidFill>
                  <a:srgbClr val="00ff00"/>
                </a:solidFill>
                <a:latin typeface="Century Gothic"/>
              </a:rPr>
              <a:t> </a:t>
            </a:r>
            <a:r>
              <a:rPr b="1" i="1" lang="ru-RU" sz="2000" spc="-1" strike="noStrike">
                <a:solidFill>
                  <a:srgbClr val="7f7f7f"/>
                </a:solidFill>
                <a:latin typeface="Century Gothic"/>
              </a:rPr>
              <a:t>(Круги , волны , точки)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Century Gothic"/>
              </a:rPr>
              <a:t>Какие цвета используют мастера Дымково? </a:t>
            </a:r>
            <a:r>
              <a:rPr b="1" i="1" lang="ru-RU" sz="2000" spc="-1" strike="noStrike">
                <a:solidFill>
                  <a:srgbClr val="ff0000"/>
                </a:solidFill>
                <a:latin typeface="Century Gothic"/>
              </a:rPr>
              <a:t>(Красный,</a:t>
            </a:r>
            <a:r>
              <a:rPr b="1" i="1" lang="ru-RU" sz="2000" spc="-1" strike="noStrike">
                <a:solidFill>
                  <a:srgbClr val="00ff00"/>
                </a:solidFill>
                <a:latin typeface="Century Gothic"/>
              </a:rPr>
              <a:t> </a:t>
            </a:r>
            <a:r>
              <a:rPr b="1" i="1" lang="ru-RU" sz="2000" spc="-1" strike="noStrike">
                <a:solidFill>
                  <a:srgbClr val="0033cc"/>
                </a:solidFill>
                <a:latin typeface="Century Gothic"/>
              </a:rPr>
              <a:t>синий,</a:t>
            </a:r>
            <a:r>
              <a:rPr b="1" i="1" lang="ru-RU" sz="2000" spc="-1" strike="noStrike">
                <a:solidFill>
                  <a:srgbClr val="00ff00"/>
                </a:solidFill>
                <a:latin typeface="Century Gothic"/>
              </a:rPr>
              <a:t> </a:t>
            </a:r>
            <a:r>
              <a:rPr b="1" i="1" lang="ru-RU" sz="2000" spc="-1" strike="noStrike">
                <a:solidFill>
                  <a:srgbClr val="009900"/>
                </a:solidFill>
                <a:latin typeface="Century Gothic"/>
              </a:rPr>
              <a:t>зеленый,</a:t>
            </a:r>
            <a:r>
              <a:rPr b="1" i="1" lang="ru-RU" sz="2000" spc="-1" strike="noStrike">
                <a:solidFill>
                  <a:srgbClr val="00ff00"/>
                </a:solidFill>
                <a:latin typeface="Century Gothic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Century Gothic"/>
              </a:rPr>
              <a:t>желтый,</a:t>
            </a:r>
            <a:r>
              <a:rPr b="1" i="1" lang="ru-RU" sz="2000" spc="-1" strike="noStrike">
                <a:solidFill>
                  <a:srgbClr val="00ff00"/>
                </a:solidFill>
                <a:latin typeface="Century Gothic"/>
              </a:rPr>
              <a:t> </a:t>
            </a:r>
            <a:r>
              <a:rPr b="1" i="1" lang="ru-RU" sz="2000" spc="-1" strike="noStrike">
                <a:solidFill>
                  <a:srgbClr val="ff9900"/>
                </a:solidFill>
                <a:latin typeface="Century Gothic"/>
              </a:rPr>
              <a:t>оранжевый,</a:t>
            </a:r>
            <a:r>
              <a:rPr b="1" i="1" lang="ru-RU" sz="2000" spc="-1" strike="noStrike">
                <a:solidFill>
                  <a:srgbClr val="00ff00"/>
                </a:solidFill>
                <a:latin typeface="Century Gothic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entury Gothic"/>
              </a:rPr>
              <a:t>черный)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Century Gothic"/>
              </a:rPr>
              <a:t>Какие части мы закрасим полностью </a:t>
            </a:r>
            <a:r>
              <a:rPr b="1" lang="ru-RU" sz="2000" spc="-1" strike="noStrike">
                <a:solidFill>
                  <a:srgbClr val="7f7f7f"/>
                </a:solidFill>
                <a:latin typeface="Century Gothic"/>
              </a:rPr>
              <a:t>?( Хвост. Гриву. Копыта. Уши)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Century Gothic"/>
              </a:rPr>
              <a:t>А как расположены узоры на фигурке </a:t>
            </a:r>
            <a:r>
              <a:rPr b="1" lang="ru-RU" sz="2000" spc="-1" strike="noStrike">
                <a:solidFill>
                  <a:srgbClr val="7f7f7f"/>
                </a:solidFill>
                <a:latin typeface="Century Gothic"/>
              </a:rPr>
              <a:t>?</a:t>
            </a:r>
            <a:r>
              <a:rPr b="1" i="1" lang="ru-RU" sz="2000" spc="-1" strike="noStrike">
                <a:solidFill>
                  <a:srgbClr val="7f7f7f"/>
                </a:solidFill>
                <a:latin typeface="Century Gothic"/>
              </a:rPr>
              <a:t>(Вдоль ног, шеи, туловища)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39" name="Picture 6" descr="givotnie-110_b"/>
          <p:cNvPicPr/>
          <p:nvPr/>
        </p:nvPicPr>
        <p:blipFill>
          <a:blip r:embed="rId1"/>
          <a:stretch/>
        </p:blipFill>
        <p:spPr>
          <a:xfrm>
            <a:off x="4932360" y="2755800"/>
            <a:ext cx="4103640" cy="393876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  <p:pic>
        <p:nvPicPr>
          <p:cNvPr id="340" name="Picture 7" descr="1806594-dymkovskaya-loshadka-iz-solenogo-testa-836"/>
          <p:cNvPicPr/>
          <p:nvPr/>
        </p:nvPicPr>
        <p:blipFill>
          <a:blip r:embed="rId2"/>
          <a:stretch/>
        </p:blipFill>
        <p:spPr>
          <a:xfrm>
            <a:off x="-7920" y="2852640"/>
            <a:ext cx="4075200" cy="390996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42" name="Picture 3" descr="Без имени-15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4" descr="IMG"/>
          <p:cNvPicPr/>
          <p:nvPr/>
        </p:nvPicPr>
        <p:blipFill>
          <a:blip r:embed="rId1"/>
          <a:stretch/>
        </p:blipFill>
        <p:spPr>
          <a:xfrm>
            <a:off x="250920" y="765000"/>
            <a:ext cx="4298760" cy="53676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5" descr="IMG_0001"/>
          <p:cNvPicPr/>
          <p:nvPr/>
        </p:nvPicPr>
        <p:blipFill>
          <a:blip r:embed="rId2"/>
          <a:stretch/>
        </p:blipFill>
        <p:spPr>
          <a:xfrm>
            <a:off x="4572000" y="692280"/>
            <a:ext cx="4218120" cy="5198760"/>
          </a:xfrm>
          <a:prstGeom prst="rect">
            <a:avLst/>
          </a:prstGeom>
          <a:ln w="0">
            <a:noFill/>
          </a:ln>
        </p:spPr>
      </p:pic>
      <p:sp>
        <p:nvSpPr>
          <p:cNvPr id="345" name="Oval 6"/>
          <p:cNvSpPr/>
          <p:nvPr/>
        </p:nvSpPr>
        <p:spPr>
          <a:xfrm>
            <a:off x="1258920" y="5877000"/>
            <a:ext cx="503280" cy="5032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f54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Oval 7"/>
          <p:cNvSpPr/>
          <p:nvPr/>
        </p:nvSpPr>
        <p:spPr>
          <a:xfrm>
            <a:off x="5364000" y="5734080"/>
            <a:ext cx="503280" cy="5032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f54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ЭТАПНОЕ ВЫПОЛНЕНИЕ РАБОТЫ</a:t>
            </a: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4" descr="IMG_0002"/>
          <p:cNvPicPr/>
          <p:nvPr/>
        </p:nvPicPr>
        <p:blipFill>
          <a:blip r:embed="rId1"/>
          <a:stretch/>
        </p:blipFill>
        <p:spPr>
          <a:xfrm>
            <a:off x="324000" y="333360"/>
            <a:ext cx="4224240" cy="5281560"/>
          </a:xfrm>
          <a:prstGeom prst="rect">
            <a:avLst/>
          </a:prstGeom>
          <a:ln w="0">
            <a:noFill/>
          </a:ln>
        </p:spPr>
      </p:pic>
      <p:sp>
        <p:nvSpPr>
          <p:cNvPr id="349" name="Oval 5"/>
          <p:cNvSpPr/>
          <p:nvPr/>
        </p:nvSpPr>
        <p:spPr>
          <a:xfrm>
            <a:off x="684360" y="5805360"/>
            <a:ext cx="502920" cy="5032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f54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0" name="Picture 6" descr="IMG_0003"/>
          <p:cNvPicPr/>
          <p:nvPr/>
        </p:nvPicPr>
        <p:blipFill>
          <a:blip r:embed="rId2"/>
          <a:stretch/>
        </p:blipFill>
        <p:spPr>
          <a:xfrm>
            <a:off x="4500720" y="333360"/>
            <a:ext cx="4265280" cy="5413320"/>
          </a:xfrm>
          <a:prstGeom prst="rect">
            <a:avLst/>
          </a:prstGeom>
          <a:ln w="0">
            <a:noFill/>
          </a:ln>
        </p:spPr>
      </p:pic>
      <p:sp>
        <p:nvSpPr>
          <p:cNvPr id="351" name="Oval 7"/>
          <p:cNvSpPr/>
          <p:nvPr/>
        </p:nvSpPr>
        <p:spPr>
          <a:xfrm>
            <a:off x="5796000" y="5734080"/>
            <a:ext cx="503280" cy="5032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f54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4" descr="IMG_0004"/>
          <p:cNvPicPr/>
          <p:nvPr/>
        </p:nvPicPr>
        <p:blipFill>
          <a:blip r:embed="rId1"/>
          <a:stretch/>
        </p:blipFill>
        <p:spPr>
          <a:xfrm>
            <a:off x="320760" y="960480"/>
            <a:ext cx="4322520" cy="57816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5" descr="IMG_0005"/>
          <p:cNvPicPr/>
          <p:nvPr/>
        </p:nvPicPr>
        <p:blipFill>
          <a:blip r:embed="rId2"/>
          <a:stretch/>
        </p:blipFill>
        <p:spPr>
          <a:xfrm>
            <a:off x="4788000" y="1052640"/>
            <a:ext cx="3989160" cy="5646600"/>
          </a:xfrm>
          <a:prstGeom prst="rect">
            <a:avLst/>
          </a:prstGeom>
          <a:ln w="0">
            <a:noFill/>
          </a:ln>
        </p:spPr>
      </p:pic>
      <p:sp>
        <p:nvSpPr>
          <p:cNvPr id="354" name="Oval 6"/>
          <p:cNvSpPr/>
          <p:nvPr/>
        </p:nvSpPr>
        <p:spPr>
          <a:xfrm>
            <a:off x="539640" y="6021360"/>
            <a:ext cx="503280" cy="5032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f54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Oval 7"/>
          <p:cNvSpPr/>
          <p:nvPr/>
        </p:nvSpPr>
        <p:spPr>
          <a:xfrm>
            <a:off x="5651640" y="5805360"/>
            <a:ext cx="502920" cy="5032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f54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9" descr="Рисунок12"/>
          <p:cNvPicPr/>
          <p:nvPr/>
        </p:nvPicPr>
        <p:blipFill>
          <a:blip r:embed="rId1"/>
          <a:stretch/>
        </p:blipFill>
        <p:spPr>
          <a:xfrm>
            <a:off x="330120" y="189000"/>
            <a:ext cx="4064040" cy="6400800"/>
          </a:xfrm>
          <a:prstGeom prst="rect">
            <a:avLst/>
          </a:prstGeom>
          <a:ln w="0">
            <a:noFill/>
          </a:ln>
        </p:spPr>
      </p:pic>
      <p:sp>
        <p:nvSpPr>
          <p:cNvPr id="357" name="Прямоугольник 1"/>
          <p:cNvSpPr/>
          <p:nvPr/>
        </p:nvSpPr>
        <p:spPr>
          <a:xfrm>
            <a:off x="4284720" y="189000"/>
            <a:ext cx="457200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28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Century Gothic"/>
              </a:rPr>
              <a:t>Посмотрите, как жив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8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Century Gothic"/>
              </a:rPr>
              <a:t>Скачет конь здесь удало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8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Century Gothic"/>
              </a:rPr>
              <a:t>Ой, люли ! Ой, люли 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8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Century Gothic"/>
              </a:rPr>
              <a:t>Кони на лужок пошл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8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Century Gothic"/>
              </a:rPr>
              <a:t>Кони удалы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8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Century Gothic"/>
              </a:rPr>
              <a:t>Гордые, лихие 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6T16:53:56Z</dcterms:created>
  <dc:creator>sv</dc:creator>
  <dc:description/>
  <dc:language>en-US</dc:language>
  <cp:lastModifiedBy>User2</cp:lastModifiedBy>
  <dcterms:modified xsi:type="dcterms:W3CDTF">2019-12-11T21:59:35Z</dcterms:modified>
  <cp:revision>25</cp:revision>
  <dc:subject/>
  <dc:title>Дымковская игрушка</dc:title>
</cp:coreProperties>
</file>