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4EAE3-47B6-4C36-BDC0-A58F612210E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Номер слайда 3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1E0C2-0CFC-48E0-A606-70091FF88A4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F5FE-D547-4571-B260-3AE3D31B4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08E9-0BFC-4ABE-94C3-2DE9C3E36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BB45-920C-46A0-AFC8-739589316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28A0-FDE8-4568-AB4B-936213CC6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28BEE-0A38-44A7-A420-70C815EEF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FCBBA-56EC-4BC5-9649-A3B8CDF07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4A4F7-7023-4039-A9C3-5318FAC0C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0AA46-0C79-4C5A-8F8E-D37ABEF05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59D9C-F993-482D-B3DA-326DFB7BF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2F8A4-D223-4F30-BA35-9BBB074DF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7875E-CD9C-4DE1-9A62-16465728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E96F-1707-4C92-BB0D-BE53AB135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24D43-2D3F-4683-82ED-C0FAC03E7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D22E9-7A92-4F65-AC63-92426B7D4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AF80E-D45E-4C9A-AF94-CCEC12866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8FD8B-173B-4613-ADC5-129A9499D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5C2EA-9119-4B45-8780-A2E4D1E12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D060A-8DFE-4319-97E0-E574EBEC9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3B370-2325-4CA1-9871-2DA9677D2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DF345-B98D-4268-9575-CAAC7572F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16D29-B9F1-4BE3-B7CD-5EC9F6592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D4AF2-8676-473F-9698-304283C7C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FB48-73AA-4EA2-ABDC-C51380987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3E14E-0714-4714-A26F-683DC5C52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7204B-D11B-4EC4-A930-B6DDE47D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506F9-CEEE-483E-BE63-FE8BFF677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E08A4-2078-494A-94A2-D6B3A9900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B5DE3-D253-48E2-8CB7-9A2EC9137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9F063-4295-430D-8AB3-1629F9DCA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6183E-B3FC-43FA-BC2D-2A47BFEB3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BC949-A4CA-4339-A6B2-7CFE00A66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57EBF-BD22-473C-8CE2-A558A50B5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10767-7319-4844-8E09-49768B317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253F-3298-4108-85D5-7F227B71C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4CE7D-ADF4-40D8-AF92-26C0AB53F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A00EE-C89A-4974-AE61-11DAB425B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29876-9C37-41C9-BDAE-D1E0C722E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D96A1-AB4F-4980-BC95-3E3F4C15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BEE57-FD8E-498C-A1A7-684B3E68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D7891-ECB6-4D01-82A6-AE9FFE5A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1AE6D-A967-4D91-A442-8AB543B34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A9D28-EBB3-4492-A8C3-9891DED9B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5F684-3327-49F5-9525-838BA1488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23AFE1-E0A5-4FB4-A4D7-1211F11B1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B83D-B882-4599-A8B5-F426F7A1F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A0A135-049D-4043-A6E6-74454A9B3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4851C9-05B2-4C4A-9799-E7E03E4E8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434F9-E9A9-48D6-9EF4-5826803B0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1640F5-B309-4764-8BCE-DBB27531A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F06C68-1B82-45A5-B26C-568B3EBDD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9E044-7AE4-45D6-BDC1-2FEB3F9A6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BF5E44-8DB2-4F31-B36C-D69461DA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CCBF46-E0EF-45DF-934B-238F213E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6B8E14-A08C-45AD-91D4-DB9D6B5FE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E0AA90-E97A-463C-B81A-8AFD7A6F2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D9F8-16A3-49CF-BD4A-760BF6D64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DF823-155E-4762-9ECE-1537C31D7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C716-2541-436C-B84C-2796168CB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AA67-C3A1-4E7B-9F1D-DE5EE9E52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3905-A6FD-4FFF-87C1-CA38F4E7B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61FE5-02A1-4DA4-BA4A-D22DC3BBB376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B2C9F-1950-42A5-80F3-FD4E9AAB0A78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8A321-FFE5-47A9-9EAD-F7FFBFA18C3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71A2B-3061-43AB-B43F-2D0CE860EAA2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C4CE2-30B3-49FC-848E-F5916A28AE98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47280" y="691920"/>
            <a:ext cx="7885080" cy="53290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Государственная итоговая аттестация обучающихся 9-ых классов</a:t>
            </a:r>
            <a:br>
              <a:rPr sz="4800"/>
            </a:br>
            <a:r>
              <a:rPr b="1" lang="ru-RU" sz="4400" spc="-1" strike="noStrike">
                <a:solidFill>
                  <a:srgbClr val="000000"/>
                </a:solidFill>
                <a:latin typeface="Cambria"/>
              </a:rPr>
              <a:t>2019-2020 учебный год</a:t>
            </a: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2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Допуск к ГИА-9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К ГИА допускаются обучающиеся, не имеющие академической задолженности и в полном объеме выполнившие учебный план (имеющие годовые отметки по всем учебным предметам учебного плана </a:t>
            </a:r>
            <a:r>
              <a:rPr b="0" lang="ru-RU" sz="2800" spc="-1" strike="noStrike">
                <a:solidFill>
                  <a:srgbClr val="c00000"/>
                </a:solidFill>
                <a:latin typeface="Cambria"/>
              </a:rPr>
              <a:t>за IX класс не ниже удовлетворительных) и получивших зачет по итоговому собеседованию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620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ru-RU" sz="2900" spc="-1" strike="noStrike">
                <a:solidFill>
                  <a:srgbClr val="240ae4"/>
                </a:solidFill>
                <a:latin typeface="Times New Roman"/>
                <a:ea typeface="Times New Roman"/>
              </a:rPr>
              <a:t>Время начала экзаменов в </a:t>
            </a:r>
            <a:r>
              <a:rPr b="1" lang="en-US" sz="2900" spc="-1" strike="noStrike">
                <a:solidFill>
                  <a:srgbClr val="240ae4"/>
                </a:solidFill>
                <a:latin typeface="Times New Roman"/>
                <a:ea typeface="Times New Roman"/>
              </a:rPr>
              <a:t>IX</a:t>
            </a:r>
            <a:r>
              <a:rPr b="1" lang="ru-RU" sz="2900" spc="-1" strike="noStrike">
                <a:solidFill>
                  <a:srgbClr val="240ae4"/>
                </a:solidFill>
                <a:latin typeface="Times New Roman"/>
                <a:ea typeface="Times New Roman"/>
              </a:rPr>
              <a:t> классах - 10.00 часов по местному времени</a:t>
            </a:r>
            <a:br>
              <a:rPr sz="2500"/>
            </a:br>
            <a:endParaRPr b="0" lang="en-US" sz="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-360" y="1700280"/>
            <a:ext cx="8785080" cy="465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7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родолжительность экзаменов 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ка, русский язык, литература – 3 часа 55 минут  (235 мин),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ствознание, физика – 3 часа (180 мин.),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гия, история - 3 часа (180 мин.),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мия, география - 2 часа (120 мин.),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тика и ИКТ  – 2 часа 30 минут (150 мин.)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остранные языки (письменная часть) – 2 часа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20 минут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 algn="just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6" name="Picture 5" descr="http://www.cdtnp.ru/images/front_page_2014/attest.jpg"/>
          <p:cNvPicPr/>
          <p:nvPr/>
        </p:nvPicPr>
        <p:blipFill>
          <a:blip r:embed="rId1"/>
          <a:stretch/>
        </p:blipFill>
        <p:spPr>
          <a:xfrm>
            <a:off x="7380360" y="2781360"/>
            <a:ext cx="163188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http://saroblnews.ru/files/pages/51267/1442822779general_pages_i51267_v_oblasti_startuet_osennii_etap_ege.jpg"/>
          <p:cNvPicPr/>
          <p:nvPr/>
        </p:nvPicPr>
        <p:blipFill>
          <a:blip r:embed="rId1"/>
          <a:stretch/>
        </p:blipFill>
        <p:spPr>
          <a:xfrm>
            <a:off x="6588000" y="4941720"/>
            <a:ext cx="2556000" cy="191628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353440" cy="1224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рядок проведения государственной итоговой аттестации по образовательным программам основного общего образования</a:t>
            </a:r>
            <a:endParaRPr b="0" lang="en-US" sz="2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1484280"/>
            <a:ext cx="8964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ПЭ выпускник обязан предоставить </a:t>
            </a:r>
            <a:r>
              <a:rPr b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спорт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собой иметь </a:t>
            </a:r>
            <a:r>
              <a:rPr b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ерную гелевую ручку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ополнительные устройства и материалы, используемые по отдельным предметам, в соответствии с перечнем, ежегодно утверждаемым приказом Министерства образования и науки Российской Федерации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40ae4"/>
                </a:solidFill>
                <a:latin typeface="Times New Roman"/>
                <a:ea typeface="Times New Roman"/>
              </a:rPr>
              <a:t>Информацию по ГИА 2020</a:t>
            </a:r>
            <a:br>
              <a:rPr sz="2900"/>
            </a:br>
            <a:r>
              <a:rPr b="1" lang="ru-RU" sz="2900" spc="-1" strike="noStrike">
                <a:solidFill>
                  <a:srgbClr val="240ae4"/>
                </a:solidFill>
                <a:latin typeface="Times New Roman"/>
                <a:ea typeface="Times New Roman"/>
              </a:rPr>
              <a:t>можно найти:</a:t>
            </a:r>
            <a:endParaRPr b="0" lang="en-US" sz="29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61" name="Объект 5" descr="http://rcokio-chel.ru/pics/banners/4file.jpg"/>
          <p:cNvPicPr/>
          <p:nvPr/>
        </p:nvPicPr>
        <p:blipFill>
          <a:blip r:embed="rId1"/>
          <a:stretch/>
        </p:blipFill>
        <p:spPr>
          <a:xfrm>
            <a:off x="324000" y="2924280"/>
            <a:ext cx="2894040" cy="1096920"/>
          </a:xfrm>
          <a:prstGeom prst="rect">
            <a:avLst/>
          </a:prstGeom>
          <a:ln w="0">
            <a:noFill/>
          </a:ln>
        </p:spPr>
      </p:pic>
      <p:sp>
        <p:nvSpPr>
          <p:cNvPr id="262" name="Прямоугольник 12"/>
          <p:cNvSpPr/>
          <p:nvPr/>
        </p:nvSpPr>
        <p:spPr>
          <a:xfrm>
            <a:off x="3967200" y="5216400"/>
            <a:ext cx="377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gia.edu.ru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10"/>
          <p:cNvSpPr/>
          <p:nvPr/>
        </p:nvSpPr>
        <p:spPr>
          <a:xfrm>
            <a:off x="3977640" y="3244680"/>
            <a:ext cx="247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fipi.ru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11"/>
          <p:cNvSpPr/>
          <p:nvPr/>
        </p:nvSpPr>
        <p:spPr>
          <a:xfrm>
            <a:off x="3978360" y="1773360"/>
            <a:ext cx="444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обрнауки.рф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оугольник 13"/>
          <p:cNvSpPr/>
          <p:nvPr/>
        </p:nvSpPr>
        <p:spPr>
          <a:xfrm>
            <a:off x="3917520" y="4314960"/>
            <a:ext cx="399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rustest.r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11" descr=""/>
          <p:cNvPicPr/>
          <p:nvPr/>
        </p:nvPicPr>
        <p:blipFill>
          <a:blip r:embed="rId2"/>
          <a:stretch/>
        </p:blipFill>
        <p:spPr>
          <a:xfrm>
            <a:off x="179280" y="1700280"/>
            <a:ext cx="3888000" cy="12240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2" descr=""/>
          <p:cNvPicPr/>
          <p:nvPr/>
        </p:nvPicPr>
        <p:blipFill>
          <a:blip r:embed="rId3"/>
          <a:stretch/>
        </p:blipFill>
        <p:spPr>
          <a:xfrm>
            <a:off x="324000" y="5084640"/>
            <a:ext cx="2232000" cy="6559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4" descr=""/>
          <p:cNvPicPr/>
          <p:nvPr/>
        </p:nvPicPr>
        <p:blipFill>
          <a:blip r:embed="rId4"/>
          <a:stretch/>
        </p:blipFill>
        <p:spPr>
          <a:xfrm>
            <a:off x="468360" y="4005360"/>
            <a:ext cx="122400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Рисунок 1" descr=""/>
          <p:cNvPicPr/>
          <p:nvPr/>
        </p:nvPicPr>
        <p:blipFill>
          <a:blip r:embed="rId1"/>
          <a:stretch/>
        </p:blipFill>
        <p:spPr>
          <a:xfrm>
            <a:off x="0" y="11736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270" name="Овал 2"/>
          <p:cNvSpPr/>
          <p:nvPr/>
        </p:nvSpPr>
        <p:spPr>
          <a:xfrm>
            <a:off x="2440080" y="2562120"/>
            <a:ext cx="1900080" cy="627120"/>
          </a:xfrm>
          <a:prstGeom prst="ellipse">
            <a:avLst/>
          </a:prstGeom>
          <a:noFill/>
          <a:ln w="76320">
            <a:solidFill>
              <a:srgbClr val="64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Рисунок 1" descr=""/>
          <p:cNvPicPr/>
          <p:nvPr/>
        </p:nvPicPr>
        <p:blipFill>
          <a:blip r:embed="rId1"/>
          <a:stretch/>
        </p:blipFill>
        <p:spPr>
          <a:xfrm>
            <a:off x="-152280" y="0"/>
            <a:ext cx="9656640" cy="6705720"/>
          </a:xfrm>
          <a:prstGeom prst="rect">
            <a:avLst/>
          </a:prstGeom>
          <a:ln w="0">
            <a:noFill/>
          </a:ln>
        </p:spPr>
      </p:pic>
      <p:sp>
        <p:nvSpPr>
          <p:cNvPr id="272" name="Овал 2"/>
          <p:cNvSpPr/>
          <p:nvPr/>
        </p:nvSpPr>
        <p:spPr>
          <a:xfrm>
            <a:off x="2514600" y="6019920"/>
            <a:ext cx="1538280" cy="304560"/>
          </a:xfrm>
          <a:prstGeom prst="ellipse">
            <a:avLst/>
          </a:prstGeom>
          <a:noFill/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Овал 4"/>
          <p:cNvSpPr/>
          <p:nvPr/>
        </p:nvSpPr>
        <p:spPr>
          <a:xfrm>
            <a:off x="2362320" y="4952880"/>
            <a:ext cx="2133360" cy="304920"/>
          </a:xfrm>
          <a:prstGeom prst="ellipse">
            <a:avLst/>
          </a:prstGeom>
          <a:noFill/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Рисунок 1" descr=""/>
          <p:cNvPicPr/>
          <p:nvPr/>
        </p:nvPicPr>
        <p:blipFill>
          <a:blip r:embed="rId1"/>
          <a:stretch/>
        </p:blipFill>
        <p:spPr>
          <a:xfrm>
            <a:off x="-304920" y="0"/>
            <a:ext cx="10164960" cy="6858000"/>
          </a:xfrm>
          <a:prstGeom prst="rect">
            <a:avLst/>
          </a:prstGeom>
          <a:ln w="0">
            <a:noFill/>
          </a:ln>
        </p:spPr>
      </p:pic>
      <p:sp>
        <p:nvSpPr>
          <p:cNvPr id="275" name="Овал 2"/>
          <p:cNvSpPr/>
          <p:nvPr/>
        </p:nvSpPr>
        <p:spPr>
          <a:xfrm>
            <a:off x="1371600" y="4114800"/>
            <a:ext cx="969840" cy="206280"/>
          </a:xfrm>
          <a:prstGeom prst="ellipse">
            <a:avLst/>
          </a:prstGeom>
          <a:noFill/>
          <a:ln w="57240">
            <a:solidFill>
              <a:srgbClr val="64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Повторная сдача ГИА в текущем году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Повторно к сдаче ГИА-9 в текущем году по решению ГЭК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допускаются обучающиеся,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получившие на ГИА-9 неудовлетворительные результаты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mbria"/>
              </a:rPr>
              <a:t>не более чем по двум учебным предметам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(из числа обязательных и по выбору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50920" y="549000"/>
            <a:ext cx="864216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600" spc="-1" strike="noStrike">
                <a:solidFill>
                  <a:srgbClr val="003366"/>
                </a:solidFill>
                <a:latin typeface="Garamond"/>
              </a:rPr>
              <a:t>В аттестат выставляются итоговые отметки по предметам, которые изучались выпускниками в классах </a:t>
            </a:r>
            <a:r>
              <a:rPr b="1" lang="en-US" sz="5600" spc="-1" strike="noStrike">
                <a:solidFill>
                  <a:srgbClr val="003366"/>
                </a:solidFill>
                <a:latin typeface="Garamond"/>
              </a:rPr>
              <a:t>II</a:t>
            </a:r>
            <a:r>
              <a:rPr b="1" lang="ru-RU" sz="5600" spc="-1" strike="noStrike">
                <a:solidFill>
                  <a:srgbClr val="003366"/>
                </a:solidFill>
                <a:latin typeface="Garamond"/>
              </a:rPr>
              <a:t> ступени (5-9 класс)</a:t>
            </a:r>
            <a:endParaRPr b="0" lang="en-US" sz="5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Запрещено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иметь при себе средства связи, электронно-вычислительную технику, фото-, аудио- и видеоаппаратуру, справочные материалы, письменные заметки и </a:t>
            </a:r>
            <a:r>
              <a:rPr b="0" lang="ru-RU" sz="2600" spc="-1" strike="noStrike">
                <a:solidFill>
                  <a:srgbClr val="c00000"/>
                </a:solidFill>
                <a:latin typeface="Cambria"/>
              </a:rPr>
              <a:t>иные средства хранения и передачи информации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ормативная база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179280" y="907560"/>
            <a:ext cx="89647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Приказ Минпросвещения России и Рособрнадзора от 07.11.2018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№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189/1513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"Об утверждении Порядка проведения государственной итоговой аттестации по образовательным программам основного общего образования"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Обучающиеся проходят государственную итоговую аттестацию по образовательным программам основного общего образования (ГИА-9)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mbria"/>
              </a:rPr>
              <a:t>по обязательным учебным предметам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Cambria"/>
              </a:rPr>
              <a:t>(русский язык и математика)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а также по </a:t>
            </a:r>
            <a:r>
              <a:rPr b="0" lang="ru-RU" sz="2400" spc="-1" strike="noStrike">
                <a:solidFill>
                  <a:srgbClr val="c00000"/>
                </a:solidFill>
                <a:latin typeface="Cambria"/>
              </a:rPr>
              <a:t>двум учебным предметам по выбору обучающегося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Проект.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755280" y="1447560"/>
            <a:ext cx="7931160" cy="11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В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декабре пред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защита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индивидуального проекта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Cambria"/>
              </a:rPr>
              <a:t>результаты которого заносятся в аттестат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В мае месяце защита проекта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83" name="Picture 5" descr="Картинки по запросу фото проекты учащихся"/>
          <p:cNvPicPr/>
          <p:nvPr/>
        </p:nvPicPr>
        <p:blipFill>
          <a:blip r:embed="rId1"/>
          <a:stretch/>
        </p:blipFill>
        <p:spPr>
          <a:xfrm>
            <a:off x="5435640" y="2924280"/>
            <a:ext cx="2857320" cy="28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8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C:\Users\Васёк\Desktop\е.ю\вр 2018-2019\род.собрание\itogovoe-sobesedovanie-2020.jpg"/>
          <p:cNvPicPr/>
          <p:nvPr/>
        </p:nvPicPr>
        <p:blipFill>
          <a:blip r:embed="rId1"/>
          <a:stretch/>
        </p:blipFill>
        <p:spPr>
          <a:xfrm>
            <a:off x="465120" y="981000"/>
            <a:ext cx="86788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Итоговое собеседование по русскому языку как допуск к ОГЭ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Итоговое собеседование по русскому языку состоит из четырёх заданий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Задания 1 и 2 выполняются с использованием одного текста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Задание 1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– чтение вслух небольшого текста. Время на подготовку –2 минуты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Итоговое собеседование по русскому языку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6840" y="2349360"/>
            <a:ext cx="8077320" cy="40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В задании 2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предлагается пересказать прочитанный текст, дополнив высказыванием. Время на подготовку – 1 минута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Задания 3 и 4 не связаны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с текстом, который читали и пересказывали, выполняя задания 1 и 2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Итоговое собеседование по русскому языку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В задании 3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редлагается выбрать один из трёх предложенных вариантов беседы: описание фотографии, повествование на основе жизненного опыта, рассуждение по одной из сформулированных проблем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Время на подготовку – 1 минута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В задании 4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редлагается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оучаствовать в беседе по теме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редыдущего задания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Общее время (включая время на подготовку) – 15 минут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mbria"/>
              </a:rPr>
              <a:t>Максимальный балл – 19, зачет от 10 и более баллов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Сроки проведения итогового собеседования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о аналогии со схемой проведения итогового сочинения в 11 классах будет предусмотрено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mbria"/>
              </a:rPr>
              <a:t>три даты для прохождения устного собеседования в 9 классах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Cambria"/>
              </a:rPr>
              <a:t>вторая среда  февраля,  марта,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mbria"/>
              </a:rPr>
              <a:t>первый рабочий понедельник мая 2020 года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У школьников есть две попытки его пересдать при получении незачета, либо возможность пройти устное собеседование в один из дополнительных дней, если кто-то не явился по уважительной причине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Предметы по выбору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10920" y="1341360"/>
            <a:ext cx="381636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физика, химия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биология, география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история, литература, обществознание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иностранные языки (английский, немецкий языки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информатик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9" name="Picture 5" descr="C:\Users\Васёк\Desktop\е.ю\вр 2018-2019\род.собрание\gia-9.jpg"/>
          <p:cNvPicPr/>
          <p:nvPr/>
        </p:nvPicPr>
        <p:blipFill>
          <a:blip r:embed="rId1"/>
          <a:stretch/>
        </p:blipFill>
        <p:spPr>
          <a:xfrm>
            <a:off x="5003640" y="1387440"/>
            <a:ext cx="352908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-36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Получение аттестата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-36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В 2019-2020 учебном году основанием для получения аттестата об основном общем образовании является успешное прохождение ГИА-9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mbria"/>
              </a:rPr>
              <a:t>по русскому языку и математике,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mbria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Cambria"/>
              </a:rPr>
              <a:t>а также по 2 предметам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Cambria"/>
              </a:rPr>
              <a:t>по выбору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6T13:57:45Z</dcterms:created>
  <dc:creator>XXX</dc:creator>
  <dc:description/>
  <dc:language>en-US</dc:language>
  <cp:lastModifiedBy>Васёк</cp:lastModifiedBy>
  <dcterms:modified xsi:type="dcterms:W3CDTF">2019-12-12T11:41:12Z</dcterms:modified>
  <cp:revision>188</cp:revision>
  <dc:subject/>
  <dc:title>Презентация учебного курс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62561681049</vt:lpwstr>
  </property>
</Properties>
</file>