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CD59-47B2-4242-B5B1-F179ACFFA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B37E-33C1-4C58-9BA9-C15C1877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F45C-9923-41E9-9BA6-A45CE64CF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25CD-140C-4C1E-8886-CD17FB25B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AB6C-FEEA-4A60-BAB9-D35AFDB32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804A-1E15-41F7-A455-F415A467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5CFD-D3E5-4694-98F0-1881B1F2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DADB-A6C2-4518-8E6F-69FD35BC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D30E-3C88-4A81-AE91-47485E6F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3184-8A15-42B7-9D18-C0F879B8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1267-8209-41C0-B8F6-A58F20C9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BEED-1F91-4ADE-8ECB-D2A459EA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9AD0-FCBA-4DC4-BBC1-237A78C3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2416-7613-4E1E-9C9A-05836180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00F1-2306-429D-B55A-2B6555BF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5F4F-69A2-48CD-B359-03B600A3F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FA08-D79F-41D2-9AC8-28312C982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36D32-1C78-427C-9A37-E3352B167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13203-910B-41EA-B677-E4A87A9C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96107-215C-41B7-ABB1-30CFC5D4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C7C5D-59CA-4160-AD95-9C11F9E1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BF9E9-AFB1-4FF7-B282-13952BC3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7C92-47EE-40B1-9D40-FD9D1D4A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CFE75-D3AD-436E-94DC-626FFF63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AD803-F065-42B5-9AC2-DCF84B93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80A56-4770-44FF-8FA8-1ACB8BFB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2AAD2-54AB-43C1-A2C4-4787EB6E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D47A1-873D-43B1-9652-3758DC77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6DDC9-E70D-4CB4-A031-BE62B0734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57054-8421-4A64-BC2B-0067B50E3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85B20-1D7D-4DAE-BEAD-F725FDFE9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1AD3B-6811-4DF9-934F-BD1A14BD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195C9-BB98-467F-AF61-B2B7298A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B01E-AFA2-4754-9ECE-E5F88149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7ECE2-E823-4E29-BFDA-ADE0B688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DC52F-FDA4-4414-9331-B16962EE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10083-0CCD-43C7-AEF2-E25D2DBF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AF67A-9DE2-47AF-B260-5EA8F71F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20284-E214-48EA-9E45-B182367D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BA5E0-8C10-48E7-9312-39D6ECA2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0030F-3557-42AF-AFBF-038A8AB3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79259-2B5F-4E8D-A1F1-C5A452947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FBA90-5013-4633-9F96-6CFB370AB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D1B0-494A-4223-BB9E-DF0BD3B2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6CEC-8DF3-4608-889A-1ED30CC4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82D4-390D-4CC6-B1ED-4FE0E2B4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13B8-8758-4835-B8A3-2579C676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DF6C-08C9-46CA-98E0-C1A87A7B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2311FD6-23B1-407B-8C44-1E6D1F941237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2778CA6-17FB-4BCE-A002-56FBB3890F5E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A96CF4D-D2D7-4563-8F2F-904C321377C0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615D338-B062-42C3-B213-E096271CC11A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3000" y="377640"/>
            <a:ext cx="756144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rebuchet MS"/>
              </a:rPr>
              <a:t>«Стрельба из пневматического оружия»</a:t>
            </a: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826920" y="2852640"/>
            <a:ext cx="3181680" cy="316224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5"/>
          <p:cNvSpPr/>
          <p:nvPr/>
        </p:nvSpPr>
        <p:spPr>
          <a:xfrm>
            <a:off x="324000" y="2133720"/>
            <a:ext cx="7561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От теории -  к практи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1116000" y="260280"/>
            <a:ext cx="7561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Рисунок 1" descr=""/>
          <p:cNvPicPr/>
          <p:nvPr/>
        </p:nvPicPr>
        <p:blipFill>
          <a:blip r:embed="rId2"/>
          <a:stretch/>
        </p:blipFill>
        <p:spPr>
          <a:xfrm>
            <a:off x="3718080" y="2309760"/>
            <a:ext cx="4730760" cy="388296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2"/>
          <p:cNvSpPr/>
          <p:nvPr/>
        </p:nvSpPr>
        <p:spPr>
          <a:xfrm>
            <a:off x="3626640" y="6014880"/>
            <a:ext cx="5505480" cy="8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Автор: Дегтярев М.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Педагог дополнительного образ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Меры безопасности при стрельб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29840" y="2006640"/>
            <a:ext cx="871380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Всегда  обращайтесь  с  пневматическим  оружием  как  с  заряженным  и взведённым.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и в коем случае не направляйте оружие на людей!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ружие всегда должно быть направлено стволом в сторону мишеней, при переноске - стволом вверх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Никогда  не  держите  палец  на  спусковом  крючке,  даже  если  оружие разряжено и не взведено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Заряжать и взводить оружие можно только на огневом рубеже по команде руководителя стрельбы.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е передавайте друг другу и не оставляйте без присмотра заряженное и (или) взведённое оружие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Не  прикасайтесь  к  чужому  оружию  без  разрешения  руководителя стрельбы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Не трогайте оружие, если в районе мишеней находятся люди, даже если оружие не взведено и не заряжено.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 Беспрекословно  выполняйте  команды  руководителя  стрельбы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250920" y="260280"/>
            <a:ext cx="80661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Выучить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rebuchet MS"/>
              </a:rPr>
              <a:t>Ошибки при прицеливани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22" name="Object 2"/>
          <p:cNvGraphicFramePr/>
          <p:nvPr/>
        </p:nvGraphicFramePr>
        <p:xfrm>
          <a:off x="1476360" y="692280"/>
          <a:ext cx="5762520" cy="59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692280"/>
                    <a:ext cx="576252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Rectangle 4"/>
          <p:cNvSpPr/>
          <p:nvPr/>
        </p:nvSpPr>
        <p:spPr>
          <a:xfrm>
            <a:off x="4500720" y="907920"/>
            <a:ext cx="4319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686800" cy="4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rebuchet MS"/>
              </a:rPr>
              <a:t>Изготовка для стрельбы сидя за столом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407880" y="1700280"/>
            <a:ext cx="4340160" cy="952812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4"/>
          <p:cNvSpPr/>
          <p:nvPr/>
        </p:nvSpPr>
        <p:spPr>
          <a:xfrm>
            <a:off x="2050920" y="333360"/>
            <a:ext cx="6621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Тренировка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5T12:02:53Z</dcterms:created>
  <dc:creator>Юрий</dc:creator>
  <dc:description/>
  <cp:keywords/>
  <dc:language>en-US</dc:language>
  <cp:lastModifiedBy>Повелитель)</cp:lastModifiedBy>
  <dcterms:modified xsi:type="dcterms:W3CDTF">2019-12-12T09:14:45Z</dcterms:modified>
  <cp:revision>38</cp:revision>
  <dc:subject/>
  <dc:title>Правильное положение указательного пальца</dc:title>
</cp:coreProperties>
</file>