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F3F0-443C-4035-B2B1-141B1F7C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CABF-19CE-4B62-9F0F-FD440EAD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45EE-F03E-4170-ABE4-FA709235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DD88-5525-4440-AE82-FA644AE2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7456-4071-4243-94E1-9EEB59D6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520B-509C-4C68-AE1C-CFE4C98A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4DA-7492-44C5-8C18-71BFF8DA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EDF0-F94F-4F36-B7B6-ECD66E69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1EF7-3840-4397-9A23-937BA8EC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9DEF-A272-4FF0-A59B-28F08906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F75E-2DE0-4C73-8F54-DF61DA5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CF4A-C0D1-45C0-B93F-BEFA61EC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ED93-9B0E-4818-A0C0-97DC9C61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5CAF-77E0-4FD3-9506-A1737F1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5A55-2ED5-4A47-882D-40E9816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8F4C-C48F-46C1-9C5D-0A76D051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6020-E16C-4396-B2F5-75389090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13AF-B8ED-4596-A30C-C215E5AB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CD14-A961-4EB3-BD5E-F603DB44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2455-3E21-4286-9969-78E3FEDC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7D7A1-6FE7-4435-B7D2-8597C3AC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C457-3E97-4974-AB08-9A12F574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F6FB-0F18-4FD1-93B6-819A9FD9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FBF0-1080-4A09-B227-9A8C9092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3DFE-57E8-4059-B960-E92680E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D0E1-C9A9-4E99-A6B5-730C493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901A-AEFC-4BA7-9B44-B770A935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7C1E-0552-49C8-9561-212E08EC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BB1E-91CF-4358-A95B-A66AA434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E085-87C4-4B5C-9A82-039D2A2F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0702-D7E9-4C59-A5CB-8C92B730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E019-AAD5-4CFA-9183-1290E635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498C9-5A2B-4837-B1F3-12AD4DD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A427-0E63-49EE-8F5F-6397C04B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210C-47EE-4858-97FA-B01FA37C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2A5F-F31B-4F0E-8851-10D93ED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5BF7D-35CA-4293-BBE3-8C281169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FFD9-011A-44F2-AF41-B799E71A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D542-0F52-485F-8BD5-EF5423A7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9E9B-9DF7-49B3-B6CE-0BEC9AF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FC61-FC5A-4CDF-A6D0-275BEA73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157BC-AFED-40CF-AA5F-3CDC7AA6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1E7C-B932-4092-BA3D-42D893DC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963D5-3890-44D4-8FD4-2FE2148A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9CDD-AA6E-4968-A19D-DEB56123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A57D-47AC-47EF-8F52-8E27758B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B24F-39CE-470A-8905-F7C6610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62C8-9351-4D08-813E-1D1FCD96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572C-6743-421F-BE97-CFBCF012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B38CB-44AD-46F1-A97F-3A75DCE3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6D52-F6F7-4E2D-92D4-F661547F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FD6C-8F77-4919-A61E-11BF323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6619-834F-467F-86D8-440D377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2776-4B75-46E0-953D-56E5800A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1FA7-33B0-41B5-95A1-149258EA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C2B0-E139-4CB9-A2EE-3BA15383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9454-6CAB-4DC7-8599-A20CA072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A11A5-529A-467D-8425-34F26187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B1D1-C005-4777-929B-B3BE1CC1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61AC8-DF91-4254-9113-BCB7D963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D8AB8-2DF1-4C9E-A58A-398E806D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B8F2-AB54-44D4-8CC0-3C3BABC9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A2927-0F75-49E1-A83B-AAF1658C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6160C-934A-4EF9-871D-8230AAF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AD145-A980-4228-B7E5-908B7DE1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D2DA7-6E29-4E2E-828A-B3D76D7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E7CA-0B6E-405C-AD4B-8EBCF40E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F9B6-C9DD-4BF9-8591-C048612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419DA-A0CB-4939-9541-290EE022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866C-BD0E-4A81-8175-8668ADD4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3F09-3ED6-4883-8AA6-0242ADE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1A76-05CA-49D0-8FE0-D88E9A3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1420-D243-46FD-A264-E72C9F1DE0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A713-E0C1-45BA-B6AC-B542C38D0B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09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DB95-0980-4752-8DFD-F767F9862F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5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B4E2-DE0F-42D7-8131-5E40A702EC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0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F45A-DA83-4BAC-BAFC-76A09D1840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E511-E4CA-422E-A06E-088E5235120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sovsport.ru/others/articles/808590-tehnika-broska-v-basketbole-glavnye-pravila?from=scroll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войной шаг в баскетбол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7720" y="3784320"/>
            <a:ext cx="463068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Учитель физической культуры МБОУ СОШ №28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6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ихорь Г.А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сточники дополнительных сведений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ика броска в баскетболе: главные правила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s://www.sovsport.ru/others/articles/808590-tehnika-broska-v-basketbole-glavnye-pravila?from=scro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менты техники в баскетболе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ttps://lektsii.org/15-39533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Баскетбо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аскетбол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 — атлетическая спортивная игра, один из самых популярных видов спорта. Занимаясь баскетболом, вы станете сильными, быстрыми, ловкими и смелыми, воспитаете в себе меткость, умение быстро ориентироваться в сложной обстановке. Для баскетболистов характерны хорошо развитый глазомер, широкое поле зрения. Эмоциональная игра поднимает настроение человека, делает его общительным и контактны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Содержимое 3" descr="hello_html_55861e1c.jpg"/>
          <p:cNvPicPr/>
          <p:nvPr/>
        </p:nvPicPr>
        <p:blipFill>
          <a:blip r:embed="rId1"/>
          <a:stretch/>
        </p:blipFill>
        <p:spPr>
          <a:xfrm>
            <a:off x="2195640" y="981000"/>
            <a:ext cx="45036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ехника двойного шаг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Для начала необходимо встать на линии штрафной площади, немного наискосок по отношению к кольцу. Необходимо сделать пару шагов для разбега, при этом не забывая вести мяч. Как только вы почувствуете, что уже достаточно разогнались, делаете один длинный шаг правой ногой. Мяч в этот момент уже должен находиться в руках. После этого выполняется короткий шаг перекатом с пятки на носок левой ногой. Одновременно вы делаете отталкивание левой ногой, мах правой и вынос мяча над правым плечом так, чтобы он лежал на правой руке, а левая поддерживала сбок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ехника двойного шаг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 наивысшей точке прыжка рука выпрямляется до конца в локтевом суставе, бросок заканчивается захлестывающим движением кисти. После выпуска мяча игрок приземляется на обе ноги. Описание техники броска в движении дано для игроков, бросающих с правой стороны. В ситуации с проходом слева, соответственно, все делается наоборот: первый длинный шаг делаете левой ногой, а второй – прав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Содержимое 3" descr="hello_html_74548781.png"/>
          <p:cNvPicPr/>
          <p:nvPr/>
        </p:nvPicPr>
        <p:blipFill>
          <a:blip r:embed="rId1"/>
          <a:stretch/>
        </p:blipFill>
        <p:spPr>
          <a:xfrm>
            <a:off x="1403280" y="1052640"/>
            <a:ext cx="63388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ехника брос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 правило, в технике броска с двух шагов применяется еще один способ забросить мяч в корзину – бросок от щита. Суть его состоит в том, что, находясь под углом по отношению к щиту, довольно сложно забросить мяч прямо в кольцо. Здесь на помощь нам приходит белая квадратная линия, нарисованная на щите вокруг дужки кольц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ехника брос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тренировать технику броска с боку достаточно просто. Для этого нужно встать в пределах штрафной площадки, под углом в 45 градусов по отношению к щиту. Чтобы забросить мяч из этого положения, необходимо попасть в ближайший к нам верхний угол квадратной линии на щите. То есть, если вы находитесь слева от кольца, бросаете в район левого верхнего угла этого квадрата, а если справа – то в правый. Все довольно просто и понятн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Содержимое 3" descr="1431347591_new-1.jpg"/>
          <p:cNvPicPr/>
          <p:nvPr/>
        </p:nvPicPr>
        <p:blipFill>
          <a:blip r:embed="rId1"/>
          <a:stretch/>
        </p:blipFill>
        <p:spPr>
          <a:xfrm>
            <a:off x="2484360" y="1197000"/>
            <a:ext cx="35974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6T19:13:45Z</dcterms:created>
  <dc:creator>Елизавета</dc:creator>
  <dc:description/>
  <dc:language>en-US</dc:language>
  <cp:lastModifiedBy>sh28-2</cp:lastModifiedBy>
  <dcterms:modified xsi:type="dcterms:W3CDTF">2019-12-12T09:32:36Z</dcterms:modified>
  <cp:revision>7</cp:revision>
  <dc:subject/>
  <dc:title>Двойной шаг в баскетболе</dc:title>
</cp:coreProperties>
</file>