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28F-950C-40C3-AC93-75400F63B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EE63-0221-44EF-8FCE-7E0CDD92D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51C-DDD6-47AA-AACE-BD1D0705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021-41A2-428F-9653-47AF553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273-5337-4B29-8486-B72AA316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685-FF0C-4715-BCB5-B89D8056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8FB-DAB9-4C78-9193-B48FF75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6E2-EFED-492D-938E-20962042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754-F757-40DD-A615-4F00E5D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B73-C026-4BC7-A76F-78F2364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C37-9E5D-4911-B00B-B963BA03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AB4-E39A-4BE3-BE6F-CCB5085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11E-E5FE-415D-89B4-49CAC5C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ACB-E206-46E1-B33E-75D33D6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EA1C-EDD9-423F-9A05-6D96B16A2C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торичное использование материалов на уроках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57520" y="4071960"/>
            <a:ext cx="24462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МБОУ «СОШ№3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Новый Уоян,  Гаманова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4" descr=""/>
          <p:cNvPicPr/>
          <p:nvPr/>
        </p:nvPicPr>
        <p:blipFill>
          <a:blip r:embed="rId1"/>
          <a:stretch/>
        </p:blipFill>
        <p:spPr>
          <a:xfrm>
            <a:off x="426960" y="396720"/>
            <a:ext cx="8326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684360" y="404640"/>
            <a:ext cx="7848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азвитие познавательно-исследовательской деятельности, проектировочных и технологических умений,  художественно-эстетических способнос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формирование представлений о том, что такое вторсырьё, как можно использовать текстильные и промышленные отходы, как влияют данные отходы на экологию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их уро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Привлечь внимание людей к проблеме увеличения объемов образования отх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468360" y="21337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 т макулатуры экономит 3,5 куб.м. древес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 т вторичного полимерного сырья - 0,7 т первичного полимерного сырь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 т изношенных шин - 0,33 т каучука синтетиче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 т вторичного текстильного сырья - 0,7 т натуральных или синтетических волок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пликация из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G_2860"/>
          <p:cNvPicPr/>
          <p:nvPr/>
        </p:nvPicPr>
        <p:blipFill>
          <a:blip r:embed="rId1"/>
          <a:srcRect l="24359" t="0" r="0" b="0"/>
          <a:stretch/>
        </p:blipFill>
        <p:spPr>
          <a:xfrm>
            <a:off x="0" y="1992240"/>
            <a:ext cx="3600360" cy="486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IMG_0475"/>
          <p:cNvPicPr/>
          <p:nvPr/>
        </p:nvPicPr>
        <p:blipFill>
          <a:blip r:embed="rId2"/>
          <a:srcRect l="22383" t="0" r="21659" b="36372"/>
          <a:stretch/>
        </p:blipFill>
        <p:spPr>
          <a:xfrm>
            <a:off x="4643280" y="1916280"/>
            <a:ext cx="3483000" cy="4941720"/>
          </a:xfrm>
          <a:prstGeom prst="rect">
            <a:avLst/>
          </a:prstGeom>
          <a:ln cap="sq" w="2844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нно в технике вышивки ковровой игл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User\Рабочий стол\120317\презфото\IMG_3188.jpg"/>
          <p:cNvPicPr/>
          <p:nvPr/>
        </p:nvPicPr>
        <p:blipFill>
          <a:blip r:embed="rId1"/>
          <a:stretch/>
        </p:blipFill>
        <p:spPr>
          <a:xfrm>
            <a:off x="4716360" y="1916280"/>
            <a:ext cx="3751200" cy="494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95280" y="1849320"/>
            <a:ext cx="3672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G_3197"/>
          <p:cNvPicPr/>
          <p:nvPr/>
        </p:nvPicPr>
        <p:blipFill>
          <a:blip r:embed="rId1"/>
          <a:stretch/>
        </p:blipFill>
        <p:spPr>
          <a:xfrm>
            <a:off x="219564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162864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— часть природы и ему стоит задумываться о всей экосистеме, а не только о се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42960" y="35798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сокращать потребление, по возможности, использовать вещи повто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рерабатывать все, что можно перерабат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09:23:32Z</dcterms:created>
  <dc:creator>Гаманова</dc:creator>
  <dc:description/>
  <dc:language>en-US</dc:language>
  <cp:lastModifiedBy>User</cp:lastModifiedBy>
  <dcterms:modified xsi:type="dcterms:W3CDTF">2019-12-12T14:28:39Z</dcterms:modified>
  <cp:revision>101</cp:revision>
  <dc:subject/>
  <dc:title>Вторичное использование материалов на уроках технологии</dc:title>
</cp:coreProperties>
</file>