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4A0-1B4F-4C85-A2E0-E27D6CD3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D35-050F-4636-96A0-735195D6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004-F834-45C7-A608-9795143D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02B-E420-4516-8B24-3F1FAC9D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19C4-9716-4137-964C-89601AEA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9016-7298-4D30-AB56-0369A435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958-0D2C-4E2F-9A29-1EF76F6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C6A5-CB81-4126-823D-4D0A34DF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B74-00DB-4B88-A318-C1F752C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C400-8EA0-4562-8860-53BE7E8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F3FE-2A78-4F9A-90E5-8EE5D43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5E8-5514-4343-A8DD-4EBF551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959-1BAD-4A2C-A216-B0C72B5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875-5FCB-40C8-92DA-17AA00F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41F-17E5-4725-9EC9-290A989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4128-EB52-4FD9-95F0-4981B336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0D3B-9789-4467-9942-3C96A8DC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777-CAE2-4F8F-9861-30B96EE5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892-E989-4A1F-A02E-5CB93A5B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10A-92EF-4F1A-B8EA-F011FCA9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8AB-052A-4E31-A5F8-CE6CAF8F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9C0-9E13-4A74-B6D4-A046F62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1FA-EDC3-46CC-81DA-272B8E4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7A6-B7ED-452E-952E-940D23A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2E9-FD28-4763-B060-D42DECFE7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700-EC8F-4900-97AB-32CF7ABF9C8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neboley.com.ua/img/news/2008/01/Zdorovye_privychki_prodlevajut_zhizn_na-b.jpg&amp;pageurl=http://www.neboley.com.ua%2Fs_health%3Fpage5rows8&amp;id=908955&amp;iid=3&amp;imgwidth=290&amp;imgheight=230&amp;imgsize=29696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сберегающие  технологии на уроке английского язы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доровье - еще не всё, но жизнь без здоровья – ничт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i?id=908955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581360"/>
            <a:ext cx="23036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ффективность усвоения знаний в течение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-25 минута –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5-35 минута – 60-4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5-40 минута – 1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6" descr="i?id=30521144&amp;tov=2"/>
          <p:cNvPicPr/>
          <p:nvPr/>
        </p:nvPicPr>
        <p:blipFill>
          <a:blip r:embed="rId1"/>
          <a:stretch/>
        </p:blipFill>
        <p:spPr>
          <a:xfrm>
            <a:off x="5602320" y="3284640"/>
            <a:ext cx="26654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67564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Calibri"/>
              </a:rPr>
              <a:t>Опрос учащихся 2-3 классов о применении физкультминуток на уроках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мнастика для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«Перекрестные шаги и прыжки» ( тема «Тело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движения в такт с правой ногой двигается левая рука, а затем – левая нога и правая рука. Движения выполняются вперед, в стороны, назад. Параллельно выполняются движения глазами во всех направлен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ходьбе коснуться левой рукой правого колена, а правой рукой левого коле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мнастика для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2.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Ленивые восьмер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листе бумаги правой рукой начертить знак бесконечности (ленивую восьмерку), затем то же самое левой рукой. А затем правой и левой одновремен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«рисование»  в воздухе, поочередно каждой рукой и обеими одновремен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мнастика для моз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1.3 Лексические игры на вре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обери пазз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тгадай кроссворд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ообразительность и находчивость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Крестики-ноли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иселиц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оставь слова из букв»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делать их подвижными позволит работа у доски, командный вариан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Будьте здоровы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6" descr="i?id=9441847&amp;tov=5"/>
          <p:cNvPicPr/>
          <p:nvPr/>
        </p:nvPicPr>
        <p:blipFill>
          <a:blip r:embed="rId1"/>
          <a:stretch/>
        </p:blipFill>
        <p:spPr>
          <a:xfrm>
            <a:off x="1403280" y="2205000"/>
            <a:ext cx="59752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сберегающие условия и при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олнение санитарных норм и правил (режим проветривания, освещенности, эстетики и т.п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ьная организация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стема релаксационных пауз и упражн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всего пространства класса для снятия гиподинам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ожительная эмоциональная атмосфера на ур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комплекса  оздоровительных упражне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ряд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евые иг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нтом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атрал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0000060593-WWW"/>
          <p:cNvPicPr/>
          <p:nvPr/>
        </p:nvPicPr>
        <p:blipFill>
          <a:blip r:embed="rId1"/>
          <a:stretch/>
        </p:blipFill>
        <p:spPr>
          <a:xfrm>
            <a:off x="6948360" y="3284640"/>
            <a:ext cx="18716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сберегающая задача учите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ширять зрительно-пространственную активность в режиме любого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ствовать созданию позитивной эмоциональной обстано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вать условия для психофизического развития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емы расширения зрительно-пространственной активности на уроке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демонстрирует в течение нескольких секунд 7-9 мелких изображений предметов, затем убирает их и просит детей воспроизвести увиденно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кратковременного показа учитель незаметно для учащихся меняет местами две картинки и просит сказать, что изменилос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уя иллюстрации из различных детских журналов, найти как можно больше различий между двумя похожими карти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путанном лабиринте из нескольких линий найти оба конца одной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ыхательные упражнения способствую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лизации внутрибрюшного дав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ю подвижности грудной кле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ластичности легочной тк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нировке грудных и межреберных мыш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нятию нервно-психического напря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лизации чувственно-эмоционального состоя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учение носовому дыхани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убокий вдох через но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ох через рот с произношением в момент удлиненного выдоха различных звуков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-а-а, о-о-о, у-у-у, ю-ю-ю, я-я-я, ш-ш-ш, с-с-с, ч-ч-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Акцент на выдохе значительно улучшает рефлекс дыхания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я в движен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дыхательного аппарата должна соответствовать характеру и ритму выполняемых движений. При этом вдох и выдох должны быть свободными и полными (заряд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хание при движении, маршировке на месте: на два шага вдох, на два шага выдох; на четыре шага вдох, на четыре - выдох. Дыхание и движение обязательно выполняются в одном ритме (отработка счета, алфави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а дыхательной гимнастики А. Стрельниковой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акачивайте» легкие, как шины, в темпоритме песен и плясок. При этом можно петь – глубокий вдох, на выдохе по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адуваем шарик» - разные варианты игры – кто быстрее/медленнее, чей больше, под музыку/сч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хание с поворотами головы( «Ушки» - правое ухо стремится к правому плечу, левое – к левому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7:09:24Z</dcterms:created>
  <dc:creator>пирогова н.в.</dc:creator>
  <dc:description/>
  <dc:language>en-US</dc:language>
  <cp:lastModifiedBy>Наташа</cp:lastModifiedBy>
  <dcterms:modified xsi:type="dcterms:W3CDTF">2018-03-25T21:30:11Z</dcterms:modified>
  <cp:revision>13</cp:revision>
  <dc:subject/>
  <dc:title>Оздоровительные технологии в образовательном процессе</dc:title>
</cp:coreProperties>
</file>