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3949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8FE-2B2D-43D3-A38C-E5F74F322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5E89-69ED-4A2A-8E15-514740AB9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394-3616-416A-8829-49049EA1B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07E7-A9AD-4F85-B6E9-4D733FB10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188B-BD35-44D5-BFA7-CA4AD24F5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B8AE-D6CF-4288-8E5A-A69EC82B6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F44-B8DD-4063-A1B9-6A58FBF3F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A575-25D4-4633-9D69-9C5D141FB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C66-0471-48CE-AAC1-CD324A6AC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FE-24C1-4297-80A8-0BAD5C3E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05F-74C9-4F51-A21E-D48EC0A4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FF2-5582-4B97-8FEF-47A3F4C5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C0F-EAE7-4F53-8764-891F13F8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0D5-71F4-414F-BABD-F5D739A8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F5F-66EB-4244-AD6E-5B1FD0E5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A36D-BF53-42C3-8CB1-A3D6D358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22FD-92F4-47E1-A2E1-F6A8312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26F-4BA2-4E51-A19C-1CDB3DF6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1C10-C8B2-4A2A-9EB5-AA9ED71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9905-8734-4E7A-95BB-B925116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1AB-4591-41A0-A6A5-87D5738A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EECD-345C-4D17-9123-78F5D850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A878-A486-4A2D-9584-5F34539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74C0-DD07-46E2-B937-6919F382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A1FA-0433-4FF1-810C-FDD5DFFD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D320-AA08-48B7-ABE2-93E81D69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8E8-1101-4932-BD9D-B2FA4536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1D0-7A18-4F17-8E06-5F1E5744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4FD-588E-4482-9C5B-99AA9DF9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535-AACD-402C-AB14-B5A0D5C7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88A-304C-43A2-B6FA-F9B1753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B0A-FE1F-4691-B2E1-90BDC87D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98C-22CB-490B-910A-A68D6C8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3949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D909-39C1-46B1-B122-1DE1CFF3471E}" type="slidenum">
              <a:rPr b="0" lang="es-E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3949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DAFD-0D5B-46F8-8BDC-FD829E1A3BA5}" type="slidenum">
              <a:rPr b="0" lang="es-E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5" descr=""/>
          <p:cNvPicPr/>
          <p:nvPr/>
        </p:nvPicPr>
        <p:blipFill>
          <a:blip r:embed="rId1"/>
          <a:srcRect l="5977" t="23392" r="31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0" y="4251240"/>
            <a:ext cx="9140760" cy="2078280"/>
          </a:xfrm>
          <a:prstGeom prst="rect">
            <a:avLst/>
          </a:prstGeom>
          <a:solidFill>
            <a:srgbClr val="e4e9e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8"/>
          <p:cNvSpPr/>
          <p:nvPr/>
        </p:nvSpPr>
        <p:spPr>
          <a:xfrm>
            <a:off x="0" y="4127400"/>
            <a:ext cx="9140760" cy="0"/>
          </a:xfrm>
          <a:prstGeom prst="line">
            <a:avLst/>
          </a:prstGeom>
          <a:ln w="50760">
            <a:solidFill>
              <a:srgbClr val="e4e9e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0" y="6448320"/>
            <a:ext cx="9140760" cy="0"/>
          </a:xfrm>
          <a:prstGeom prst="line">
            <a:avLst/>
          </a:prstGeom>
          <a:ln w="50760">
            <a:solidFill>
              <a:srgbClr val="e4e9e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4375080"/>
            <a:ext cx="6913800" cy="117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Palatino Linotype"/>
              </a:rPr>
              <a:t>Программа дополнительного профессионального образования (повышения квалификации) «Финансовая грамотность в информатике»</a:t>
            </a:r>
            <a:r>
              <a:rPr b="0" lang="ru-RU" sz="2000" spc="-1" strike="noStrike">
                <a:solidFill>
                  <a:srgbClr val="000066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2b3949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27320" y="5663880"/>
            <a:ext cx="643392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Century Gothic"/>
              </a:rPr>
              <a:t>0</a:t>
            </a:r>
            <a:r>
              <a:rPr b="0" lang="en-US" sz="2200" spc="-1" strike="noStrike">
                <a:solidFill>
                  <a:srgbClr val="800000"/>
                </a:solidFill>
                <a:latin typeface="Century Gothic"/>
              </a:rPr>
              <a:t>5</a:t>
            </a:r>
            <a:r>
              <a:rPr b="0" lang="ru-RU" sz="2200" spc="-1" strike="noStrike">
                <a:solidFill>
                  <a:srgbClr val="800000"/>
                </a:solidFill>
                <a:latin typeface="Century Gothic"/>
              </a:rPr>
              <a:t> декабря 2019 г., ПИУ РАНХиГС, г. Саратов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Рисунок 12" descr=""/>
          <p:cNvPicPr/>
          <p:nvPr/>
        </p:nvPicPr>
        <p:blipFill>
          <a:blip r:embed="rId2"/>
          <a:stretch/>
        </p:blipFill>
        <p:spPr>
          <a:xfrm>
            <a:off x="133200" y="4375080"/>
            <a:ext cx="675000" cy="900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3" descr=""/>
          <p:cNvPicPr/>
          <p:nvPr/>
        </p:nvPicPr>
        <p:blipFill>
          <a:blip r:embed="rId3"/>
          <a:stretch/>
        </p:blipFill>
        <p:spPr>
          <a:xfrm>
            <a:off x="979560" y="4454640"/>
            <a:ext cx="761760" cy="78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tretch/>
        </p:blipFill>
        <p:spPr>
          <a:xfrm>
            <a:off x="214200" y="5567400"/>
            <a:ext cx="15271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873000"/>
          <a:ext cx="8553600" cy="5651640"/>
        </p:xfrm>
        <a:graphic>
          <a:graphicData uri="http://schemas.openxmlformats.org/drawingml/2006/table">
            <a:tbl>
              <a:tblPr/>
              <a:tblGrid>
                <a:gridCol w="4276800"/>
                <a:gridCol w="4276800"/>
              </a:tblGrid>
              <a:tr h="1276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становка цели и зада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(3 мин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е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</a:tr>
              <a:tr h="32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Ставит пробл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Знакомятся с </a:t>
                      </a:r>
                      <a:r>
                        <a:rPr b="0" lang="ru-RU" sz="2400" spc="-1" strike="noStrike" u="sng">
                          <a:solidFill>
                            <a:srgbClr val="3399ff"/>
                          </a:solidFill>
                          <a:uFillTx/>
                          <a:latin typeface="Palatino Linotype"/>
                          <a:ea typeface="Times New Roman"/>
                          <a:hlinkClick r:id="rId1" action="ppaction://hlinksldjump"/>
                        </a:rPr>
                        <a:t>жизненной ситуацией</a:t>
                      </a: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, предлагают свои варианты ответов с обоснова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</a:tr>
            </a:tbl>
          </a:graphicData>
        </a:graphic>
      </p:graphicFrame>
      <p:sp>
        <p:nvSpPr>
          <p:cNvPr id="121" name="Text Box 2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ПИСАНИЕ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873000"/>
          <a:ext cx="8553600" cy="5651640"/>
        </p:xfrm>
        <a:graphic>
          <a:graphicData uri="http://schemas.openxmlformats.org/drawingml/2006/table">
            <a:tbl>
              <a:tblPr/>
              <a:tblGrid>
                <a:gridCol w="4276800"/>
                <a:gridCol w="4276800"/>
              </a:tblGrid>
              <a:tr h="1276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Актуализация зна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(10 мин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е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</a:tr>
              <a:tr h="32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Выдает карточки с заданиями, обсуждает с учениками правильность выполнения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Работают с учебником, знакомятся с основными </a:t>
                      </a:r>
                      <a:r>
                        <a:rPr b="0" lang="ru-RU" sz="2400" spc="-1" strike="noStrike" u="sng">
                          <a:solidFill>
                            <a:srgbClr val="3399ff"/>
                          </a:solidFill>
                          <a:uFillTx/>
                          <a:latin typeface="Palatino Linotype"/>
                          <a:ea typeface="Times New Roman"/>
                          <a:hlinkClick r:id="rId1" action="ppaction://hlinksldjump"/>
                        </a:rPr>
                        <a:t>термин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2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ПИСАНИЕ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873000"/>
          <a:ext cx="8553600" cy="5651640"/>
        </p:xfrm>
        <a:graphic>
          <a:graphicData uri="http://schemas.openxmlformats.org/drawingml/2006/table">
            <a:tbl>
              <a:tblPr/>
              <a:tblGrid>
                <a:gridCol w="4276800"/>
                <a:gridCol w="4276800"/>
              </a:tblGrid>
              <a:tr h="1276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Закрепление материа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(27 мин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е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</a:tr>
              <a:tr h="32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Выдает задание. Инструктирует учеников перед тестированием. Обсуждает с учениками решение проблемной задач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Делятся по рядам, решают </a:t>
                      </a:r>
                      <a:r>
                        <a:rPr b="0" lang="ru-RU" sz="2400" spc="-1" strike="noStrike" u="sng">
                          <a:solidFill>
                            <a:srgbClr val="3399ff"/>
                          </a:solidFill>
                          <a:uFillTx/>
                          <a:latin typeface="Palatino Linotype"/>
                          <a:ea typeface="Times New Roman"/>
                          <a:hlinkClick r:id="rId1" action="ppaction://hlinksldjump"/>
                        </a:rPr>
                        <a:t>задачу</a:t>
                      </a: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. Садятся за ПК, проходят онлайн-тест.  Возвращаются к жизненной ситуации , решают ее и получают результа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2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ПИСАНИЕ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873000"/>
          <a:ext cx="8553600" cy="5651640"/>
        </p:xfrm>
        <a:graphic>
          <a:graphicData uri="http://schemas.openxmlformats.org/drawingml/2006/table">
            <a:tbl>
              <a:tblPr/>
              <a:tblGrid>
                <a:gridCol w="4276800"/>
                <a:gridCol w="4276800"/>
              </a:tblGrid>
              <a:tr h="1276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Рефлекс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(3 мин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е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</a:tr>
              <a:tr h="32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Выдает карточки. Выставляет оценки обучающим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Заполняют карточку по рефлекс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ПИСАНИЕ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873000"/>
          <a:ext cx="8553600" cy="5651640"/>
        </p:xfrm>
        <a:graphic>
          <a:graphicData uri="http://schemas.openxmlformats.org/drawingml/2006/table">
            <a:tbl>
              <a:tblPr/>
              <a:tblGrid>
                <a:gridCol w="4276800"/>
                <a:gridCol w="4276800"/>
              </a:tblGrid>
              <a:tr h="1276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Домашнее зад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(2 мин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е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5915">
                        <a:alpha val="20000"/>
                      </a:srgbClr>
                    </a:solidFill>
                  </a:tcPr>
                </a:tc>
              </a:tr>
              <a:tr h="32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Выдает домашнее зад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Times New Roman"/>
                        </a:rPr>
                        <a:t>Записывают домашнее зада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dfe4f0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2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ПИСАНИЕ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5" descr=""/>
          <p:cNvPicPr/>
          <p:nvPr/>
        </p:nvPicPr>
        <p:blipFill>
          <a:blip r:embed="rId1"/>
          <a:srcRect l="5977" t="23392" r="31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0" y="4251240"/>
            <a:ext cx="9140760" cy="2078280"/>
          </a:xfrm>
          <a:prstGeom prst="rect">
            <a:avLst/>
          </a:prstGeom>
          <a:solidFill>
            <a:srgbClr val="e4e9e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0" y="4127400"/>
            <a:ext cx="9140760" cy="0"/>
          </a:xfrm>
          <a:prstGeom prst="line">
            <a:avLst/>
          </a:prstGeom>
          <a:ln w="50760">
            <a:solidFill>
              <a:srgbClr val="e4e9e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9"/>
          <p:cNvSpPr/>
          <p:nvPr/>
        </p:nvSpPr>
        <p:spPr>
          <a:xfrm>
            <a:off x="0" y="6448320"/>
            <a:ext cx="9140760" cy="0"/>
          </a:xfrm>
          <a:prstGeom prst="line">
            <a:avLst/>
          </a:prstGeom>
          <a:ln w="50760">
            <a:solidFill>
              <a:srgbClr val="e4e9e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2225520" y="4724280"/>
            <a:ext cx="6437520" cy="822600"/>
          </a:xfrm>
          <a:prstGeom prst="rect">
            <a:avLst/>
          </a:prstGeom>
          <a:ln w="0">
            <a:noFill/>
          </a:ln>
        </p:spPr>
      </p:pic>
      <p:pic>
        <p:nvPicPr>
          <p:cNvPr id="135" name="Подзаголовок 2" descr=""/>
          <p:cNvPicPr/>
          <p:nvPr/>
        </p:nvPicPr>
        <p:blipFill>
          <a:blip r:embed="rId3"/>
          <a:stretch/>
        </p:blipFill>
        <p:spPr>
          <a:xfrm>
            <a:off x="2193840" y="4456080"/>
            <a:ext cx="6437520" cy="17622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2" descr=""/>
          <p:cNvPicPr/>
          <p:nvPr/>
        </p:nvPicPr>
        <p:blipFill>
          <a:blip r:embed="rId4"/>
          <a:stretch/>
        </p:blipFill>
        <p:spPr>
          <a:xfrm>
            <a:off x="133200" y="4375080"/>
            <a:ext cx="675000" cy="900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"/>
          <p:cNvPicPr/>
          <p:nvPr/>
        </p:nvPicPr>
        <p:blipFill>
          <a:blip r:embed="rId5"/>
          <a:stretch/>
        </p:blipFill>
        <p:spPr>
          <a:xfrm>
            <a:off x="979560" y="4454640"/>
            <a:ext cx="761760" cy="7808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"/>
          <p:cNvPicPr/>
          <p:nvPr/>
        </p:nvPicPr>
        <p:blipFill>
          <a:blip r:embed="rId6"/>
          <a:stretch/>
        </p:blipFill>
        <p:spPr>
          <a:xfrm>
            <a:off x="214200" y="5567400"/>
            <a:ext cx="15271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НЯТИЙ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592200" y="1187280"/>
            <a:ext cx="765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формационная безопас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овая безопас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с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нковская карточ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рус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н-к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овые оп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4"/>
          <p:cNvSpPr/>
          <p:nvPr/>
        </p:nvSpPr>
        <p:spPr>
          <a:xfrm>
            <a:off x="7380360" y="5229360"/>
            <a:ext cx="1404720" cy="1284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4360" y="47304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 2.7.8.2 Код финансовой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66560" y="1606680"/>
            <a:ext cx="81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вершении финансовой операции платежная система просит ввести код из 4 цифр, отправленный на мобильный телефон. Дается только три попытки на ввод кода. Какая вероятность, что злоумышленник может угадать к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право 5"/>
          <p:cNvSpPr/>
          <p:nvPr/>
        </p:nvSpPr>
        <p:spPr>
          <a:xfrm>
            <a:off x="7848720" y="5084640"/>
            <a:ext cx="936360" cy="86544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право 6"/>
          <p:cNvSpPr/>
          <p:nvPr/>
        </p:nvSpPr>
        <p:spPr>
          <a:xfrm rot="10800000">
            <a:off x="501480" y="5008320"/>
            <a:ext cx="935280" cy="865080"/>
          </a:xfrm>
          <a:prstGeom prst="rightArrow">
            <a:avLst>
              <a:gd name="adj1" fmla="val 50000"/>
              <a:gd name="adj2" fmla="val 49898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447840" y="1197000"/>
            <a:ext cx="81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читайте, какое количество компьютеров будет заражено почтовым вирусом после его четвертой саморассылки, если в адресной книге пользователя содержится 10 адресов электронной по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право 4"/>
          <p:cNvSpPr/>
          <p:nvPr/>
        </p:nvSpPr>
        <p:spPr>
          <a:xfrm>
            <a:off x="7380360" y="5229360"/>
            <a:ext cx="1404720" cy="1284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684360" y="1476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Учитель\Desktop\рефлексия.png"/>
          <p:cNvPicPr/>
          <p:nvPr/>
        </p:nvPicPr>
        <p:blipFill>
          <a:blip r:embed="rId1"/>
          <a:stretch/>
        </p:blipFill>
        <p:spPr>
          <a:xfrm>
            <a:off x="0" y="789120"/>
            <a:ext cx="9124920" cy="514980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право 3"/>
          <p:cNvSpPr/>
          <p:nvPr/>
        </p:nvSpPr>
        <p:spPr>
          <a:xfrm>
            <a:off x="7618320" y="5445000"/>
            <a:ext cx="1406520" cy="12859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395280" y="2298600"/>
            <a:ext cx="855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зработч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ищенко Н.В. – МОУ «СОШ 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оропова Н.А. – МАОУ «Гимназия №1 Октябрьского райо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ейтова А.С. – ГБПОУ СО «Александрово-Гайский политехнический лиц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шурова Е.М. – ГБПОУ СО «Краснокутский политехнический лиц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иханин В.Н. – ГАПОУ СО «Новоузенский агротехнологический техник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95280" y="52056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зработка занятия 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Информационная безопас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611280" y="40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433440" y="1413000"/>
            <a:ext cx="8139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вершении финансовой операции платежная система просит ввести код из 4 цифр, отправленный на мобильный телеф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программу, не принимающую входных данных и выводящую сгенерированный случайный к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5"/>
          <p:cNvSpPr/>
          <p:nvPr/>
        </p:nvSpPr>
        <p:spPr>
          <a:xfrm>
            <a:off x="7380360" y="5229360"/>
            <a:ext cx="1404720" cy="1284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Учитель\Desktop\решение.png"/>
          <p:cNvPicPr/>
          <p:nvPr/>
        </p:nvPicPr>
        <p:blipFill>
          <a:blip r:embed="rId1"/>
          <a:stretch/>
        </p:blipFill>
        <p:spPr>
          <a:xfrm>
            <a:off x="1403280" y="976320"/>
            <a:ext cx="6164280" cy="5981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-181080" y="4428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ЕШЕНИЕ ЗАДАЧИ 2.7.8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д финансовой грамо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5"/>
          <p:cNvSpPr/>
          <p:nvPr/>
        </p:nvSpPr>
        <p:spPr>
          <a:xfrm>
            <a:off x="7380360" y="5229360"/>
            <a:ext cx="1404720" cy="1284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611280" y="40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НЛАЙН-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433440" y="104940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onlinetestpad.com/ru/test/64399-informacionnaya-bezopa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rcRect l="18177" t="30997" r="16231" b="28362"/>
          <a:stretch/>
        </p:blipFill>
        <p:spPr>
          <a:xfrm>
            <a:off x="264960" y="2060640"/>
            <a:ext cx="8475840" cy="2954160"/>
          </a:xfrm>
          <a:prstGeom prst="rect">
            <a:avLst/>
          </a:prstGeom>
          <a:ln w="0">
            <a:noFill/>
          </a:ln>
        </p:spPr>
      </p:pic>
      <p:sp>
        <p:nvSpPr>
          <p:cNvPr id="161" name="Стрелка вправо 5"/>
          <p:cNvSpPr/>
          <p:nvPr/>
        </p:nvSpPr>
        <p:spPr>
          <a:xfrm>
            <a:off x="7380360" y="5229360"/>
            <a:ext cx="1404720" cy="1284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0b57a"/>
          </a:solidFill>
          <a:ln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50920" y="189000"/>
          <a:ext cx="8713800" cy="5819760"/>
        </p:xfrm>
        <a:graphic>
          <a:graphicData uri="http://schemas.openxmlformats.org/drawingml/2006/table">
            <a:tbl>
              <a:tblPr/>
              <a:tblGrid>
                <a:gridCol w="2232000"/>
                <a:gridCol w="648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Palatino Linotype"/>
                        </a:rPr>
                        <a:t>Тема инфор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Информационная безопас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Palatino Linotype"/>
                        </a:rPr>
                        <a:t>Раздел Ф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Риски и финансовая безопас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Palatino Linotype"/>
                        </a:rPr>
                        <a:t>Вид деятельност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Palatino Linotype"/>
                        </a:rPr>
                        <a:t>Форма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Комбинирова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Palatino Linotype"/>
                        </a:rPr>
                        <a:t>Целевая 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f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Учащиеся 7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f2c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Palatino Linotype"/>
                        </a:rPr>
                        <a:t>Уровень 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Основное общее 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ea7"/>
                    </a:solidFill>
                  </a:tcPr>
                </a:tc>
              </a:tr>
              <a:tr h="1801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Palatino Linotype"/>
                        </a:rPr>
                        <a:t>Учебно-методическое 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f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Информатика. Учебник для 7 класса / Н.Д. Угринович – М.: БИНОМ. Лаборатория знаний, 201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55640" y="1890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ЕДАГОГИЧЕСКАЯ ХАРАКТЕРИСТИК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79280" y="1268280"/>
            <a:ext cx="87138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едставления об информационной и финансов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уч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знакомить с понятием информационной и финансов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ть коммуникативные навыки через умение излагать мысли и вести ди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ь составлять план действий для предотвращения угрозы информацион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спиты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спитывать ответственность за свои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1128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79280" y="1268280"/>
            <a:ext cx="87138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целостного мировоззрения, соответствующего современному уровню развития науки и общественной практики, учитывающего социальное, культурное финансовое многообразие  современного ми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владение базовыми представлениями в области финансовой грамотности и информационной безопасности (воспитание культуры грамотного финансового пове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61128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468360" y="1484280"/>
            <a:ext cx="813744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находить, критически оценивать и интерпретировать актуальную финансовую информацию в различных источни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оценивать различную финансовую информ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применять знания из области информатики для формирования разумного финансового поведения в различных жизнен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1128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24000" y="981000"/>
            <a:ext cx="85690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ПРЕДМЕТ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определять понятия, создавать обобщения, устанавливать причинно-следственные связи, строить логическое рассуждение, умозаключение и делать вывод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умений представлять информацию в зависимости от поставленны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излагать свое мнение, аргументировать свою точку зрения и давать оценку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0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ПИСАНИЕ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484280"/>
          <a:ext cx="8713800" cy="4305240"/>
        </p:xfrm>
        <a:graphic>
          <a:graphicData uri="http://schemas.openxmlformats.org/drawingml/2006/table">
            <a:tbl>
              <a:tblPr/>
              <a:tblGrid>
                <a:gridCol w="5229360"/>
                <a:gridCol w="348444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одолжительность (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рганизационный мо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становка цели и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Актуализац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Закрепление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6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91960" y="1628640"/>
          <a:ext cx="8553600" cy="4434120"/>
        </p:xfrm>
        <a:graphic>
          <a:graphicData uri="http://schemas.openxmlformats.org/drawingml/2006/table">
            <a:tbl>
              <a:tblPr/>
              <a:tblGrid>
                <a:gridCol w="4276800"/>
                <a:gridCol w="4276800"/>
              </a:tblGrid>
              <a:tr h="6462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Организационный  этап (1 мин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12240">
                      <a:solidFill>
                        <a:srgbClr val="63891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12240">
                      <a:solidFill>
                        <a:srgbClr val="63891f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63891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Деятельность учен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12240">
                      <a:solidFill>
                        <a:srgbClr val="63891f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63891f">
                        <a:alpha val="20000"/>
                      </a:srgbClr>
                    </a:solidFill>
                  </a:tcPr>
                </a:tc>
              </a:tr>
              <a:tr h="2721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Calibri"/>
                        </a:rPr>
                        <a:t>Проверяет присутствующи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e4e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Palatino Linotype"/>
                          <a:ea typeface="Calibri"/>
                        </a:rPr>
                        <a:t>Приветствуют учител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3891f"/>
                      </a:solidFill>
                    </a:lnL>
                    <a:lnR w="5760">
                      <a:solidFill>
                        <a:srgbClr val="63891f"/>
                      </a:solidFill>
                    </a:lnR>
                    <a:lnT w="5760">
                      <a:solidFill>
                        <a:srgbClr val="63891f"/>
                      </a:solidFill>
                    </a:lnT>
                    <a:lnB w="5760">
                      <a:solidFill>
                        <a:srgbClr val="63891f"/>
                      </a:solidFill>
                    </a:lnB>
                    <a:solidFill>
                      <a:srgbClr val="e4e9ef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17"/>
          <p:cNvSpPr/>
          <p:nvPr/>
        </p:nvSpPr>
        <p:spPr>
          <a:xfrm>
            <a:off x="61128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ПИСАНИЕ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Учитель</cp:lastModifiedBy>
  <dcterms:modified xsi:type="dcterms:W3CDTF">2019-12-04T12:59:34Z</dcterms:modified>
  <cp:revision>1010</cp:revision>
  <dc:subject/>
  <dc:title>Diapositiva 1</dc:title>
</cp:coreProperties>
</file>