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CC9-64EE-4F7A-ADB4-4682D49A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935-A747-415A-B7F4-A92AE8C4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5F37-4381-4B8E-A2F2-1B78605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AEA4A-9CB7-41EA-A34E-34808BDB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7292A-BA37-4F95-A4B5-8EC8A3C9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5C5F1-A999-44BB-B854-8F295D4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D3B32-313B-48CF-9F0C-C853362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43BEA-0A23-4C15-AA87-4DC52DD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CA79C-F32A-4F36-B257-F790F4C3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D2C1-2E80-4520-860A-9A8AE85A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B1A5-FAB4-4613-BAD0-AEEAB8C6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C1443-949F-441C-B83A-ECB4E52C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510-9C14-49DC-8C11-823D28A8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53CB-1F46-45D9-AFEC-7C6E3390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6B0CA-2126-4D59-8E99-AD429360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4E896-6F5A-4777-9513-756C80D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020F-B94D-45AE-B2A7-7036BC48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C68E3-E3E2-4825-B1CA-3A88C4D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3CB17-5960-4721-A6D2-B4EB0E9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28C0-F384-41DF-BECB-9FA3EBF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AF2E5-932F-46A5-93E3-DD380DA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F5352-3594-40B6-BC5C-B0D842A3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33137-5D85-4665-914E-CD1E3F73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27E-EB01-4770-8146-3199B9BD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2F37A-F58C-4336-A71E-95EF1708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C1EB9-D7F3-48B8-B77B-00851407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A984-1781-4A46-BDD0-A3C8B4E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9FC2-4DB6-4CDF-B79D-67FAB63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E4C8-A27A-4831-8995-135A5D72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8B0D7-8D63-4241-A79F-BB17C0A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2AC9-A942-4BFC-A6C1-66CEF0B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E511-A295-4E37-B338-8DE0EFD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2F02-8EF5-4082-996D-A0FED01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FD4EA-A55D-4A52-9F66-998CF63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D35A-4883-4021-AACF-BA610A1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1244C-679D-447D-BED5-B1245FE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05071-8F44-41AB-A9EB-8253AD7B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39E8C-F78C-476A-8B7D-9CAF8F8E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F3573-B09D-4976-87A6-23CE9135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BD8A8-D236-4C1B-B339-C1C41F5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7FC7D-955E-47E4-BDC7-480C5C71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9A0FA-A55D-41B4-843F-CBB59E2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C6AB-DA63-4CE5-AD90-A385184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9AADD-99F9-4759-859C-F23D14EB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2D2E8-0494-48E5-AEA8-E32B381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E3A-1053-4912-AD6C-DEC8C63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6A361-CBBC-4C42-8CFB-A9BBCFD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371D5-A7B7-4F2F-AA11-0A75CDC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7E448-7F6E-48A7-8C18-9C8E69E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175C9-CB68-48BC-8B9C-AA0DA409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5A3B7-5E3C-4737-B926-032E1770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84550-1DC2-4510-B819-E26E59E8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707B0-626D-4EB7-9737-077344D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16F4A-E10E-41C6-A0C4-F3D98FF2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FD099-96A0-4257-8D6B-6F9081C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A11E9-6EBE-42AB-8FC1-AB91424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4B6F-2988-4DA9-B1C7-126EBE43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D9471-6157-4768-8660-28B27D1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81AB2-862E-4477-9A84-9E5A05C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CDFCD-458E-43B3-B9CA-7540F95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DF49B-039B-42F8-9D67-01F731A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CBBE3-2F38-4075-9813-8396ADC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A52D8-904C-4A43-B2D1-6C0B49F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82BB9-F6ED-44C5-B154-7BC97D3D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166B3-7700-4987-8573-029CE87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EC634-953E-4FF0-BB57-2C2E92F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44BFA-8163-4388-AF94-235495FA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90AD-E1E3-4070-9A82-E7270F9A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B4026-16FE-4373-98C8-34DEA8A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0BE7C-8843-43C7-BAB7-4020929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13385-B4C3-44CD-AD3B-77643AE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69454-0B8A-40EE-AF73-B49FF96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1FFE6-7C67-48A1-80AD-90496CD7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9CD3B-1B4A-45BE-83C6-B56EE9D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6950F-4C4F-4657-A317-243CFD5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C181F-7134-4CCF-99F3-BEFCA6EB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754A5-CF5D-4FC4-A630-31E10757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081-58B6-41C6-9ECC-174F10D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926A-30F6-4E9B-9353-F94B4C83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B24-5FBD-4438-AA25-2AB6819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E1B-0B7D-4383-826F-10469A9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BA58-5293-4499-B7E9-F31BF5B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01B-2B8D-4BD3-9387-9C63B5D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6E37-6799-48F2-B1CF-1C30D139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76C7-B7E1-432A-BEE8-A8A5773B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630-E590-458A-92CE-8B967AEF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0685-0ADD-4D82-9FA1-012D2926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527F-38B7-440C-A08C-323A34B5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5DEE-8022-4AD1-88AF-088DB28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03A0-EB85-4D45-9698-7379D12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264A-F96D-42B0-8B7B-4AABAB5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FCC-104E-4E5F-987A-AB9111A1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F35A-E9D2-41FF-8F2D-60FDE6B0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1B07-B2B6-4F6F-BE10-B6E2C50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8B9A-AE8D-45A5-915A-6E866B4E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4B4E-9007-4465-B562-EEC092F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8093-E5F2-4710-A19C-D86A5253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CF93-8641-4F15-8C29-0E0294F5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F15E-4BE7-4311-9E94-3EE8802D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F146-744C-472D-AFA5-3ED33643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FF64-E4C8-420B-8193-F5C5F7FB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C7A4-0AA0-43C9-8CAE-CA496A7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4CA-C4D5-4E2A-B44B-FDB2E8E6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BF65-20EA-4FDE-B506-8ED097B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33B8-ADAB-49D2-9515-5AA229E7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D146-B2D7-4124-B6B7-C7601C5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A590-B6B4-458E-AFAA-898B8D7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F2D5-C7CA-4B73-883E-4DAD86D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C2B2-E830-423C-8127-E670141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057A-3C70-443E-958B-71ADBF4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5B2E-28CF-468F-8CE9-6F576FD5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FF28-EE79-41A3-8B36-8F8D6484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7261-94BF-431B-95BA-F72BF0A0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32D-BB7C-44F8-A9C1-CCB737D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2416-4C8C-4591-8797-7F50A008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E4A1-BB89-4D2C-A870-8476915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27F35-FAA7-493B-B618-73A1165D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FB6B-D2AD-44AD-B26E-34C72DCA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AFB4-9F13-4261-89F1-1A1B2CAD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EEFB-8E64-492C-9AB2-842801F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38D4C-76A9-4930-B231-6CF0E52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90EE-C75F-4812-917F-3BF8EDB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5875-E839-40A9-87EF-4CC7D5B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B037-2A44-4482-A07E-57D2992D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05E-37E8-4408-ACFF-3899FDF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2C41-DB73-4488-8582-D1681C36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39C35-54A8-4C1F-8744-5B37B4B2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D0E6-7C4F-4D05-B41D-968DCFEA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4AA7-BEF3-4725-8A22-C010B6E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A741-EF1B-4742-8D56-9696492F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0AF4-D15F-4D43-BB26-77B8D94A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FA09-A854-43C8-8154-D5FCDFD6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2A8F-D13A-4668-8B2E-7501B65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78C4-1192-476D-A7D4-15C4F23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7B1D-70C7-42C2-88A8-DC3C735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0E9-4F38-4827-A0F4-E7DB067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465F-C302-4C7F-AD5D-A57446C6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729C4-74FC-4159-8D39-FF01DAD9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33FE-896E-4A92-849C-5CF2F603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35C4-5128-4FDB-A7B9-AB44827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4493E-9115-4A5A-8DE9-5E3AC29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219F-6F90-44B9-8F2D-9674886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1849-E288-4ADC-B601-916BDA3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AC3A-3CD0-4765-B9E3-E504ED5E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B7F5-5342-4A12-B9CE-24800F47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C0C3-2AA6-420A-AF48-3DBB75C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E8C-C563-48EC-9645-D7725B7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2762-0DB5-451D-B5A0-9302C130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3459A-A983-44E9-9CE2-061E168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F95C9-94C1-4FE3-A66D-BDF7000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FF3F-50B1-4BAC-8A6F-47060FD1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AB8A7-63EA-4F15-AF5A-A175FB3F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9D5F7-2C81-4F7F-83E0-F1562E4A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E1B7B-4FC0-4C66-ABC6-2730856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8328-BD36-48B3-86D1-80DD1C2C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AB0C-0632-400A-A969-9BFBDC64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7692-B1E1-4EDC-A8E6-BF74EEFD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EBD-DC26-4102-9193-E9C6429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AB2D-AEE0-4107-A830-7E9A3AA5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D0EE1-4862-4CC1-AA20-9D54304C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88F8D-69C7-48F2-85F3-142E4477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3F8BE-C809-4FF9-928E-F174ADB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EF9B-EE0A-435E-99FB-B7AF1993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B8E4-0EC5-45FB-BE43-D0602903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844F-3830-4A89-89E6-256EFBB9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714B2-6C09-4DFF-9BB0-88F4B3A8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8859-4C89-4878-8855-F39A8002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6359B-B8AF-40A7-AE9D-CD9ABC8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CE37-BF86-4947-8E17-3F34B35418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43E9-DBCE-4690-B562-F8B474C02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F65-5A37-467E-AD65-CF635F5971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F6E-E62F-4891-9318-76361E5DC5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167-307F-4946-86E9-8F984E067A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515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E2F1-263B-45C1-B3BA-5A43D7E425B7}" type="slidenum">
              <a:rPr b="0" lang="ru-RU" sz="1400" spc="-1" strike="noStrike">
                <a:solidFill>
                  <a:srgbClr val="1515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e8453"/>
                </a:gs>
                <a:gs pos="100000">
                  <a:srgbClr val="feec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eec94"/>
                </a:gs>
                <a:gs pos="50000">
                  <a:srgbClr val="ffffff"/>
                </a:gs>
                <a:gs pos="100000">
                  <a:srgbClr val="feec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51515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7037-F063-4827-B896-15F698D12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F55-02D3-4F90-95D7-53E34C5F69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31D1-8086-4E65-A2F0-663785500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188-77ED-49CF-97A5-AAC128739C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2F8-4CC9-4EA2-957E-6BFC85444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599-864E-44C8-80BC-CA5871F45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1C2-4B62-4CB2-985D-E55046013F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1515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51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51515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823-FB10-4F2B-904F-19007C09D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1515"/>
                </a:solidFill>
                <a:latin typeface="Times New Roman"/>
              </a:rPr>
              <a:t>Урок русского языка в 4 классе </a:t>
            </a:r>
            <a:br>
              <a:rPr sz="3600"/>
            </a:br>
            <a:r>
              <a:rPr b="1" lang="ru-RU" sz="3600" spc="-1" strike="noStrike">
                <a:solidFill>
                  <a:srgbClr val="151515"/>
                </a:solidFill>
                <a:latin typeface="Times New Roman"/>
              </a:rPr>
              <a:t>по теме:</a:t>
            </a:r>
            <a:br>
              <a:rPr sz="3600"/>
            </a:br>
            <a:r>
              <a:rPr b="1" lang="ru-RU" sz="3600" spc="-1" strike="noStrike">
                <a:solidFill>
                  <a:srgbClr val="151515"/>
                </a:solidFill>
                <a:latin typeface="Times New Roman"/>
              </a:rPr>
              <a:t>« Однородные члены предложения».</a:t>
            </a:r>
            <a:endParaRPr b="1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1515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15151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51515"/>
                </a:solidFill>
                <a:latin typeface="Times New Roman"/>
              </a:rPr>
              <a:t>Литвиненко Н</a:t>
            </a:r>
            <a:r>
              <a:rPr b="1" lang="en-US" sz="2800" spc="-1" strike="noStrike">
                <a:solidFill>
                  <a:srgbClr val="151515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151515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51515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151515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51515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151515"/>
                </a:solidFill>
                <a:latin typeface="Times New Roman"/>
              </a:rPr>
              <a:t>учитель начальных классов МБОУ «Средняя общеобразовательная школа №72 с углубленным изучением немецкого языка»</a:t>
            </a:r>
            <a:endParaRPr b="0" lang="en-US" sz="28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1. </a:t>
            </a: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Члены предложения называются однородными, если: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б) отвечают на один и тот же вопрос и относятся к одному и тому же члену предложения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2. Как связаны  между собой однородные члены предложения?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в) интонацией перечисления и союзами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3. Найдите предложения с однородными членами: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Ласточка питается мухами, комарами, мошками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4. Укажите предложения, где знаки препинания расставлены верно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Работа была трудная, но интересная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515"/>
                </a:solidFill>
                <a:latin typeface="Times New Roman"/>
              </a:rPr>
              <a:t>Домашнее задание.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Упражнение 101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СПАСИБО ЗА РАБОТУ!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633" name="Picture 5" descr="Рисунок2"/>
          <p:cNvPicPr/>
          <p:nvPr/>
        </p:nvPicPr>
        <p:blipFill>
          <a:blip r:embed="rId1"/>
          <a:stretch/>
        </p:blipFill>
        <p:spPr>
          <a:xfrm>
            <a:off x="2411280" y="1773360"/>
            <a:ext cx="4032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5" descr="00040988"/>
          <p:cNvPicPr/>
          <p:nvPr/>
        </p:nvPicPr>
        <p:blipFill>
          <a:blip r:embed="rId1"/>
          <a:stretch/>
        </p:blipFill>
        <p:spPr>
          <a:xfrm>
            <a:off x="395280" y="6922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684360" y="692280"/>
          <a:ext cx="7545240" cy="544968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ЧТО ДОЛЖНЫ ЗНАТЬ:</a:t>
                      </a:r>
                      <a:endParaRPr b="0" lang="en-US" sz="24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51515"/>
                      </a:solidFill>
                    </a:lnL>
                    <a:lnR w="5760">
                      <a:solidFill>
                        <a:srgbClr val="151515"/>
                      </a:solidFill>
                    </a:lnR>
                    <a:lnT w="13680">
                      <a:solidFill>
                        <a:srgbClr val="151515"/>
                      </a:solidFill>
                    </a:lnT>
                    <a:lnB w="5760">
                      <a:solidFill>
                        <a:srgbClr val="15151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ЧТО ДОЛЖНЫ УМЕТЬ:</a:t>
                      </a:r>
                      <a:endParaRPr b="0" lang="en-US" sz="24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51515"/>
                      </a:solidFill>
                    </a:lnL>
                    <a:lnR w="13680">
                      <a:solidFill>
                        <a:srgbClr val="151515"/>
                      </a:solidFill>
                    </a:lnR>
                    <a:lnT w="13680">
                      <a:solidFill>
                        <a:srgbClr val="151515"/>
                      </a:solidFill>
                    </a:lnT>
                    <a:lnB w="5760">
                      <a:solidFill>
                        <a:srgbClr val="151515"/>
                      </a:solidFill>
                    </a:lnB>
                    <a:noFill/>
                  </a:tcPr>
                </a:tc>
              </a:tr>
              <a:tr h="42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Признаки однородных членов предложения</a:t>
                      </a:r>
                      <a:endParaRPr b="0" lang="en-US" sz="28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51515"/>
                      </a:solidFill>
                    </a:lnL>
                    <a:lnR w="5760">
                      <a:solidFill>
                        <a:srgbClr val="151515"/>
                      </a:solidFill>
                    </a:lnR>
                    <a:lnT w="5760">
                      <a:solidFill>
                        <a:srgbClr val="151515"/>
                      </a:solidFill>
                    </a:lnT>
                    <a:lnB w="13680">
                      <a:solidFill>
                        <a:srgbClr val="15151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Находить в тексте однородные члены предложения.</a:t>
                      </a:r>
                      <a:endParaRPr b="0" lang="en-US" sz="28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Правильно расставлять знаки препинания.</a:t>
                      </a:r>
                      <a:endParaRPr b="0" lang="en-US" sz="28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51515"/>
                          </a:solidFill>
                          <a:latin typeface="Times New Roman"/>
                        </a:rPr>
                        <a:t>Употреблять в своей речи.</a:t>
                      </a:r>
                      <a:endParaRPr b="0" lang="en-US" sz="2800" spc="-1" strike="noStrike">
                        <a:solidFill>
                          <a:srgbClr val="151515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51515"/>
                      </a:solidFill>
                    </a:lnL>
                    <a:lnR w="13680">
                      <a:solidFill>
                        <a:srgbClr val="151515"/>
                      </a:solidFill>
                    </a:lnR>
                    <a:lnT w="5760">
                      <a:solidFill>
                        <a:srgbClr val="151515"/>
                      </a:solidFill>
                    </a:lnT>
                    <a:lnB w="13680">
                      <a:solidFill>
                        <a:srgbClr val="15151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1515"/>
                </a:solidFill>
                <a:latin typeface="Times New Roman"/>
              </a:rPr>
              <a:t>Знаки препинания при однородных членах предложения.</a:t>
            </a:r>
            <a:endParaRPr b="1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и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и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, и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, а </a:t>
            </a:r>
            <a:r>
              <a:rPr b="1" lang="ru-RU" sz="4800" spc="-1" strike="noStrike">
                <a:solidFill>
                  <a:srgbClr val="151515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(может употребляться союз но)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515"/>
                </a:solidFill>
                <a:latin typeface="Times New Roman"/>
              </a:rPr>
              <a:t>Текст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151515"/>
                </a:solidFill>
                <a:latin typeface="Times New Roman"/>
              </a:rPr>
              <a:t>Наступила осень.  Разноцветные листья летят над поляной. Листья кружатся. С наступлением осени поля опустели. Луга опустели. Потянулись к югу вереницы гусей. Потянулись к югу вереницы уток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51515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515"/>
                </a:solidFill>
                <a:latin typeface="Times New Roman"/>
              </a:rPr>
              <a:t>Расставить знаки препинания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Дождик  капал  моросил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Припускал  стучал  косил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Ливнем лил  стеной стоял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Барабанил  травы мял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515"/>
                </a:solidFill>
                <a:latin typeface="Times New Roman"/>
              </a:rPr>
              <a:t>Расставить знаки препинания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63280" y="15998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Дождик  капал, моросил,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Припускал, стучал, косил,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Ливнем лил, стеной стоял,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51515"/>
                </a:solidFill>
                <a:latin typeface="Times New Roman"/>
              </a:rPr>
              <a:t>Барабанил, травы мял.</a:t>
            </a:r>
            <a:endParaRPr b="0" lang="en-US" sz="36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515"/>
                </a:solidFill>
                <a:latin typeface="Times New Roman"/>
              </a:rPr>
              <a:t>Игра «Ловушка»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515"/>
                </a:solidFill>
                <a:latin typeface="Times New Roman"/>
              </a:rPr>
              <a:t>Найдите  предложение, в котором правильно расставлены знаки препинания. 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51515"/>
                </a:solidFill>
                <a:latin typeface="Times New Roman"/>
              </a:rPr>
              <a:t>В октябре берёзы, и орешник стали золотыми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51515"/>
                </a:solidFill>
                <a:latin typeface="Times New Roman"/>
              </a:rPr>
              <a:t>Листья осины не желтеют, а краснеют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51515"/>
                </a:solidFill>
                <a:latin typeface="Times New Roman"/>
              </a:rPr>
              <a:t>День выдался ясный но холодный.</a:t>
            </a: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1. Члены предложения называются однородными, если: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отвечают на один и тот же вопрос и относятся к разным членам предложения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б) отвечают на один и тот же вопрос и относятся к одному и тому же члену предложения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в) пишутся с одной и той же орфограммой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2. Как связаны  между собой однородные члены предложения?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не связаны  б) предлогами  в) интонацией перечисления и союзами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3. Найдите предложения с однородными членами: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Ласточка питается мухами, комарами, мошками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б) Цапли живут на болоте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в) И потянулись на юг косяки журавлей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51515"/>
                </a:solidFill>
                <a:latin typeface="Times New Roman"/>
              </a:rPr>
              <a:t>4. Укажите предложения, где знаки препинания расставлены верно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а) Работа была трудная, но интересная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б) Весной расцветают подснежники, тюльпаны, и ландыши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Times New Roman"/>
              </a:rPr>
              <a:t>в) В роще птицы свистят, поют щебечут.</a:t>
            </a:r>
            <a:endParaRPr b="0" lang="en-US" sz="2000" spc="-1" strike="noStrike">
              <a:solidFill>
                <a:srgbClr val="15151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2:43:11Z</dcterms:created>
  <dc:creator>Ирина</dc:creator>
  <dc:description/>
  <dc:language>en-US</dc:language>
  <cp:lastModifiedBy>Светлана</cp:lastModifiedBy>
  <dcterms:modified xsi:type="dcterms:W3CDTF">2019-12-13T14:45:03Z</dcterms:modified>
  <cp:revision>34</cp:revision>
  <dc:subject/>
  <dc:title>Слайд 1</dc:title>
</cp:coreProperties>
</file>