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01A-634F-4068-A028-89763906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6D8-C496-4E43-8A7A-052001F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5A6F4-1123-45F5-A5D3-C3CE698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AB792-5556-4619-9D9C-5677D824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B7F8-C0B0-480E-97A5-ECE6CE32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EEFEF-5B3A-42A9-8D7B-97194A9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0706-C09C-4AC5-9DE4-437BEB39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2423-F2A2-4077-915E-6217E1C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C7B84-23C6-4F2B-AD0B-F51A2B1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1F9F7-9502-4EAC-A82C-445C7002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3EE9F-B6F4-4047-9938-104232D8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092-CB0B-43E3-A5D2-8044DCED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F31-61E3-4BC4-BB7A-DDBF08F8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9CE-A6B0-480F-A0EB-DE2BA5A7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62BA-3C3F-4B19-8A46-A3236F8D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CB7-EF9A-4B36-BC18-2E8832B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774E-7D14-40F2-8F1E-1A9AC0F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B8F0-3E32-4D00-AD2B-396E688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52B-3F76-4ACB-A105-BFAA86F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2A6-D555-488F-996A-23EE0EA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7D3-B2D9-46D2-AE5A-D9C304FC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2046-4AE2-490A-B656-75711FB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BAF-2E71-477A-8D97-F077864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9E9-64D6-4A36-9CA0-9B16C944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DBA2-11C8-4140-9D00-BF5FDFAC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DD53-7187-4968-BD66-2C709108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D0A1-2EB9-4A38-96FA-19F3E541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00CC-E489-422C-BCE6-4F4FD4D0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EE76-3A52-426D-880C-6E6A44E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5E79-8372-48CD-84CC-256F2F6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592B3-1C07-448D-99A5-62549F1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3BB-DC9A-42BE-A1E1-A6E5E538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20A5-3646-4693-BEA2-4A3F844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07C5-D35C-49A4-AD22-37A32BF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3DEE-B4FD-4EDC-A383-7AFCCC7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4ED3-0BA6-432F-A08A-FF9702F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0E42-277B-4039-AF16-AF3800FC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E629-D215-4236-A3F7-8230A967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D3AD-4371-4A39-A4D9-3B17EA8D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92DF-7EFD-42A7-A0B4-BA9ACF0A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127F-F950-4043-A819-F412A2C3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DEF9-CBA6-47CC-9C67-BACEE85B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5C1-2FC3-45F5-8315-DD60826E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08D7-BE3D-4776-8AFF-3700767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C13F-81E0-4CF0-AE5F-E10F6D28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2D1C-8315-4FFF-96FA-793A094B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554F-3095-4772-A84E-5655AE5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5DFB-CAB5-471B-A25B-7ACB2FD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62F7-4168-43D7-9C36-6083897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E49E-D6F3-45B7-AF6C-9FE2CDD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A30C-7789-4D3F-B80B-47A4876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CDBC-D17D-4CE8-8678-3B3F9724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EAD1-FB10-48F0-BEC3-623D5A44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EBA-9BFC-4702-BB77-C941E7F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98211-EB01-45EA-8B7E-58301C11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C352-6F53-47E6-AC3F-8729890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0B0F-8690-4295-A5E2-49F4CFF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A3D7-E906-41D7-B713-87D2113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3C6C-6425-4A17-929A-67384A4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4115-9494-4D1B-AE40-47CFEBF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856E-7AE5-4963-B391-89F336C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D3A07-2FC8-4F98-8C11-E8B03F45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BD05-7428-45A5-BC7B-91B5297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48FC-35C1-40DA-9247-8FFFF12A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D97-178E-4567-8163-7FD7BB6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C1F0-DCB4-4984-8E6E-6921A47D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1CB6-2B2C-4EAB-B362-DEF345F5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97F2-DC5A-4BD3-B9DC-873581E6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D9D8-11DB-47A7-867A-DB3C2A1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6D728-14DB-46D6-9A89-71BBA5D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8803-9864-4EF1-81D8-7A0F653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087E-DCAD-438E-82C9-C0B4925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FFD3-9303-4B2A-A16C-96B9484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861BF-3E1C-4205-A88C-DCC2BDC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F1D4-2AF5-4D4A-8C8D-AB241EE1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367-04AF-4E3E-A5BA-572D0E4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F618-825B-4C29-9B42-CDF7A582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5F82-3667-470D-831D-BDBC4D05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5A767-F621-45DA-9E15-59108D90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3D58-8104-43B2-B56C-DE44227B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DC81-F1D2-4E6B-8648-5B32DDAE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24D5-265F-4E99-8AFF-F952CB0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1A55-106F-4FC0-AC7E-532742B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428C-D534-465F-8304-285C24E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2A7F9-1231-4D46-92DD-15B77FBD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4BC6D-56B3-43BD-A179-D9C4AC3D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966-0441-49BD-B9CE-1189C7B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E95B5-95B3-413D-BCA1-13C79DA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8108-87BD-4761-8A02-294E1B2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4C93-C1D4-4A0B-9A8D-68BF8ADD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EBD9-1F8E-4AE7-8623-C7AE3313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E207-81AF-4B87-877C-C99AE25C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D8A7-DD52-4EE8-956C-48A48848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F780-280A-49CB-8E61-0BC8632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9EA1-D51E-41CD-9243-E0C39F4B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AEE8-B905-43D4-B970-F6DCB813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936A-BA76-48CE-AFC1-86187DFC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193-92B8-474C-A4CE-FFAD2519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092C-5D59-4549-B40B-D2F8AF31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62A0-A339-442A-A7F6-BFF1DADB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8E384-F1A9-462C-9B82-FF7EC9A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DC945-5C54-490D-BF6F-C341B3EB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2F624-AFD5-4A76-9D31-DA80F1B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DFAD5-C16E-4F9B-836D-B23FF8AD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7A3D9-1267-4606-8ACE-7FCBF96C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3BA4A-2FBA-4A09-B81E-48F3F987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03413-4905-46A1-8D13-DDD6A5D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46633-BA05-4629-8984-71E70FA1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168-0D0C-4547-977B-E0608746DD6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45D8-10DB-4231-B7D3-E6D3FDFC933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571-659A-465A-A8B3-F762DBD368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86A1-455F-4B73-9742-A69B40B310A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DBE0-953F-4C59-8D66-C4578199ED9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64CB-881D-4098-972A-552C221E14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50E-EB41-4CB4-98B2-D08306BA5A4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572-052C-41FA-A045-6E4C4BDD970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5B2-185B-40DA-B73F-C53BAB3B9EB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47760" y="2193840"/>
            <a:ext cx="8899560" cy="2000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4038480" y="457200"/>
            <a:ext cx="48006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рометр - анеро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такого барометра имеется металлическая коробочка, которая не содержит воздуха и очень чувствительна к изменению атмосферного давления. Как только давление увеличивается, коробочка сжимается» при уменьшении давления коробочка расширяется. С коробочкой соединена стрелка, которая реагирует на изменения ее объема. По указанию стрелки на шкале можно узнать величину атмосферного давления в миллиметрах ртутного стол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ÑÐµÐºÑÑ Ð¿ÑÐ¸ Ð½Ð°Ð²ÐµÐ´ÐµÐ½Ð¸Ð¸"/>
          <p:cNvPicPr/>
          <p:nvPr/>
        </p:nvPicPr>
        <p:blipFill>
          <a:blip r:embed="rId1"/>
          <a:stretch/>
        </p:blipFill>
        <p:spPr>
          <a:xfrm>
            <a:off x="152280" y="1371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66680" y="1052640"/>
            <a:ext cx="7239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мосферное давл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ровне мор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ывают, что атмосферное давление в местностях, лежащих на уровне моря, в среднем равно 760 мм.рт.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101,3 г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1"/>
          <p:cNvSpPr/>
          <p:nvPr/>
        </p:nvSpPr>
        <p:spPr>
          <a:xfrm>
            <a:off x="1371600" y="228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нение атмосфер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"/>
          <p:cNvSpPr/>
          <p:nvPr/>
        </p:nvSpPr>
        <p:spPr>
          <a:xfrm>
            <a:off x="609480" y="1295280"/>
            <a:ext cx="79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больших подъёмах в среднем на каждые 12 м подъёма давление уменьшается на 1 мм.рт.ст. (или на 133,3 гП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h = 12 м/мм.рт.с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ÐÑÐ¸ Ð½ÐµÐ±Ð¾Ð»ÑÑÐ¸Ñ Ð¿Ð¾Ð´ÑÑÐ¼Ð°Ñ Ð² ÑÑÐµÐ´Ð½ÐµÐ¼ Ð½Ð° ÐºÐ°Ð¶Ð´ÑÐµ 12 Ð¼ Ð¿Ð¾Ð´ÑÑÐ¼Ð° Ð´Ð°Ð²Ð»ÐµÐ½Ð¸Ðµ ÑÐ¼ÐµÐ½ÑÑÐ°ÐµÑÑÑ"/>
          <p:cNvPicPr/>
          <p:nvPr/>
        </p:nvPicPr>
        <p:blipFill>
          <a:blip r:embed="rId1"/>
          <a:stretch/>
        </p:blipFill>
        <p:spPr>
          <a:xfrm>
            <a:off x="1447920" y="3276720"/>
            <a:ext cx="6324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685800" y="10666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сотой воздух становится менее плотным. Масса 1 куб.м воздуха на уровне моря 1 кг 300 г на высоте 12 км равна 310 г, а на высоте 40 км – 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соте от 5 км и выше падание давления на 1 мм рт ст происходит каждые 2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2"/>
          <p:cNvSpPr/>
          <p:nvPr/>
        </p:nvSpPr>
        <p:spPr>
          <a:xfrm>
            <a:off x="1150560" y="304920"/>
            <a:ext cx="67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нение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3"/>
          <p:cNvSpPr/>
          <p:nvPr/>
        </p:nvSpPr>
        <p:spPr>
          <a:xfrm>
            <a:off x="990720" y="38862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атмосферное давление - 761 мм рт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атмосферное давление - 759 мм рт 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атмосферное давление - 760 мм рт 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ttps://thumbs.dreamstime.com/z/storm-depression-22158260.jpg"/>
          <p:cNvPicPr/>
          <p:nvPr/>
        </p:nvPicPr>
        <p:blipFill>
          <a:blip r:embed="rId1"/>
          <a:stretch/>
        </p:blipFill>
        <p:spPr>
          <a:xfrm>
            <a:off x="76320" y="2133720"/>
            <a:ext cx="5790960" cy="472428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1"/>
          <p:cNvSpPr/>
          <p:nvPr/>
        </p:nvSpPr>
        <p:spPr>
          <a:xfrm>
            <a:off x="2631960" y="369720"/>
            <a:ext cx="6400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ы с одинаковыми значениями температуры воздуха , соединены линиями, называются изоте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я - изоб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533520" y="13716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высота горы, если у подножья атмосферное давл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5 мм.рт.ст. , а на вершине 720 мм.рт.ст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шине горы высотой 3,5 км барометр показал 7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.рт.ст. Каково давление у подножь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та глубиной 200 м, на поверхности атмосфер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752 мм.рт.ст. Найти давление на дне шах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ик поднялся на высоту 2 км. Каково атмосферно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 воздуха на этой высоте, если у поверхности зем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равнялось 750 мм.рт.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не шахты барометр зафиксировал давление 780 мм.рт.ст.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верхности земли 760 мм.рт.ст. Найдите глубину шах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3489840" y="457200"/>
            <a:ext cx="17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Ð ÐµÑÐµÐ½Ð¸Ðµ Ð·Ð°Ð´Ð°Ñ: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380880" y="2322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состоит из смеси газов, называемой воздухом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сякий газ, воздух характеризуется давлением, температурой, плотностью, соста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"/>
          <p:cNvSpPr/>
          <p:nvPr/>
        </p:nvSpPr>
        <p:spPr>
          <a:xfrm>
            <a:off x="762120" y="1905120"/>
            <a:ext cx="419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 состав воздуха входят (по объем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зот — 78,13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кислород — 20,9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аргон — 0,94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глекислый газ — 0,03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914400" y="4111200"/>
            <a:ext cx="76201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8108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Числовое  значение   (модуль)   этой  силы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, отнесенной  к площади S, и называют давлением. Следовательно, давление есть сила, приходящаяся на единицу площади, направленная перпендикулярно к 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davlenie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6545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6"/>
          <p:cNvSpPr/>
          <p:nvPr/>
        </p:nvSpPr>
        <p:spPr>
          <a:xfrm>
            <a:off x="1981080" y="63244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хема распределения атмосферн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4191120" y="38088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Эванджелиста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тальянский математик и физик, ученик Галил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Известен как автор концепции атмосферного давления и продолжатель дела Галилея в области разработки новой меха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дился: 15.10.1608 г. 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Умер: 25.10.1647 г. Ита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бразование: Римский университет Ла Сапи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itd3.mycdn.me/image?id=666165242824&amp;t=20&amp;plc=WEB&amp;tkn=*RopycWtcndU49dblINgTfgk-hoQ"/>
          <p:cNvPicPr/>
          <p:nvPr/>
        </p:nvPicPr>
        <p:blipFill>
          <a:blip r:embed="rId1"/>
          <a:stretch/>
        </p:blipFill>
        <p:spPr>
          <a:xfrm>
            <a:off x="304920" y="76212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4952880" y="990720"/>
            <a:ext cx="396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ричелли использовал поставленный в 1643г. итальянским исследователем Вивиани эксперимент. Последний заключался в том, что длинную (около метра) стеклянную трубку, запаянную с одного конца, наполняли ртутью и, плотно закрыв, опускали ее не запаянный конец в чашу, в которой также была ртуть. После того как трубку открывали, часть ртути из нее выливалась и над поверхностью оставшейся в трубке ртути образовывалась пустота. Торричелли объяснил это явление тем, что в трубке должен остаться столб ртути, давление которого уравновесит давление воздуха, а образовавшийся над ртутью вакуум получил название «Торричеллиева пусто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4051440" y="228600"/>
            <a:ext cx="48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рометр 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" descr="img8"/>
          <p:cNvPicPr/>
          <p:nvPr/>
        </p:nvPicPr>
        <p:blipFill>
          <a:blip r:embed="rId1"/>
          <a:stretch/>
        </p:blipFill>
        <p:spPr>
          <a:xfrm>
            <a:off x="0" y="228600"/>
            <a:ext cx="1676520" cy="3352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img8"/>
          <p:cNvPicPr/>
          <p:nvPr/>
        </p:nvPicPr>
        <p:blipFill>
          <a:blip r:embed="rId2"/>
          <a:stretch/>
        </p:blipFill>
        <p:spPr>
          <a:xfrm>
            <a:off x="1143000" y="3429000"/>
            <a:ext cx="1752480" cy="3200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img8"/>
          <p:cNvPicPr/>
          <p:nvPr/>
        </p:nvPicPr>
        <p:blipFill>
          <a:blip r:embed="rId3"/>
          <a:stretch/>
        </p:blipFill>
        <p:spPr>
          <a:xfrm>
            <a:off x="2895480" y="990720"/>
            <a:ext cx="2057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304920" y="992160"/>
            <a:ext cx="3733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ртутный барометр представляет собой наполненную ртутью стеклянную трубку, опущенную открытым концом в чашку со ртутью. Ртуть в трубке поднимается и опускается в соответствии с изменениями погодных условий. Простейший ртутный барометр представляет собой наполненную ртутью стеклянную трубку, опущенную открытым концом в чашку со ртутью. Ртуть в трубке поднимается и опускается в соответствии с изменениями погод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294120" y="228600"/>
            <a:ext cx="37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тутный бароме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1541837"/>
          <p:cNvPicPr/>
          <p:nvPr/>
        </p:nvPicPr>
        <p:blipFill>
          <a:blip r:embed="rId1"/>
          <a:stretch/>
        </p:blipFill>
        <p:spPr>
          <a:xfrm>
            <a:off x="4232160" y="380880"/>
            <a:ext cx="4759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nachodki.ru/images/articles/barometri/2.jpg"/>
          <p:cNvPicPr/>
          <p:nvPr/>
        </p:nvPicPr>
        <p:blipFill>
          <a:blip r:embed="rId1"/>
          <a:stretch/>
        </p:blipFill>
        <p:spPr>
          <a:xfrm>
            <a:off x="533520" y="228600"/>
            <a:ext cx="2666880" cy="52578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3962520" y="12193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и всех современных ртутных барометров основываются на принципе Торр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высоты столба ртути в трубке прибора изменяет и ее уровень в чаше. Перед считыванием показаний нулевая отметка подвижной шкалы совмещается с уровнем ртути в ч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28600" y="556272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хематическое устройство ртутного баро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1"/>
          <p:cNvPicPr/>
          <p:nvPr/>
        </p:nvPicPr>
        <p:blipFill>
          <a:blip r:embed="rId1"/>
          <a:stretch/>
        </p:blipFill>
        <p:spPr>
          <a:xfrm>
            <a:off x="4724280" y="304920"/>
            <a:ext cx="3810240" cy="5867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5"/>
          <p:cNvSpPr/>
          <p:nvPr/>
        </p:nvSpPr>
        <p:spPr>
          <a:xfrm>
            <a:off x="798480" y="727200"/>
            <a:ext cx="307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- чаш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б- сиф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- сифонно-чаш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09480" y="2743200"/>
            <a:ext cx="374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ис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– кольцо, на котором подвешивается бар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 – нониусная ш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- тер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 – ч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инт нониус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https://arhivurokov.ru/multiurok/html/2017/04/11/s_58ed0cd23dbe6/img_s609976_0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4T19:59:19Z</dcterms:created>
  <dc:creator>MOE</dc:creator>
  <dc:description/>
  <dc:language>en-US</dc:language>
  <cp:lastModifiedBy>C47</cp:lastModifiedBy>
  <dcterms:modified xsi:type="dcterms:W3CDTF">2019-12-13T13:44:08Z</dcterms:modified>
  <cp:revision>16</cp:revision>
  <dc:subject/>
  <dc:title>Атмосферное давление</dc:title>
</cp:coreProperties>
</file>