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2C7-06F8-483B-9576-85475438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B16-9D54-4B9F-96F4-B7163026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0BB9A-4E07-4696-9DD3-EE36F36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20B35-85A1-4B1D-9609-9787D7A2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3F31A-63B2-4B61-A82C-8FDCA973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4E6BA-5FCD-4579-9E0D-D8081BF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908B7-D4D5-46FF-865B-9CE45B4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FCCF6-305B-429E-9A39-57332D7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6DFED-96EF-46A7-9720-9042C9F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B91A0-B606-4569-8290-0EDD5900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06BB9-7A3E-4CC5-A03E-CECC3DD7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D84-EB3A-4E7D-B0A8-1695D2D3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4BB-D1D1-493A-9975-74E294A1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DBBE-D2A3-48A2-944A-81A4BDD4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D79-0302-4278-9660-C22EF6C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C57-3B03-4355-850A-B794019D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448F-9EA8-41B6-BFA6-C24CA217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52F-CB51-4233-8EC4-02E0671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825A-617F-4314-B2AB-B2BD356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F45C-5167-40F8-97AE-D34C238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EB2-5B4C-4D32-8769-E0E7454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7A7C-4EEC-4034-B7F1-9D25E880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C103-CCCB-4A17-8B87-B9F5A37F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0BC-0FF8-4F5A-90E4-6D6D386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E51-EE66-4018-8189-1A85049F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98D-5C97-4767-8080-6B57FC7B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D179-EB88-4CA8-A6BA-8D79C542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CAC9-8412-4DAF-9955-16D6CB7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8671-DDA3-45C1-BB72-172494CE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C5EF-20D1-45BA-B944-B3A0AF4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F26A-7457-4439-B75F-DB723766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9DC-E02C-4B3E-A537-A96A333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3236-7BC1-4FE3-BCBD-F0648AE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1948-28F5-4D4F-A846-E73811B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671E-508F-4640-9390-DB9D0B4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5771-2FC8-4382-AD09-B088309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B5FC-0791-4DD6-81AA-36BBCD2B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310D-4611-4FD3-8D86-F30688CE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9853-92E6-42A7-BAB3-2D8F5685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3DCB8-3327-46A1-8E06-71037F3C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F31A-41F8-4601-A9A0-7DEC980F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C65B-CBC5-4863-BC70-CB2BBB2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692-A0EC-4CDE-B479-285492F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D554-C001-45B7-B74A-B815708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E931-1EFF-46E3-A546-96EEF42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9B91-2DAE-40A1-8CDE-01F5F6DF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72AB-D45B-4872-A128-7F0AC91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1077-C88B-4772-8BA2-A4347AA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4626-39D1-402A-9278-CA59DCD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9523-7A3C-41BF-8A2B-B1E49AA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3E31-1C8E-418F-9175-0EC47560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62A8-66ED-48D3-9F46-73CF7434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9ABE-2755-4B55-84EA-FC370F88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6B5-58F5-47B4-A340-DF3BC9D2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ACC31-C03D-479B-AE01-B96DE63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DCE8-49EC-4635-BD27-CE56449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400E-FE49-4607-83E6-32B54637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227F-DAC3-4736-98D4-A490C04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A705-0BBA-4825-B727-7328E7F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ADC5-E0A4-4870-B695-5646DF4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AE93-C6A2-4FA2-BCD1-813D249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F596-97D1-44A5-8693-C43158D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E086-35B1-4B62-9D28-A0EBF1D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BDC3-DC0A-4927-8D5C-118FA008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49E-3197-4CD7-87A2-4C781E1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D7A01-2979-4CFE-A303-9AB6B33D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F978-82ED-408E-9FFC-179D6BFA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D240-39C3-45D5-B86B-78BD137E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00959-A37F-4B88-901F-2570D15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BE8A-AC8F-4680-BB66-3ECA8CF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7E49D-3713-46F1-958E-48A4DB8F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FB1E3-0E0B-4B19-BB84-E23EF0CD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7194-1F6B-42D2-A409-B781E28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FF7A-7FD9-4649-AA54-6C49600E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479C0-55F7-4AD3-B298-2E3906D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6DF-AAB0-476C-9DEF-B94D830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2178-61E9-422A-8273-D6B6C86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18D2-654A-4B0D-AE7D-2D2D93F6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21C49-A396-41B7-9AB6-503334E6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12852-C5A4-4331-82A6-38CFE0F6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FD6EB-CBCC-4EB1-B392-29BE5AE6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D6C62-FF4D-4A2A-AA80-2CFDFFCB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A2997-86A6-4B1C-B634-6FEB852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7382-57CC-40A7-963A-7FEBF8A9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11838-96D6-4759-86EF-5A5D71F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09B5-FB83-4BF8-B3BA-AE1BFB8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85C-24B3-4D62-ABD4-64FBDA1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727A-2F36-4CB0-80BE-E04A4AE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E558-E9C6-47C7-9D0C-C11FFFD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435AB-DA97-4C9C-A874-4200E724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1AA3-03B8-4EFC-9360-24BFB8CD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E120-BD0C-4B3C-A748-E58D3E8A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2B1DE-7ED6-4AD9-BD44-72CE1A8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96168-F4FE-466F-876B-BBC824F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74E76-45E5-4483-B7CE-2BE2A56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36BE-273C-4EE0-9C2A-2B2784A9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6A66F-7505-488F-91F1-2FC225E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A01-F9F2-4DF1-9274-72CB375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20D8A-BE1B-4464-9EC1-ABFE0FB7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69E48-AB50-4255-A9EC-9D8CC75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C7C6-920C-4CB4-8116-D69D637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367B-1578-42FA-98E5-B331A00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7199F-486F-4076-A0D3-D61A1A0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9D5C2-1600-426D-9B02-6CB541BF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4E51D-6BCF-4963-831B-8552F2AA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A3B9D-B09B-4295-B16D-7EE74D70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31BF4-B280-407E-9DED-ED3A700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E05A6-0911-4F46-AD64-A6223825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2A8-F2CD-4A65-AB56-D39FDF5A0E2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F10F-796B-4F31-95AF-1A16C8502E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1A36-A2A1-482B-B305-1331636BA4C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7B93-5198-44B1-84F2-6657D8D2DB1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1725-3EA4-466A-9FC6-B412EEAA313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F49F-F034-4064-8DD5-8FED2D8A34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14B8-36B1-478C-B493-3FBB46C6D8E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787C-8DD9-4736-B6B0-2D76D9A62D9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C39-D1C5-4B63-8C51-8340EC167DD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47760" y="2193840"/>
            <a:ext cx="8899560" cy="2000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4038480" y="457200"/>
            <a:ext cx="4800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рометр - анеро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такого барометра имеется металлическая коробочка, которая не содержит воздуха и очень чувствительна к изменению атмосферного давления. Как только давление увеличивается, коробочка сжимается» при уменьшении давления коробочка расширяется. С коробочкой соединена стрелка, которая реагирует на изменения ее объема. По указанию стрелки на шкале можно узнать величину атмосферного давления в миллиметрах ртутного стол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ÑÐµÐºÑÑ Ð¿ÑÐ¸ Ð½Ð°Ð²ÐµÐ´ÐµÐ½Ð¸Ð¸"/>
          <p:cNvPicPr/>
          <p:nvPr/>
        </p:nvPicPr>
        <p:blipFill>
          <a:blip r:embed="rId1"/>
          <a:stretch/>
        </p:blipFill>
        <p:spPr>
          <a:xfrm>
            <a:off x="152280" y="1371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1066680" y="1052640"/>
            <a:ext cx="7239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мосферное дав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уровне мор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казывают, что атмосферное давление в местностях, лежащих на уровне моря, в среднем равно 76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101,3 г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1371600" y="228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енение атмосфер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609480" y="1295280"/>
            <a:ext cx="79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больших подъёмах в среднем на каждые 12 м подъёма давление уменьшается на 1 мм.рт.ст. (или на 133,3 гП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h = 12 м/мм.рт.с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ÐÑÐ¸ Ð½ÐµÐ±Ð¾Ð»ÑÑÐ¸Ñ Ð¿Ð¾Ð´ÑÑÐ¼Ð°Ñ Ð² ÑÑÐµÐ´Ð½ÐµÐ¼ Ð½Ð° ÐºÐ°Ð¶Ð´ÑÐµ 12 Ð¼ Ð¿Ð¾Ð´ÑÑÐ¼Ð° Ð´Ð°Ð²Ð»ÐµÐ½Ð¸Ðµ ÑÐ¼ÐµÐ½ÑÑÐ°ÐµÑÑÑ"/>
          <p:cNvPicPr/>
          <p:nvPr/>
        </p:nvPicPr>
        <p:blipFill>
          <a:blip r:embed="rId1"/>
          <a:stretch/>
        </p:blipFill>
        <p:spPr>
          <a:xfrm>
            <a:off x="1447920" y="3276720"/>
            <a:ext cx="6324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685800" y="10666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сотой воздух становится менее плотным. Масса 1 куб.м воздуха на уровне моря 1 кг 300 г на высоте 12 км равна 310 г, а на высоте 40 км – 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соте от 5 км и выше падание давления на 1 мм рт ст происходит каждые 20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2"/>
          <p:cNvSpPr/>
          <p:nvPr/>
        </p:nvSpPr>
        <p:spPr>
          <a:xfrm>
            <a:off x="1150560" y="304920"/>
            <a:ext cx="67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енение атмосфер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"/>
          <p:cNvSpPr/>
          <p:nvPr/>
        </p:nvSpPr>
        <p:spPr>
          <a:xfrm>
            <a:off x="990720" y="38862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атмосферное давление - 761 мм рт 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атмосферное давление - 759 мм рт 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атмосферное давление - 760 мм рт 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ttps://thumbs.dreamstime.com/z/storm-depression-22158260.jpg"/>
          <p:cNvPicPr/>
          <p:nvPr/>
        </p:nvPicPr>
        <p:blipFill>
          <a:blip r:embed="rId1"/>
          <a:stretch/>
        </p:blipFill>
        <p:spPr>
          <a:xfrm>
            <a:off x="76320" y="2133720"/>
            <a:ext cx="5790960" cy="472428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1"/>
          <p:cNvSpPr/>
          <p:nvPr/>
        </p:nvSpPr>
        <p:spPr>
          <a:xfrm>
            <a:off x="2631960" y="369720"/>
            <a:ext cx="6400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ы с одинаковыми значениями температуры воздуха , соединены линиями, называются изоте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я - изоб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533520" y="13716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высота горы, если у подножья атмосферное давл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5 мм.рт.ст. , а на вершине 720 мм.рт.ст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шине горы высотой 3,5 км барометр показал 72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.рт.ст. Каково давление у поднож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та глубиной 200 м, на поверхности атмосфер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 752 мм.рт.ст. Найти давление на дне шах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чик поднялся на высоту 2 км. Каково атмосфер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 воздуха на этой высоте, если у поверхности зем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равнялось 750 мм.рт.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е шахты барометр зафиксировал давление 780 мм.рт.ст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верхности земли 760 мм.рт.ст. Найдите глубину шах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3489840" y="457200"/>
            <a:ext cx="17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Ð ÐµÑÐµÐ½Ð¸Ðµ Ð·Ð°Ð´Ð°Ñ: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80880" y="2322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состоит из смеси газов, называемой воздухом</a:t>
            </a: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сякий газ, воздух характеризуется давлением, температурой, плотностью, соста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762120" y="190512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 состав воздуха входят (по объем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зот — 78,13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кислород — 20,9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ргон — 0,94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углекислый газ — 0,03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914400" y="4111200"/>
            <a:ext cx="76201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8108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Числовое  значение   (модуль)   этой  силы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, отнесенной  к площади S, и называют давлением. Следовательно, давление есть сила, приходящаяся на единицу площади, направленная перпендикулярно к н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davlenie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6545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6"/>
          <p:cNvSpPr/>
          <p:nvPr/>
        </p:nvSpPr>
        <p:spPr>
          <a:xfrm>
            <a:off x="1981080" y="63244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хема распределения атмосферн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4191120" y="38088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Эванджелиста Торрич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тальянский математик и физик, ученик Галил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звестен как автор концепции атмосферного давления и продолжатель дела Галилея в области разработки новой меха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дился: 15.10.1608 г. 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Умер: 25.10.1647 г. И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бразование: Римский университет Ла Сапи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itd3.mycdn.me/image?id=666165242824&amp;t=20&amp;plc=WEB&amp;tkn=*RopycWtcndU49dblINgTfgk-hoQ"/>
          <p:cNvPicPr/>
          <p:nvPr/>
        </p:nvPicPr>
        <p:blipFill>
          <a:blip r:embed="rId1"/>
          <a:stretch/>
        </p:blipFill>
        <p:spPr>
          <a:xfrm>
            <a:off x="304920" y="762120"/>
            <a:ext cx="3657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4952880" y="990720"/>
            <a:ext cx="396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ричелли использовал поставленный в 1643г. итальянским исследователем Вивиани эксперимент. Последний заключался в том, что длинную (около метра) стеклянную трубку, запаянную с одного конца, наполняли ртутью и, плотно закрыв, опускали ее не запаянный конец в чашу, в которой также была ртуть. После того как трубку открывали, часть ртути из нее выливалась и над поверхностью оставшейся в трубке ртути образовывалась пустота. Торричелли объяснил это явление тем, что в трубке должен остаться столб ртути, давление которого уравновесит давление воздуха, а образовавшийся над ртутью вакуум получил название «Торричеллиева пусто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4051440" y="22860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рометр 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7" descr="img8"/>
          <p:cNvPicPr/>
          <p:nvPr/>
        </p:nvPicPr>
        <p:blipFill>
          <a:blip r:embed="rId1"/>
          <a:stretch/>
        </p:blipFill>
        <p:spPr>
          <a:xfrm>
            <a:off x="0" y="228600"/>
            <a:ext cx="1676520" cy="3352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img8"/>
          <p:cNvPicPr/>
          <p:nvPr/>
        </p:nvPicPr>
        <p:blipFill>
          <a:blip r:embed="rId2"/>
          <a:stretch/>
        </p:blipFill>
        <p:spPr>
          <a:xfrm>
            <a:off x="1143000" y="3429000"/>
            <a:ext cx="1752480" cy="3200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img8"/>
          <p:cNvPicPr/>
          <p:nvPr/>
        </p:nvPicPr>
        <p:blipFill>
          <a:blip r:embed="rId3"/>
          <a:stretch/>
        </p:blipFill>
        <p:spPr>
          <a:xfrm>
            <a:off x="2895480" y="990720"/>
            <a:ext cx="2057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304920" y="992160"/>
            <a:ext cx="3733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ртутный барометр представляет собой наполненную ртутью стеклянную трубку, опущенную открытым концом в чашку со ртутью. Ртуть в трубке поднимается и опускается в соответствии с изменениями погодных условий. Простейший ртутный барометр представляет собой наполненную ртутью стеклянную трубку, опущенную открытым концом в чашку со ртутью. Ртуть в трубке поднимается и опускается в соответствии с изменениями погод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294120" y="2286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тутный бар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1541837"/>
          <p:cNvPicPr/>
          <p:nvPr/>
        </p:nvPicPr>
        <p:blipFill>
          <a:blip r:embed="rId1"/>
          <a:stretch/>
        </p:blipFill>
        <p:spPr>
          <a:xfrm>
            <a:off x="4232160" y="380880"/>
            <a:ext cx="4759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nachodki.ru/images/articles/barometri/2.jpg"/>
          <p:cNvPicPr/>
          <p:nvPr/>
        </p:nvPicPr>
        <p:blipFill>
          <a:blip r:embed="rId1"/>
          <a:stretch/>
        </p:blipFill>
        <p:spPr>
          <a:xfrm>
            <a:off x="533520" y="228600"/>
            <a:ext cx="2666880" cy="52578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"/>
          <p:cNvSpPr/>
          <p:nvPr/>
        </p:nvSpPr>
        <p:spPr>
          <a:xfrm>
            <a:off x="3962520" y="12193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и всех современных ртутных барометров основываются на принципе Торр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высоты столба ртути в трубке прибора изменяет и ее уровень в чаше. Перед считыванием показаний нулевая отметка подвижной шкалы совмещается с уровнем ртути в ч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28600" y="556272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тическое устройство ртутного баро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" descr="1"/>
          <p:cNvPicPr/>
          <p:nvPr/>
        </p:nvPicPr>
        <p:blipFill>
          <a:blip r:embed="rId1"/>
          <a:stretch/>
        </p:blipFill>
        <p:spPr>
          <a:xfrm>
            <a:off x="4724280" y="304920"/>
            <a:ext cx="3810240" cy="58672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5"/>
          <p:cNvSpPr/>
          <p:nvPr/>
        </p:nvSpPr>
        <p:spPr>
          <a:xfrm>
            <a:off x="798480" y="727200"/>
            <a:ext cx="307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ис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- чаш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- сиф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- сифонно-чаш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09480" y="2743200"/>
            <a:ext cx="374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ис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 – кольцо, на котором подвешивается бар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 – нониусная ш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- 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 – ч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инт нониус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https://arhivurokov.ru/multiurok/html/2017/04/11/s_58ed0cd23dbe6/img_s609976_0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19:59:19Z</dcterms:created>
  <dc:creator>MOE</dc:creator>
  <dc:description/>
  <dc:language>en-US</dc:language>
  <cp:lastModifiedBy>C47</cp:lastModifiedBy>
  <dcterms:modified xsi:type="dcterms:W3CDTF">2019-12-13T13:44:08Z</dcterms:modified>
  <cp:revision>16</cp:revision>
  <dc:subject/>
  <dc:title>Атмосферное давление</dc:title>
</cp:coreProperties>
</file>