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381-F051-4B4F-93E0-3E135A8D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E52-574C-439C-9E63-4B32B90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04F-6F1F-4ED1-8394-E449536E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1E7-C48E-4857-B64D-0A1978B7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7D5C-4B4F-4A93-BF1A-BAEE5A0E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67F-2202-4F3B-90E2-05A954E2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AC5-F97B-4D6D-AE68-565E15A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D51-EC78-4A57-958A-BC19FDC5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572-53A0-479D-8F60-14F11C1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0B2-18E0-4C2A-A869-75E0003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B8F-0DF6-42C6-A690-3B39210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EFF-2065-4032-BCD4-A18B1D40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C8E8-8892-44A3-9471-71533F4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825-0A3F-442D-81FB-7D60C84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229A-98E5-4A30-AEDA-80D28A95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18E5-D019-4073-96DB-B498BF15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164-D0AC-47C4-9139-B5EB3949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74F-4EE2-4C91-85FD-08AC9C9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D3F-3A79-4F98-A90D-0F407233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0BC-37A7-482C-8344-CE17250E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548-2328-4ED9-9ADD-63D03827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7FA-E4A9-4DEC-84A0-3EA0858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809-1712-4809-9F5A-C934283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85-DF62-4015-A758-AD783A3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73D-CBBE-4C68-BD04-0A17BC6227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AE2-90C9-402C-8114-809386AD3C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99"/>
                </a:solidFill>
                <a:latin typeface="Arial"/>
              </a:rPr>
              <a:t>Жизнь и судьба Александра Сергеевича Грибоедов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«В мире искусств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рибоедов владел и даром музыканта: играл на фортепиано, органе, флейте, сочинял музыку (сохранились два его вальса); его талант музыканта высоко ценил М.И. Глинка. Артистическая натура Грибоедова сказывалась в увлекательных импровизациях, которым он предавался, иногда по нескольку часов не отрываясь от фортепиа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21360"/>
            <a:ext cx="3276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Arial"/>
              </a:rPr>
              <a:t>«Среди истинных сынов отеч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2 году Грибоедов готовился “для возведения в звание доктора прав”. Попутно увлекается театром. Но всю жизнь перевернула война 1812 года. Наполеон подступил к стенам древней Москвы. И о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лся в Московский гусарский полк. Но участвовать в битвах ему не довелось: полк не успели укомплектовать и срочно выслали из Москвы в тыл. И в 1813 году он оказался в Польше в кавалерийских резервах. Так началась его жизнь вне дома, вне Москвы, университета и привычных занятий. Ему было 18 лет. Походная жизнь, удалая гусарская весёлость, бесшабашная смелость нравились 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g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102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276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920" y="457200"/>
            <a:ext cx="460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ы в учёном заточень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ники уединень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посетите стан, когда вам есть досу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узрите вы дружный, братский кру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ика, отца обширного семейст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 надобно – на смерть иду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ужно – праздники даю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1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g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543480" cy="4695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6200" y="416124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пан Никитич Беги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ибоедов прожил в Петербурге недолго. Весёлая жизнь свела его с молодыми кутилами Шереметевым и Завадовским, которые соперничали из-за балерины Авдотьи Ильиничны Истоминой, юной, но уже знаменитой красавицы, кружившей головы петербургской молодёжи, в которую был влюблён Шереметев. Секундантами Шереметева был известный в городе дуэлянт, с детства знакомый Грибоедову, будущий декабрист, Александр Якуб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у скандальную историю назовут “дуэль четверых”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на состоялас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 ноября 18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да. Шереметев выстрелил почти сразу, на ходу. Пуля оторвала воротник сюртука Завадовского. Пистолет Завадовского дал осечку. На этом история могла бы и кончиться, а противники примириться. Но слишком долго медлил с выстрелом Завадовский, слишком насмешливо-тщательно целился в летящую ласточку. Шереметев взбесился и, забыв все условия дуэли, крикнул, что если будет промах, он все равно пристрелит Завадовского, как собаку. Грянул выстрел. Шереметев упал и стал кататься по снегу: пуля попала в живот. Он умер через 26 часов в страшных мучениях. Происшествие, казавшееся вначале лёгкой шалостью, обернулось трагедией. Вторая дуэль не состоялась, так как время было потрачено на оказание помощи раненому Шеремете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второй день Якубовича, как зачинщика, арестовали и сослали на Кавказ, Завадовскому посоветовали покинуть Петербург, Грибоедова за дуэль не наказали, но в глазах общественного мнения Якубович выглядел героем, Шереметева жалели и единственным виновником происшествия стали считать Грибоед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47480" y="727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7440"/>
            <a:ext cx="7467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Блестящий диплом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ство решило удалить чиновника Грибоедова из Петербурга, ему было предложено место секретаря русской миссии либо в Персии, либо в США. Грибоедов выбрал Персию. По дороге в Персию Грибоедов почти на год задержался на Кавказе, в Тифлисе. Где и состоялась отложенная дуэль с Якубовичем. Грибоедов промахнулся и был ранен в руку, что для него как для музыканта было весьма чувстви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 гениальные способности он вкладывает в дипломатические дела, и 10 февраля 1828 года он заключает между Россией и Персией Туркманчайский мирный договор, чрезвычайно выгодный для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договору, подписанному в маленькой персидской деревушке, к России отходили территории Эриванского и Нахичеванского ханств, Россия получила право иметь военный флот в Каспийском море и контрибуцию в 20 миллионов рублей серебром, а также освобождала от власти персидского паши 45 тысяч армян. 14 марта Грибоедов привозит договор в Петербург, столица встречает его как победителя, ему пророчат блестящую карьеру дипло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«ОН сделал свое дело – написал комедию «Горе от ум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рсия рождения замысла комедии во с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21 г. Тифлис. Сложился план комедии. Написан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акты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енно здесь, на Кавказе, Грибоедов начинает писать свою будущую комедию “Горе от ума”, тогда он назовёт её “Горе уму”, и первым его слушателем будет ближайший друг Пушкина Вильгельм Карлович Кюхельбекер (будущий декабрист) – Кюхля (так звали его друзья-лицеис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23 г. Выхлопотав отпуск, Грибоедов привозит с Кавказа в Москву два первых акта комедии “Горе от ума”. В имении Бегичева закончена работа над последними актами. </a:t>
            </a:r>
            <a:r>
              <a:rPr b="1" lang="ru-RU" sz="1600" spc="-1" strike="noStrike">
                <a:solidFill>
                  <a:srgbClr val="6600cc"/>
                </a:solidFill>
                <a:latin typeface="Times New Roman"/>
              </a:rPr>
              <a:t>“Гениальный, благородный, единственный мой Грибоедов, более чем друг. Он писал “Горе от ума” почти при мне, по крайней мере, мне первому читал каждое отдельное явление сразу после того, как оно было написано”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Бегич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пись продолжает дорабатываться и отшлифовываться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е с тем в рукописях (называют примерное количество рукописных копий около 40 тысяч, тогда как тираж издаваемых в то время произведений примерно 1200, 2400 экземпляров). Одну из таких копий получает от приехавшего в Михайловское Пущина А. Пу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динственная прижизненная публикация в альманахе «Русская Талия на 1825 г.» второй половины первого акта и всег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акта. Впервые без цензурных искажений комедия была напечатана в России в 1862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писи комедии были найдены у друзей-декабристов, и сразу после восстания его, как и многих, арестовали и привлекли к следствию по делу декабристов. Более 3-х месяцев Грибоедова держали под арестом, но доказательств его причастности к заговору не обнаружили. </a:t>
            </a:r>
            <a:r>
              <a:rPr b="1" lang="ru-RU" sz="1400" spc="-1" strike="noStrike">
                <a:solidFill>
                  <a:srgbClr val="6600cc"/>
                </a:solidFill>
                <a:latin typeface="Times New Roman"/>
              </a:rPr>
              <a:t>Свобода была желанной, но с привкусом гореч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– в крепости оставались друзья. Через два года ему поручают ведение дипломатических дел с Турцией и Персией. Поэт вынужден был стать дипломатом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00400" cy="4276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466920"/>
            <a:ext cx="4647960" cy="59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юбовь многолика. У неё тысячи имён. Одно из них – Нина. Стройная девочка с куклой, которую помнил Грибоедов по её детству. Он был другом её отца, грузинского поэта, князя Александра Чавчавадзе, частым гостем в доме, где собирались лучшие люди Грузии, где Грибоедов давал Нине уроки игры на фортепьяно. Судьба Нины решилась за один летний день. Всю свою жизнь она будет вспоминать мозаику этого дня: дорожку утреннего сада, вдумчивый взгляд Грибоедова, а затем его стремительное признание, её стремительное согласие стать его женой, суматоху в доме. Юная (16-летняя) жена Грибоедова была очень любезна, красива и образован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е женская прелесть не единственная награда природы. Кроткие глаза были умны, серьезны. Нина знала массу его стихов и вообще литературу. С веселым ужасом он ловил себя на том, что день ото дня влюбляется в Нину все больше и больше; он хотел бы быть отцом большого семейства. В этих мечтах Александр Сергеевич не видел ничего несбыточ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ибоедов пишет друзьям: “Женат, путешествую с огромным караваном… Ночуем под шатрами на высотах гор, где холод зимний. Нинуша моя не жалуется, всем довольна. Я необычайно счастлив…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Но счастье было недолгим, надо было срочно ехать по делам в Персию. И спустя 18 дней после венчания Грибоедов с женой в сопровождении русской миссии едут в Тавриз. Он оставляет Нину на границе, очень тоскуя по ней. 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3962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Нина, ангел мой! Я чувствую, я знаю – мне не вернуться. Прошу тебя: не оставляй костей моих в Персии. Похорони меня в Тифлисе, в монастыре Давида. Прощай! Шесть букв приносят столько мук!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е Нина и Александр не встретились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380880"/>
          <a:ext cx="8381880" cy="57913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59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мерть постигла его посреди смелого, неравного боя”     А</a:t>
                      </a:r>
                      <a:r>
                        <a:rPr b="0" i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.С. Пушкин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gency FB"/>
                        </a:rPr>
                        <a:t>30 января 1829 года толпа мусульманских фанатиков, подстрекаемая властями, напала на русское посольство в Тегеране. Толпа народа, ворвавшись во дворы, где помещались члены русской миссии, перебив всех их, ограбило всё их имущество, возвратилась во двор. Грибоедов увидел, что дело дошло до крайности и при нём никого не оставалось, кроме его дяди, который стал заряжать ружья и подавать племяннику. Грибоедов убил до 18 человек из толпы, которая пыталась ворваться в его комнату. Когда люди увидели, что нет возможности ворваться в комнату через двери, они забрались на крышу, и, сломав потолок, убили Грибоедова через отверстие, сделанное в потолке. Начался грабёж: персияне выносили на двор добычу и с криком и дракой делили её между собой. Деньги, бумаги, журналы миссии – всё было разграблено. Тело Грибоедова привязал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gency FB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gency FB"/>
                        </a:rPr>
                        <a:t> к бешеной лошади и пустили по гор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Бряцающий напев железных строф Коран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Он слышал над собой сквозь топот тысяч ног…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Толпа влачила труп по рынкам Тегеран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И щебень мостовых лицо язвил и жег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Трещало полотно, сукно рвалось и мокло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Влачилось клочьями, тащилось бахромой…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Давно уж по глазам очков разбитых стекл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Скользнули, полоснув сознанье вечной тьмой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… Он, брошенный, лежал во рву у цитадели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Он слушал тихий свист вороньего крыла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О, если б этот звук воззвал к последним силам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Равнину снежную напомнил бы ему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Усадьбу, старый дом, беседу с другом милым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И парка белого мохнатую кайму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Но шелест крыл, щемящей каплей яд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Сознанье отравив, напомнил о другом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Крик воронья на льду, гранит Петрова града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В морозном воздухе – салютов праздный гром, –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Быть может, этот час он понял, – слишком поздно, –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Что семя гибели он сам в себе растил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Что сам он принял рок империи морозной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Настиг его он здесь, но там – поработил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Его, избранника надежды и свободы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Чей пламень рос и креп над всероссийским сном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Его, зажженного самой Душой Народа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Как горькая свеча на клиросе земном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Смерть утолила все. За раной гаснет рана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Чуть грезятся еще снега родных равнин…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Закат воспламенил мечети Тегеран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И в вышине запел о Боге муэдз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74628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куда всклокоч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льной на вороте риз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 армянский кад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разбитой его голов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глазая девоч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ет его в дальнем Тебриз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ко носит дит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знает, что стала вд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на претерпела все эти бедствия в состоянии беременности, коей было уже 7 или 8 месяцев, когда Прасковья Николаевна с осторожностью объявила ей о сём. Нина не металась в отчаянии; она плакала, но тихо и скрывала грусть свою. Печаль же на неё столь подействовала, что она через несколько дней после того выкинула ещё живого ребёнка, который через несколько часов и ум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962160" cy="5410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48320" y="1411920"/>
            <a:ext cx="41907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ПИ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к портрету Грибоед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згляни на лик холодный сей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згляни: в нем жизни нет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о как на нем былых страстей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Еще заметен след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Так ярый ток, оледенев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ад бездною висит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Утратив прежний грозный рев,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Храня движенья ви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23920" y="3124080"/>
            <a:ext cx="358164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И я пошла его встречать, 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И весь Тифлис со мной 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К заставе Эриванской шёл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Растроганный толпой.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На кровлях плакали, когда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Без чувств упала я…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О, для чего пережила его любовь моя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8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03884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13436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ывок из поэмы 0. Ермолаевой «Грибоедов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умчиво глядит с портретов порыже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не был ни богат, ни слишком знамен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се как сирота в отеческих преде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в Персии убит, а в Грузии за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чему «сирота в отеческих пределах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л «не слишком знаменит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стал знаменитым. Что сделало его тако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 вот словесный портр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“Прекрасно одет, строен, чёрные волосы были тщательно приглажены, узкое лицо, небольшие глаза за очками были черны, как уголь. Говорил он тихо и медленно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“Грибоедов был хорошего роста, довольно интересной наружности, брюнет с живым румянцем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“Необыкновенно глубокий ум, обширнейшие познания, талантливость, независимость суждений, душевная чистота, способности человека государственного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   Детств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9?-1806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   Учеба в Московском университет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06-1812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   Служба в арм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12-1816  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    Жизнь в Петербург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16-1818  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     Первая поездка на Восто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18-1822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     Пребывание в Москве и Петербурге, отпус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3-1826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.     Вторая поездка на Восто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7-1829 гг.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ександр Сергеевич Грибоедов родился 4(15) января 1795 (по другим данным — 1794, 1793, 1790) года в Москве, в именитой дворянской семье. Мать его, Настасья Федоровна Грибоедова, принадлежала к старинному дворянскому роду Грибоедовых, была женщина энергичная, властная, самостоятельная. Она вышла замуж за Сергея Ивановича Грибоедова, принадлежавшего к другой ветви того же рода Грибоедовы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876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, где находился дом Грибоедовых, «в старину было сосредоточием московского бомонда, старых столбовых дворянских семей, составляющих особый замкнутый мир, связанный узами родства, др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3248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«Образованнейший человек своего времен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рибоедов получил прекрасное образование и с юности владел французским, немецким, английским, итальянским языками, а позже изучил латинский, греческий, персидск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8 лет его отдали в лучшее в то время заведение в России, Московский благородный пансион, где ранее учился В.А.Жуковский. Занятия в пансионе вели преподаватели университета, а по окончании пансиона Грибоедов поступил в Московский университет. Это был научный и культурный центр страны, где получали образование будущие декабристы. Ему было 11 лет, когда он стал студент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81400" cy="498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23533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ибоедов закончил три факульте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ридиче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изико-математиче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08-10-06T19:15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