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702B-8010-43FA-8ECA-1B2688804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F9E4-D1D7-40C3-AD19-C3D918550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F7AC-AB8B-4E6C-A008-14B10293B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A3D2-E98D-4F5E-9694-ED5347FF5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F75B-9F28-4A41-8E17-F7318175F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B455-5790-4045-8FA2-14D8B4EDC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4B17-AA7E-4A1A-93B8-9E13AA972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49A5-CCEA-4A37-892F-EF3E07054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A095-499E-4153-BFC5-9A9452944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B4BF-5ADD-481C-A5C1-A160C289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B51C-8CF6-4652-B0D2-6873B2B31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402A-41DD-481C-8663-DCDCC607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7722C-F875-4291-9FA4-F45B48BCA5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 rot="10674000">
            <a:off x="150480" y="5941440"/>
            <a:ext cx="2514600" cy="685800"/>
          </a:xfrm>
          <a:prstGeom prst="wedgeRoundRectCallout">
            <a:avLst>
              <a:gd name="adj1" fmla="val -40462"/>
              <a:gd name="adj2" fmla="val 74953"/>
              <a:gd name="adj3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етский сад 45</cp:lastModifiedBy>
  <dcterms:modified xsi:type="dcterms:W3CDTF">2013-07-10T08:20:3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