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842B-E69F-47B0-89F4-0EA6FD6B4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64C1-D2DE-499C-81CD-3B5218F3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B774-6737-4B57-AA31-61B39D88D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F4DB-797D-4BFC-8C73-CFA629AD8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2CD4F-04DB-410B-9BF5-555F3F619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318A-83D1-4A41-8DA1-88DA0DFD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A702-7014-49C6-8400-BE90B15F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BDE89-DB17-4A2E-AFF4-E4EEAF2D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6EC8-BFD4-4D21-8114-862BCB81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028F6-8653-4328-BE58-1B3DC382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918FC-91EC-4D61-ACAD-5D5EB21A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3549-DD93-4F26-AF0D-E92C35DA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B9A0-A9C9-4AF8-BB53-7D1225AF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E6EF-1E69-4E78-84FE-F4550B12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47C7C-A3E2-435E-92FE-2725598C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AF21-697E-45DA-B193-BC3AE3E7B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A3EF-F125-4AF2-A5E2-26AE6BC09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1CE06-D57D-4729-9409-8112713C3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CF8C3-C8F2-4216-A566-2C566FC9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F5E23-3D9C-40E8-BADD-66ED346A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D9BEC-A03B-4F6A-88DE-ACAB936B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D31D0-D8D4-4670-86F7-6E6C368B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88A5-1CF5-4FFD-85B2-A9A2BECD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19C7E-86FF-425F-8875-1FFF2099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31242-7BB9-4ACA-9487-E99ACCFA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C65F8-0BB3-448D-A79F-36D611A4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54BC8-C0C3-4FFA-B6D7-7B8472D8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799F6-4D68-483E-A58C-8304DA36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F2248-25FA-43B7-ABD1-DE5ADC742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AF826-87C2-4B6A-B1D3-191C1F349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67165-AADA-456F-9407-F32186755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475A7-4E9B-41C0-8196-4B475E76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ECE27-E6AE-477F-8B27-227D06ED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E658-6DEA-4393-87BA-DE2EFBC5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1F4DF-5245-4986-B75E-E188F591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70594-8C0A-457E-B801-D7A9A000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CD677-005E-4A57-9FCB-0FB6ADAA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91408-40F5-4261-909C-7878206A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AA1AD-B843-4F10-AF11-575B7261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4B652-1D03-4E16-B673-E38F87A7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7C9E8-B2C3-446A-A7CA-1801C889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F5316-A6B6-4A39-8CEE-A41907876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BC279-0494-45EE-BF7C-613483DD8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5C3D-581F-40A2-B41E-488C57AD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1DEB-E239-4470-8F80-4E26F756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AA75-96C6-4E3F-BEB4-852729F9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33E5-89D3-400F-9FF4-5DD639D3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484C-3B2F-40DA-8A26-C2C636AF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ddddd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dddddd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dddddd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dddddd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ddddd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a6a6a6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6a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b2b2b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68686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6a6a6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dddd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ddddd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ddddd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ddddd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ddddd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1939-0817-4C1F-8D56-7BDA579767D4}" type="slidenum">
              <a:rPr b="0" lang="en-US" sz="9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dddddd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dddddd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dddddd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ddddd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a6a6a6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6a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b2b2b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68686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6a6a6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dddddd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dddd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ddddd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ddddd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ddddd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ddddd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F96C-6294-4FB2-B478-6A8B5A1C7EBA}" type="slidenum">
              <a:rPr b="0" lang="en-US" sz="9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ddddd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dddddd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dddddd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dddddd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ddddd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a6a6a6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6a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b2b2b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68686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6a6a6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bebe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bebe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dddd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ddddd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ddddd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ddddd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ddddd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E57F-7E59-4152-B3FC-E0C3F4048EEC}" type="slidenum">
              <a:rPr b="0" lang="en-US" sz="9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ddddd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dddddd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dddddd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dddddd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ddddd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a6a6a6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6a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b2b2b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68686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6a6a6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bebe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bebe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dddd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ddddd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ddddd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ddddd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ddddd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4E0E-3C05-4F6E-9707-35E6F9075E3B}" type="slidenum">
              <a:rPr b="0" lang="en-US" sz="9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ddddd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dddddd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dddddd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dddddd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ddddd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a6a6a6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6a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b2b2b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68686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6a6a6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dddd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ddddd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ddddd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ddddd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ddddd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62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ddddd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dddddd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dddddd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dddddd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ddddd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a6a6a6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6a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b2b2b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68686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6a6a6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dddd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ddddd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ddddd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ddddd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ddddd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6858000" cy="87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Trebuchet MS"/>
              </a:rPr>
              <a:t>Русские былины</a:t>
            </a:r>
            <a:endParaRPr b="0" lang="en-US" sz="49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3203640" y="587664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Клопман Ирина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7-а класс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12" name="Рисунок 3" descr="505981_1042622710.jpeg"/>
          <p:cNvPicPr/>
          <p:nvPr/>
        </p:nvPicPr>
        <p:blipFill>
          <a:blip r:embed="rId1"/>
          <a:stretch/>
        </p:blipFill>
        <p:spPr>
          <a:xfrm>
            <a:off x="2843280" y="1438200"/>
            <a:ext cx="570384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049960" y="0"/>
            <a:ext cx="1074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dddddd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23640" y="360360"/>
            <a:ext cx="858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rebuchet MS"/>
              </a:rPr>
              <a:t>Былина - жанр русского фольклора, героико-патриотическая песня о богатырях и исторических событиях 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941880" y="1988640"/>
            <a:ext cx="5094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16" name="Picture 3" descr="ml_objects17"/>
          <p:cNvPicPr/>
          <p:nvPr/>
        </p:nvPicPr>
        <p:blipFill>
          <a:blip r:embed="rId1"/>
          <a:stretch/>
        </p:blipFill>
        <p:spPr>
          <a:xfrm>
            <a:off x="611280" y="2016000"/>
            <a:ext cx="547344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 rot="10800000">
            <a:off x="1042920" y="3789360"/>
            <a:ext cx="741672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ddddd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18" name="Picture 3" descr="Scan10076"/>
          <p:cNvPicPr/>
          <p:nvPr/>
        </p:nvPicPr>
        <p:blipFill>
          <a:blip r:embed="rId1"/>
          <a:stretch/>
        </p:blipFill>
        <p:spPr>
          <a:xfrm>
            <a:off x="254160" y="549360"/>
            <a:ext cx="7416720" cy="4680000"/>
          </a:xfrm>
          <a:prstGeom prst="rect">
            <a:avLst/>
          </a:prstGeom>
          <a:ln w="0">
            <a:noFill/>
          </a:ln>
        </p:spPr>
      </p:pic>
      <p:sp>
        <p:nvSpPr>
          <p:cNvPr id="319" name="Прямоугольник 1"/>
          <p:cNvSpPr/>
          <p:nvPr/>
        </p:nvSpPr>
        <p:spPr>
          <a:xfrm>
            <a:off x="254160" y="5300640"/>
            <a:ext cx="842328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иевский цикл былин: образ трёх богатырей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лья Муромец, Добрыня Никитич и Алеша Попович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270640" y="25200"/>
            <a:ext cx="87300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dddddd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rebuchet MS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389560" y="1351080"/>
            <a:ext cx="3781440" cy="37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спокойный, мужественный, суровый, самый сильный из богатырей, символ крестьянской мудрост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22" name="Picture 3" descr="ml_objects19"/>
          <p:cNvPicPr/>
          <p:nvPr/>
        </p:nvPicPr>
        <p:blipFill>
          <a:blip r:embed="rId1"/>
          <a:stretch/>
        </p:blipFill>
        <p:spPr>
          <a:xfrm>
            <a:off x="214200" y="690480"/>
            <a:ext cx="5040360" cy="5095800"/>
          </a:xfrm>
          <a:prstGeom prst="rect">
            <a:avLst/>
          </a:prstGeom>
          <a:ln w="0">
            <a:noFill/>
          </a:ln>
        </p:spPr>
      </p:pic>
      <p:sp>
        <p:nvSpPr>
          <p:cNvPr id="323" name="Прямоугольник 5"/>
          <p:cNvSpPr/>
          <p:nvPr/>
        </p:nvSpPr>
        <p:spPr>
          <a:xfrm>
            <a:off x="5698800" y="541440"/>
            <a:ext cx="317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Илья Муром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ml_objects18"/>
          <p:cNvPicPr/>
          <p:nvPr/>
        </p:nvPicPr>
        <p:blipFill>
          <a:blip r:embed="rId1"/>
          <a:stretch/>
        </p:blipFill>
        <p:spPr>
          <a:xfrm>
            <a:off x="4848120" y="692280"/>
            <a:ext cx="4038840" cy="5257800"/>
          </a:xfrm>
          <a:prstGeom prst="rect">
            <a:avLst/>
          </a:prstGeom>
          <a:ln w="0">
            <a:noFill/>
          </a:ln>
        </p:spPr>
      </p:pic>
      <p:sp>
        <p:nvSpPr>
          <p:cNvPr id="325" name="Прямоугольник 1"/>
          <p:cNvSpPr/>
          <p:nvPr/>
        </p:nvSpPr>
        <p:spPr>
          <a:xfrm>
            <a:off x="95400" y="765000"/>
            <a:ext cx="47527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Добрыня Никит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лицетворение вежливости  и изящного благород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3" descr="ml_objects14"/>
          <p:cNvPicPr/>
          <p:nvPr/>
        </p:nvPicPr>
        <p:blipFill>
          <a:blip r:embed="rId1"/>
          <a:stretch/>
        </p:blipFill>
        <p:spPr>
          <a:xfrm>
            <a:off x="395280" y="620640"/>
            <a:ext cx="4400640" cy="5646960"/>
          </a:xfrm>
          <a:prstGeom prst="rect">
            <a:avLst/>
          </a:prstGeom>
          <a:ln w="0">
            <a:noFill/>
          </a:ln>
        </p:spPr>
      </p:pic>
      <p:sp>
        <p:nvSpPr>
          <p:cNvPr id="327" name="Прямоугольник 1"/>
          <p:cNvSpPr/>
          <p:nvPr/>
        </p:nvSpPr>
        <p:spPr>
          <a:xfrm>
            <a:off x="5235480" y="14842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мвол хитрости, лукавый и мечтате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оугольник 2"/>
          <p:cNvSpPr/>
          <p:nvPr/>
        </p:nvSpPr>
        <p:spPr>
          <a:xfrm>
            <a:off x="5235480" y="765000"/>
            <a:ext cx="35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Алёша Попови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ml_objects6"/>
          <p:cNvPicPr/>
          <p:nvPr/>
        </p:nvPicPr>
        <p:blipFill>
          <a:blip r:embed="rId1"/>
          <a:stretch/>
        </p:blipFill>
        <p:spPr>
          <a:xfrm>
            <a:off x="179280" y="851040"/>
            <a:ext cx="4538880" cy="5236920"/>
          </a:xfrm>
          <a:prstGeom prst="rect">
            <a:avLst/>
          </a:prstGeom>
          <a:ln w="0">
            <a:noFill/>
          </a:ln>
        </p:spPr>
      </p:pic>
      <p:sp>
        <p:nvSpPr>
          <p:cNvPr id="330" name="Прямоугольник 1"/>
          <p:cNvSpPr/>
          <p:nvPr/>
        </p:nvSpPr>
        <p:spPr>
          <a:xfrm>
            <a:off x="4960800" y="1146240"/>
            <a:ext cx="421164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ылинный геро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лощение лучших качеств наро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ужение Родин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жеств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раведлив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увство собственного достоин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8312040" y="6093000"/>
            <a:ext cx="860400" cy="6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36520" y="404640"/>
            <a:ext cx="7920000" cy="10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«Вольга и Микула Селянинович»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33" name="Рисунок 1" descr=""/>
          <p:cNvPicPr/>
          <p:nvPr/>
        </p:nvPicPr>
        <p:blipFill>
          <a:blip r:embed="rId1"/>
          <a:stretch/>
        </p:blipFill>
        <p:spPr>
          <a:xfrm>
            <a:off x="395280" y="1469880"/>
            <a:ext cx="6458040" cy="469116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8388000" y="2976480"/>
            <a:ext cx="308772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324000" y="980640"/>
            <a:ext cx="77724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Мех – мешок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ляг</a:t>
            </a:r>
            <a:r>
              <a:rPr b="1" lang="ru-RU" sz="1800" spc="-1" strike="noStrike">
                <a:solidFill>
                  <a:srgbClr val="ff0000"/>
                </a:solidFill>
                <a:latin typeface="Trebuchet MS"/>
              </a:rPr>
              <a:t>а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, слег</a:t>
            </a:r>
            <a:r>
              <a:rPr b="1" lang="ru-RU" sz="1800" spc="-1" strike="noStrike">
                <a:solidFill>
                  <a:srgbClr val="ff0000"/>
                </a:solidFill>
                <a:latin typeface="Trebuchet MS"/>
              </a:rPr>
              <a:t>а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– жердь, тонкое бревно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р</a:t>
            </a:r>
            <a:r>
              <a:rPr b="1" lang="ru-RU" sz="1800" spc="-1" strike="noStrike">
                <a:solidFill>
                  <a:srgbClr val="ff0000"/>
                </a:solidFill>
                <a:latin typeface="Trebuchet MS"/>
              </a:rPr>
              <a:t>а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ай- пахарь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л</a:t>
            </a:r>
            <a:r>
              <a:rPr b="1" lang="ru-RU" sz="1800" spc="-1" strike="noStrike">
                <a:solidFill>
                  <a:srgbClr val="ff0000"/>
                </a:solidFill>
                <a:latin typeface="Trebuchet MS"/>
              </a:rPr>
              <a:t>о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ый – о масти лошадей, желтоваты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м</a:t>
            </a:r>
            <a:r>
              <a:rPr b="1" lang="ru-RU" sz="1800" spc="-1" strike="noStrike">
                <a:solidFill>
                  <a:srgbClr val="ff0000"/>
                </a:solidFill>
                <a:latin typeface="Trebuchet MS"/>
              </a:rPr>
              <a:t>е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шики – сошник у плуга, подрезывает и вздымает пласт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улатный – из булата, твёрдый, упругий, с узорчатой стальной поверхностью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афьян – тонкая и мягкая козья или овечья кожа, специально выделанная и окрашенная  в яркий цвет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Г</a:t>
            </a:r>
            <a:r>
              <a:rPr b="1" lang="ru-RU" sz="1800" spc="-1" strike="noStrike">
                <a:solidFill>
                  <a:srgbClr val="ff0000"/>
                </a:solidFill>
                <a:latin typeface="Trebuchet MS"/>
              </a:rPr>
              <a:t>у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жики – петля в хомуте скрепляющая оглоблю с дуго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rebuchet MS"/>
              </a:rPr>
              <a:t>О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ет – пашет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rebuchet MS"/>
              </a:rPr>
              <a:t>О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жи – оглобли сох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1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ис</a:t>
            </a:r>
            <a:r>
              <a:rPr b="1" lang="ru-RU" sz="1800" spc="-1" strike="noStrike">
                <a:solidFill>
                  <a:srgbClr val="ff0000"/>
                </a:solidFill>
                <a:latin typeface="Trebuchet MS"/>
              </a:rPr>
              <a:t>о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шечек – лопатка для отворота земл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1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</a:t>
            </a:r>
            <a:r>
              <a:rPr b="1" lang="ru-RU" sz="1800" spc="-1" strike="noStrike">
                <a:solidFill>
                  <a:srgbClr val="ff0000"/>
                </a:solidFill>
                <a:latin typeface="Trebuchet MS"/>
              </a:rPr>
              <a:t>а</a:t>
            </a: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едья, до пабедья – до полудн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SzPct val="80000"/>
              <a:buFont typeface="Trebuchet MS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" name="Прямоугольник 1"/>
          <p:cNvSpPr/>
          <p:nvPr/>
        </p:nvSpPr>
        <p:spPr>
          <a:xfrm>
            <a:off x="324000" y="260280"/>
            <a:ext cx="712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варик устаревших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na</cp:lastModifiedBy>
  <dcterms:modified xsi:type="dcterms:W3CDTF">2017-09-29T18:41:09Z</dcterms:modified>
  <cp:revision>15</cp:revision>
  <dc:subject/>
  <dc:title>PowerPoint Presentation</dc:title>
</cp:coreProperties>
</file>