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B388-1617-44F5-A1F7-8576756D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5DA2-E616-436C-B2CF-B825B9D4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26C6-2352-49C0-8093-2D68D71A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D91D-FF0D-4949-B425-386D1969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36B9-CE7E-4297-A9B0-90D27307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99E8-715A-4C0E-8C33-7CB06596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3F06-17B1-4395-8C50-8F04E32A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676E-55E8-4704-82E9-2872D4A0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186F-2BC2-4301-A296-49F414D3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0485-C73E-42CF-9CCD-7B91773C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8EF7-E48A-4809-B175-D49FB827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D866-1F46-409A-BEB1-7B11A1AA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1CD4-1904-4677-A6E7-67919ADA8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964720" cy="50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кройте скобки и расставьте пропущенные бук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836640"/>
            <a:ext cx="86421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Не) отыскав в бумагах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та.в на солнце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.творив в жизнь мечту о пр.образовании края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не) ра(с,сс) читывая на беспр.кословное подчинение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.бывая в хорошем расположении духа (в) течени. всего отпуска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не) стихая (ни) (на) минуту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ж.лая извлечь выгоду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отыскав в бумагах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стаяв на солнце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етворив в жизнь мечту о преобразовании края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рассчитывая на беспрекословное подчинение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ебывая в хорошем расположении духа в течение всего отпуска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стихая ни на минуту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елая извлечь выго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07:30:51Z</dcterms:created>
  <dc:creator>Admin</dc:creator>
  <dc:description/>
  <dc:language>en-US</dc:language>
  <cp:lastModifiedBy>Admin</cp:lastModifiedBy>
  <dcterms:modified xsi:type="dcterms:W3CDTF">2011-03-11T07:30:51Z</dcterms:modified>
  <cp:revision>1</cp:revision>
  <dc:subject/>
  <dc:title>Раскройте скобки и расставьте пропущенные буквы</dc:title>
</cp:coreProperties>
</file>