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EE1-C3D3-4E36-9AC0-B2AE957E85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18D-2FD9-4411-9E8F-24B81ACAC268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E52-F513-49D6-81DE-7797DB9C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66D-A3CE-42FC-8F2E-92D8AE2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9A8-5846-401E-89CB-C3D6F806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AD1-97AD-4BA2-A409-CB3818FA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75B4-46F2-4E74-AAD0-19BE74C8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4558-2F59-4649-9373-9DE924C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231B-733F-4DE1-BDFB-FD622AB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66C-0B09-4CF7-AAE2-B0801623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7C18-8F93-4843-9756-5E0767B0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1210-A63E-4AF9-82E2-CF77D75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E66-4603-4449-9F43-E256E18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E7F-BEB7-4437-A1AE-7E19037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41E-E45E-4A33-9328-EF5E3B6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75E0-7A1C-4A53-A03A-827386B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C192-95FF-40F2-9EC8-3FE28C0E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1FF-E8D4-4284-B0F4-2FD6ED94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299-6A70-4EC4-AB79-8D347B52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83F-5B2A-4387-8265-36C9281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17D-10D6-41FF-A5A1-92ABAAA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F1F-ACD9-4D5C-B144-6E5D027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AD9-9B8C-469C-BE3C-0E14B4A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D3A-2B6D-4C0F-998A-E5F5905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5FA-6B0F-49E3-8C8B-82DB27E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F7B-2C67-409D-B605-09CD7C5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A99-228A-4C31-A281-8B2500CDB92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6B6-787D-489E-903D-A7F3E4C755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Искусство кукольного театра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348000" y="-360"/>
            <a:ext cx="547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de64"/>
                </a:solidFill>
                <a:latin typeface="Arial Black"/>
              </a:rPr>
              <a:t>КАШПАРЕК</a:t>
            </a:r>
            <a:r>
              <a:rPr b="0" lang="ru-RU" sz="3200" spc="-1" strike="noStrike">
                <a:solidFill>
                  <a:srgbClr val="dede64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лавный герой традиционной чешской кукольной комедии. Он появился в Чехии в конце XVIII века - в 1790 году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шпарек говорил с публикой по-чешски. Народ с восторгом принял нового, понятного им героя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3" descr="Касперле"/>
          <p:cNvPicPr/>
          <p:nvPr/>
        </p:nvPicPr>
        <p:blipFill>
          <a:blip r:embed="rId1"/>
          <a:stretch/>
        </p:blipFill>
        <p:spPr>
          <a:xfrm>
            <a:off x="250920" y="1125360"/>
            <a:ext cx="3306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419280" y="404640"/>
            <a:ext cx="5724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de64"/>
                </a:solidFill>
                <a:latin typeface="Arial Black"/>
              </a:rPr>
              <a:t>          </a:t>
            </a:r>
            <a:r>
              <a:rPr b="0" lang="en-US" sz="3200" spc="-1" strike="noStrike">
                <a:solidFill>
                  <a:srgbClr val="dede64"/>
                </a:solidFill>
                <a:latin typeface="Arial Black"/>
              </a:rPr>
              <a:t>Панч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- удивительный персонаж. Толстый, уродливый шут с длинным кривым носом и пронзительным резким голосом. Это настоящий хулиган, лгун, воришка, у него нет ни одного хорошего качества, но... вот уже много веков Панч - один из самых любимых и обаятельных героев английского театра кукол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3" descr="Панч"/>
          <p:cNvPicPr/>
          <p:nvPr/>
        </p:nvPicPr>
        <p:blipFill>
          <a:blip r:embed="rId1"/>
          <a:stretch/>
        </p:blipFill>
        <p:spPr>
          <a:xfrm>
            <a:off x="179280" y="907920"/>
            <a:ext cx="3562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276720" y="260280"/>
            <a:ext cx="586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64"/>
                </a:solidFill>
                <a:latin typeface="Arial Black"/>
              </a:rPr>
              <a:t>ПОЛИШИНЕЛЬ </a:t>
            </a:r>
            <a:br>
              <a:rPr sz="26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Главный герой традиционной кукольной французской комедии. Скандал - вот стихия Полишинеля. Он не только жил в обстановке скандала, он его создавал. Высмеивал приближенных короля, служителей церкви, судей... Ради скандала не жалел никого. </a:t>
            </a:r>
            <a:br>
              <a:rPr sz="2600"/>
            </a:b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Подобно Пульчинелле, у него длинный нос, большой горб, а в руках дубинка. 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3" descr="Полишинель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24000" y="333360"/>
            <a:ext cx="29685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635280" y="-360"/>
            <a:ext cx="550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de64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dede64"/>
                </a:solidFill>
                <a:latin typeface="Arial Black"/>
              </a:rPr>
              <a:t>КАРАГЁЗ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в переводе - "черный глаз" - герой турецкого театра теней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ид у Карагеза воинственный. Он драчун и хулиган. Говорят, что прототипом Карагеза был вполне реальный турецкий кузнец. Он жил в середине XIV века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3" descr="Карагёз"/>
          <p:cNvPicPr/>
          <p:nvPr/>
        </p:nvPicPr>
        <p:blipFill>
          <a:blip r:embed="rId1"/>
          <a:stretch/>
        </p:blipFill>
        <p:spPr>
          <a:xfrm>
            <a:off x="179280" y="1125360"/>
            <a:ext cx="3664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Художественный образ Петрушк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5" name="Picture 2" descr="PETRUSKA"/>
          <p:cNvPicPr/>
          <p:nvPr/>
        </p:nvPicPr>
        <p:blipFill>
          <a:blip r:embed="rId1"/>
          <a:stretch/>
        </p:blipFill>
        <p:spPr>
          <a:xfrm>
            <a:off x="357120" y="1557360"/>
            <a:ext cx="3286080" cy="50734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7"/>
          <p:cNvSpPr/>
          <p:nvPr/>
        </p:nvSpPr>
        <p:spPr>
          <a:xfrm>
            <a:off x="3786120" y="1628640"/>
            <a:ext cx="503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Русский Петрушка принадлежит к многочисленной семье героев европейской уличной кукольной комедии.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Он – прямой потомок Пульчинеллы,  Полишинеля, Гансвурста…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176720" cy="34880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179280" y="386064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трушка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 — один из персонажей русских народных кукольных представлений. Изображается в красной рубахе, холщовых штанах и остроконечном колпаке с кисточкой; традиционно Петрушка — это кукла-перчатка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ьесы  с участием Петрушки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ходили в репертуар скоморохов и состояли из юмористических сценок и диалогов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ждая сценка изображала схватку Петрушки с тем или иным персонажем (схватки осуществлялись с помощью кулаков, палки и т. д.)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етрушка побеждал всех противников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Эпиграф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8880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скусство есть извечный символ стремления человечества к добру, истине, совершенств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. Манн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есь мир – театр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ы все – актеры  поневол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сесильная судьба распределяет роли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 небеса следят за нашею иг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ьер Ронсар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50920" y="33336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До середины XIX века в России Петрушка ещё не имел своего нынешнего имени. Чаще всего его тогда называли «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Иван Ратютю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» или «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Иван Рататуй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»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Нынешнее имя пришло к Петрушке после появления среди многочисленных его сценок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миниатюры «Петрушка и городовой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», в которой во время многочисленных нападок городовой говорит Петрушке: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«У тебя и пашпорта-то нет!»,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на что Петрушка гордо отвечает: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«Есть! По пашпорту я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Пётр Иванович Уксусов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  <a:ea typeface="Arial"/>
              </a:rPr>
              <a:t>!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170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427640" y="1125360"/>
            <a:ext cx="4716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России «водили» Петрушку только мужчины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бы сделать голос более громким и писклявым, использовали специальный пищик, вставлявшийся в гортань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Речь у Петрушки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должна была быть «пронзительной» и очень быстро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1856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Театр теней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в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Индонезии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аланг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7619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4100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еатр кукол пережил тысячелетия, десятки исторических укладов. Первые упоминания о кукольном искусстве связаны с празднествами в Египт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Из поколения в поколение, век за веком «игра куклой» вошла не только в религиозную, магическую, но и в художественную сферу жизни человека. Человек начинает познавать природу кукольного театра, способы его воздействия на людей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ова история возникновения и развития кукольных театров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чему они так популярны и любимы в разных странах мира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идумать сюжет маленького спектаклю для театра кукол в стиле любой страны мира. Придумать, нарисовать костюмы для действующих персонаже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01680" y="533160"/>
            <a:ext cx="854064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укольный театр это веселое зрелище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Есть у кукол такая способность : не только изображать человека, но и передразнивать его. И не только самого человека – но и его жизн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укольники оказались очень способными сатириками, юмористами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442764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а протяжении тысяч лет во всех странах мира с помощью кукол высмеивали человеческие пороки: глупость, жадность, трусость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chirma1" descr="кукольная ширма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765000"/>
            <a:ext cx="4395960" cy="52563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30800" y="-352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30800" y="6037560"/>
            <a:ext cx="18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разное время у разных народов сложились свои интересные типы кукольного театр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Главный персонаж – озорной, никогда не унывающий человече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каждой стране за ним закрепилось свое им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Театральная кукла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987280" y="1052640"/>
            <a:ext cx="5832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Этот герой похож на петушка, поэтому его так и зовут: "полчино" в переводе на русский язык - петушок. Он задиристый и острый на язык. Это кукла марионетк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dede64"/>
                </a:solidFill>
                <a:latin typeface="Arial Black"/>
              </a:rPr>
              <a:t>Пульчинелл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- родоначальник кукольных комедий импровизации в Европе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4" descr="Пульчинелла"/>
          <p:cNvPicPr/>
          <p:nvPr/>
        </p:nvPicPr>
        <p:blipFill>
          <a:blip r:embed="rId1"/>
          <a:stretch/>
        </p:blipFill>
        <p:spPr>
          <a:xfrm>
            <a:off x="324000" y="1197000"/>
            <a:ext cx="2658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203280" y="18900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de64"/>
                </a:solidFill>
                <a:latin typeface="Arial Black"/>
              </a:rPr>
              <a:t>ГАНСВУРС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Если перевести это имя с немецкого, то получится "Иван Колбаса". Гансвурст - один из самых известных героев немецкой кукольной комедии. Он любитель поесть за чужой счет, погулять и повеселиться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Кашпарек"/>
          <p:cNvPicPr/>
          <p:nvPr/>
        </p:nvPicPr>
        <p:blipFill>
          <a:blip r:embed="rId1"/>
          <a:stretch/>
        </p:blipFill>
        <p:spPr>
          <a:xfrm>
            <a:off x="324000" y="692280"/>
            <a:ext cx="28652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2:58:40Z</dcterms:created>
  <dc:creator>SamLab.ws</dc:creator>
  <dc:description/>
  <dc:language>en-US</dc:language>
  <cp:lastModifiedBy>SamLab.ws</cp:lastModifiedBy>
  <dcterms:modified xsi:type="dcterms:W3CDTF">2012-04-22T03:39:29Z</dcterms:modified>
  <cp:revision>2</cp:revision>
  <dc:subject/>
  <dc:title>Искусство кукольного театра</dc:title>
</cp:coreProperties>
</file>