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E819-C086-4BA5-87C6-D3B8B453EA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565D-D1D0-490D-8870-D5281811099A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8044-52DC-4F68-AB73-ED14A80D32B2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6EE0-D692-41E1-968C-E1C9A497873B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1C47-9FE8-449F-83B4-3481813CF9BF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20B8-F797-4AD1-B63F-1352A05456A8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AE5F-3ADD-473B-B554-8A524885B69E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01A4-A452-4CEC-AF6E-F38DAC3A4C71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AEC5-83D4-407C-BFC0-F9D817D49AFD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2A1-01EB-4FF9-AC3B-1E44A53F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8AF-F014-4585-B47C-04397B91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831-FABD-4B6B-BC83-37580D9F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7B7-CB41-4B3F-9550-8B04E71B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E885-D4FE-4DFA-9A99-5638C317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733E-187A-4AD8-8DF6-07FCAFDA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D56B-C718-4FD0-929D-BBB1981A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3EC0-90D6-40CC-9423-1282BE83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B4DF-10B1-439A-BA7B-18C41DB3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5873-0EBE-4325-A2A3-2D96A6BE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5D99-AC20-4CA0-A693-B138B923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793-2FA5-48CF-8597-960030D1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9A50-F9A7-44E8-BD01-8FB3C778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1457-5177-4651-844C-947742D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FD93-D3B2-4830-8A2E-9C915F51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9F0D-CDA0-47BC-8E87-1355E216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CBBA-8DE3-4601-89FD-C94D2915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42F-A9C4-43B7-9AE6-0E5056E6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2B8-C459-4057-AA13-676B91DA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D2B-10B4-4D6A-9168-3E9F1BF2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853-3780-414E-AA19-C7A67880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555-A3AC-4547-8947-E7BE8478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AB4-7BB6-438F-9920-9FD65BF6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A52-17C9-45CF-922D-EA19D455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IMG_2115v2"/>
          <p:cNvPicPr/>
          <p:nvPr/>
        </p:nvPicPr>
        <p:blipFill>
          <a:blip r:embed="rId2"/>
          <a:stretch/>
        </p:blipFill>
        <p:spPr>
          <a:xfrm>
            <a:off x="0" y="-414360"/>
            <a:ext cx="9144000" cy="7566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E011-1CC3-41C2-A773-15E3B14DF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IMG_2115"/>
          <p:cNvPicPr/>
          <p:nvPr/>
        </p:nvPicPr>
        <p:blipFill>
          <a:blip r:embed="rId2"/>
          <a:stretch/>
        </p:blipFill>
        <p:spPr>
          <a:xfrm>
            <a:off x="0" y="-709560"/>
            <a:ext cx="9144000" cy="7567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e2f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1C41-BB0B-43DA-BC83-DDAC746AE334}" type="slidenum">
              <a:rPr b="0" lang="en-US" sz="1400" spc="-1" strike="noStrike">
                <a:solidFill>
                  <a:srgbClr val="0e2f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77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e2fad"/>
                </a:solidFill>
                <a:latin typeface="Arial"/>
              </a:rPr>
              <a:t>Java Scrip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533680"/>
            <a:ext cx="622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Arial"/>
              </a:rPr>
              <a:t>Первое знакомство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Arial"/>
              </a:rPr>
              <a:t>Элективный курс 10 класс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0280" y="4156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Arial"/>
              </a:rPr>
              <a:t>Основные области использования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Создание динамических страниц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Проверка правильности действий пользователя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Решение локальных задач с помощью сценария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Arial"/>
              </a:rPr>
              <a:t>Размещение </a:t>
            </a: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JS </a:t>
            </a:r>
            <a:r>
              <a:rPr b="0" lang="ru-RU" sz="4400" spc="-1" strike="noStrike">
                <a:solidFill>
                  <a:srgbClr val="0e2fad"/>
                </a:solidFill>
                <a:latin typeface="Arial"/>
              </a:rPr>
              <a:t>в </a:t>
            </a: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HTML 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&lt;script language="javascript"&gt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Операторы </a:t>
            </a: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Java Scrip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&lt;/script&gt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640" y="-18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e2fad"/>
                </a:solidFill>
                <a:latin typeface="Arial"/>
              </a:rPr>
              <a:t>DOM (Document Object Model)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80316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3697200" y="878040"/>
            <a:ext cx="3221280" cy="51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DOM (от англ. Document Object Model — «объектная модель документа») — это не зависящий от платформы и языка программный интерфейс, позволяющий программам и скриптам получить доступ к содержимому HTML, XHTML и XML-документов, а также изменять содержимое, структуру и оформление таких документов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Модель DOM не налагает ограничений на структуру документа. Любой документ известной структуры с помощью DOM может быть представлен в виде дерева узлов, каждый узел которого представляет собой элемент, атрибут, текстовый, графический или любой другой объект. Узлы связаны между собой отношениями "родительский-дочерний"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-86040"/>
            <a:ext cx="845172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&lt;form name="form1" action="#"&gt;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&lt;input type="text" id="name_form" name="name_form" value=""&gt;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&lt;input type="button" id="button1" name="button1" value="</a:t>
            </a:r>
            <a:r>
              <a:rPr b="0" lang="ru-RU" sz="3600" spc="-1" strike="noStrike">
                <a:solidFill>
                  <a:srgbClr val="0e2fad"/>
                </a:solidFill>
                <a:latin typeface="Arial"/>
              </a:rPr>
              <a:t>Покажи</a:t>
            </a: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e2fad"/>
                </a:solidFill>
                <a:latin typeface="Arial"/>
              </a:rPr>
              <a:t>значение"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click="function_write();"</a:t>
            </a: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&lt;/form&gt;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-86040"/>
            <a:ext cx="845172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&lt;script language="javascript"&gt;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unction function_write(){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var nm = document.form1.name_form.value;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document.write</a:t>
            </a: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("</a:t>
            </a:r>
            <a:r>
              <a:rPr b="0" lang="ru-RU" sz="3600" spc="-1" strike="noStrike">
                <a:solidFill>
                  <a:srgbClr val="0e2fad"/>
                </a:solidFill>
                <a:latin typeface="Arial"/>
              </a:rPr>
              <a:t>Значение поля ", </a:t>
            </a: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nm);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2fad"/>
                </a:solidFill>
                <a:latin typeface="Arial"/>
              </a:rPr>
              <a:t>&lt;/script&gt;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Zhukovnote</cp:lastModifiedBy>
  <dcterms:modified xsi:type="dcterms:W3CDTF">2014-11-24T21:25:28Z</dcterms:modified>
  <cp:revision>23</cp:revision>
  <dc:subject/>
  <dc:title>Pencils template</dc:title>
</cp:coreProperties>
</file>