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843-5AF9-4A1E-891D-0CC11AD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14B-CD39-4CD2-88D5-AB4152D9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511-4245-4F41-8F0B-F27C13A1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398-A549-48E1-84C9-BE460091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3CFDB-2BAE-4B7A-84F9-EED8A68C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921B0-0605-4C22-8689-F098DAFA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832F-6E36-413E-B0E5-0B6AFB7D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EB7B5-0E3A-4EF4-854E-7107285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8C017-76F7-46C1-8AEB-C5EC32AA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98183-97AC-47BE-BE38-A3A6D9E0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9EFAB-7CBF-477E-9F87-D5BC0E3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931-7D59-46B2-9E07-E6378A6D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2E2F1-9157-4B70-92DC-D455AD3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BFA0E-9E47-4F6E-B1B8-04C4797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6E048-2ECC-4A4E-BBAE-60895246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FC962-9779-4C10-A53F-BAC7ADF6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43123-CBF8-43CE-90D8-C3AA7A4F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B6FB-CB20-418F-A4BA-62065D5A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DFE8-D3AE-4658-8B9D-F80686CC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F419-C297-4BF3-A928-9435E3B2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CE9E-F1F7-4B02-A930-19DFCF4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3AC9-4853-46FD-94CC-9577E29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DAA-5FCE-4BF0-9470-49451959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D6DF-83D0-40F1-B1F5-35BDB481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5A6F-CB20-4F05-A4DC-C80D6725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9251-DCCE-4576-A269-199D358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5C3C-5279-43FC-8D5F-B1FF661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359E-3382-4672-98B3-4FA2F04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7C23-8317-49EC-ABA5-47D4BE83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45D3-3675-4D39-B8CC-F91044B2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A1863-9E5D-4F11-8AF5-3E8F52A9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35DEF-0303-4FF9-8607-69EDFE0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77A1A-7EFB-4602-AB4D-2978253F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7B3-AB94-451F-B2E9-5938C60B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4453E-E93D-4ACC-A180-E1D1496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B3A64-239B-42E3-8DF8-46BC87D2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A70EE-90EF-4BCE-9415-4AE0B57D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6C1CD-BDAE-4613-92CB-715FDFB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C994B-DD0E-48A9-8E46-E0216E33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FD61F-9545-41EF-B682-632FE27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946D7-3A7C-4D4A-8179-BDE487C6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161FF-D6E2-4A40-8847-12EEF52B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F1FF6-B78C-4708-B95F-32E48F99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77119-ED37-47C2-8829-B74F2309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BC3-5556-47DE-9F65-4C27245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F9C9A-857E-4280-AD0C-8A64BD92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1569C-A04F-40DB-86E8-054A50A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6918C-3BE3-4FCA-A01E-295E3805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AA661-C744-48C6-839F-B7746047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13DF6-31F3-42DC-B678-C9FD8A28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4841B-2950-498D-A713-55DB1D2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5593A-CF2C-4184-95E9-F6310EC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781FB-EDAC-4C7F-BAA1-62708A6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F974D-A033-4153-95CA-07D4B81D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49D73-849D-407E-A56C-9AB66E6B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B5D-7247-4CDA-B988-EF5B44CB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4F768-0622-4162-BA0F-A5014F3C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8A3B3-8F24-485F-A319-168B814D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E2D4D-A727-48DD-9D2E-045D13A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C668F-2A5C-4C83-B8EF-B390E9E4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762DD-1121-49CD-8205-D7496D1E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1F741-A9E5-4453-9638-FB0366DA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0D496-3B27-4564-8AE5-AF01BF95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061DF-6342-473E-A105-51FB99D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42A90-FBB5-443A-BD75-4E608A09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C9F8C-2326-49D9-BD13-CB94789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F84-8B9D-4C5B-BF77-413497B4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550F1-4D46-4150-8C0C-1ED331D0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C0334-67A3-43B7-850A-0775DD2E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F06D0-EA35-43AA-A89B-FD5A7380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712-86FA-4906-AAB9-38FABC5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D1B-560E-49E1-8897-2FF94636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67D6-4870-4B78-9431-A12395EB06E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D722-14AC-4C9C-AA8D-135B10D1CF0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9533-C940-427B-A382-B475681FF64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FF72-2013-439F-8462-46BF2FFA5F2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C14-5990-41F9-B705-44F05CEE52B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45E2-558F-4BBE-856C-FA4BD37D9D8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d2901"/>
                </a:solidFill>
                <a:latin typeface="Constantia"/>
              </a:rPr>
              <a:t>Класс рыб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54" name="i-main-pic" descr="Картинка 13 из 99365"/>
          <p:cNvPicPr/>
          <p:nvPr/>
        </p:nvPicPr>
        <p:blipFill>
          <a:blip r:embed="rId2"/>
          <a:stretch/>
        </p:blipFill>
        <p:spPr>
          <a:xfrm rot="481200">
            <a:off x="347400" y="4373640"/>
            <a:ext cx="24289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Раздельнополые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плодотворение наружно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Нерест происходит в местах, наиболее благоприятных для развития зародышей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Picture 2" descr="wror7"/>
          <p:cNvPicPr/>
          <p:nvPr/>
        </p:nvPicPr>
        <p:blipFill>
          <a:blip r:embed="rId2"/>
          <a:stretch/>
        </p:blipFill>
        <p:spPr>
          <a:xfrm>
            <a:off x="214200" y="1571760"/>
            <a:ext cx="435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Picture 2" descr="Файл:MC Rotfeuerfisch.jpg"/>
          <p:cNvPicPr/>
          <p:nvPr/>
        </p:nvPicPr>
        <p:blipFill>
          <a:blip r:embed="rId2"/>
          <a:stretch/>
        </p:blipFill>
        <p:spPr>
          <a:xfrm rot="1602600">
            <a:off x="414360" y="1171080"/>
            <a:ext cx="3130560" cy="2468520"/>
          </a:xfrm>
          <a:prstGeom prst="rect">
            <a:avLst/>
          </a:prstGeom>
          <a:ln w="0">
            <a:noFill/>
          </a:ln>
        </p:spPr>
      </p:pic>
      <p:pic>
        <p:nvPicPr>
          <p:cNvPr id="304" name="i-main-pic" descr="Картинка 19 из 99365"/>
          <p:cNvPicPr/>
          <p:nvPr/>
        </p:nvPicPr>
        <p:blipFill>
          <a:blip r:embed="rId3"/>
          <a:stretch/>
        </p:blipFill>
        <p:spPr>
          <a:xfrm rot="20737800">
            <a:off x="1600200" y="3924000"/>
            <a:ext cx="31431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Constantia"/>
              </a:rPr>
              <a:t>Класс Хрящевые рыб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олярная аку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Китовая аку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Морской ск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 Костные рыб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якодыша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истеперы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тистые (более 90 %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Picture 2" descr="РЫБЫ ХРЯЩЕВЫЕ"/>
          <p:cNvPicPr/>
          <p:nvPr/>
        </p:nvPicPr>
        <p:blipFill>
          <a:blip r:embed="rId2"/>
          <a:stretch/>
        </p:blipFill>
        <p:spPr>
          <a:xfrm>
            <a:off x="101520" y="3857760"/>
            <a:ext cx="3684600" cy="2768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wror"/>
          <p:cNvPicPr/>
          <p:nvPr/>
        </p:nvPicPr>
        <p:blipFill>
          <a:blip r:embed="rId3"/>
          <a:stretch/>
        </p:blipFill>
        <p:spPr>
          <a:xfrm>
            <a:off x="4618080" y="3429000"/>
            <a:ext cx="41734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Текст 7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мущественно морские рыбы, живут в толще воды или у дна(на глубине до 3000 м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нство хищник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о удлиненное(от 20 см -30м)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мущественно морские рыбы, ведут придонный образ жизн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таются животными – обитателями грунта(бентофаги), имеются хищник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о уплощенное, широко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6" descr=""/>
          <p:cNvPicPr/>
          <p:nvPr/>
        </p:nvPicPr>
        <p:blipFill>
          <a:blip r:embed="rId2"/>
          <a:stretch/>
        </p:blipFill>
        <p:spPr>
          <a:xfrm>
            <a:off x="255600" y="-49320"/>
            <a:ext cx="843768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64" name="Текст 9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65" name="Текст 9" descr=""/>
            <p:cNvPicPr/>
            <p:nvPr/>
          </p:nvPicPr>
          <p:blipFill>
            <a:blip r:embed="rId3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nstantia"/>
                </a:rPr>
                <a:t>скаты</a:t>
              </a:r>
              <a:endParaRPr b="0" lang="en-US" sz="3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67" name="Picture 2" descr="РЫБЫ ХРЯЩЕВЫЕ"/>
          <p:cNvPicPr/>
          <p:nvPr/>
        </p:nvPicPr>
        <p:blipFill>
          <a:blip r:embed="rId4"/>
          <a:stretch/>
        </p:blipFill>
        <p:spPr>
          <a:xfrm rot="411600">
            <a:off x="2356920" y="4929120"/>
            <a:ext cx="19702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Текст 1" descr=""/>
          <p:cNvPicPr/>
          <p:nvPr/>
        </p:nvPicPr>
        <p:blipFill>
          <a:blip r:embed="rId1"/>
          <a:stretch/>
        </p:blipFill>
        <p:spPr>
          <a:xfrm>
            <a:off x="450720" y="993600"/>
            <a:ext cx="4054680" cy="1176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берных щелей обычно по пять- на боках головы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стовой плавник мощный, неравнолополостной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покрыта рогоподобной чешуей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бы остроконечны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берных щелей по пять – на боках брюшной стороны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рудные плавники сильно увеличены, их края сращены с боками головы и туловища; спинные находятся на хвосте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жа голая или покрыта шипам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272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73" name="Текст 5" descr=""/>
            <p:cNvPicPr/>
            <p:nvPr/>
          </p:nvPicPr>
          <p:blipFill>
            <a:blip r:embed="rId2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nstantia"/>
                </a:rPr>
                <a:t>Скаты</a:t>
              </a:r>
              <a:endParaRPr b="0" lang="en-US" sz="3600" spc="-1" strike="noStrike">
                <a:solidFill>
                  <a:srgbClr val="ffffff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Форма тела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текаемая; голова ,туловище, хвост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е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ется рот с губами, ноздри, крупные глаз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вники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парные грудные и брюшные ; непарные – хвостовой, анальный, спинно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уя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ая. Кожа выделяет слиз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ковая линия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орган особой чувствительности в вод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Заголовок 6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wror5"/>
          <p:cNvPicPr/>
          <p:nvPr/>
        </p:nvPicPr>
        <p:blipFill>
          <a:blip r:embed="rId2"/>
          <a:stretch/>
        </p:blipFill>
        <p:spPr>
          <a:xfrm rot="21125400">
            <a:off x="6500520" y="4642920"/>
            <a:ext cx="24210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%5bBI7ZD_9-03%5d_%5bIL_03%5d-k"/>
          <p:cNvPicPr/>
          <p:nvPr/>
        </p:nvPicPr>
        <p:blipFill>
          <a:blip r:embed="rId1"/>
          <a:stretch/>
        </p:blipFill>
        <p:spPr>
          <a:xfrm>
            <a:off x="366840" y="1643040"/>
            <a:ext cx="8277120" cy="4357800"/>
          </a:xfrm>
          <a:prstGeom prst="rect">
            <a:avLst/>
          </a:prstGeom>
          <a:ln w="0">
            <a:noFill/>
          </a:ln>
        </p:spPr>
      </p:pic>
      <p:pic>
        <p:nvPicPr>
          <p:cNvPr id="279" name="Заголовок 6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%5bBI7ZD_9-03%5d_%5bIL_04%5d-k"/>
          <p:cNvPicPr/>
          <p:nvPr/>
        </p:nvPicPr>
        <p:blipFill>
          <a:blip r:embed="rId2"/>
          <a:stretch/>
        </p:blipFill>
        <p:spPr>
          <a:xfrm>
            <a:off x="457200" y="1803240"/>
            <a:ext cx="82296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%5bBI7ZD_9-03%5d_%5bIL_02%5d-k"/>
          <p:cNvPicPr/>
          <p:nvPr/>
        </p:nvPicPr>
        <p:blipFill>
          <a:blip r:embed="rId2"/>
          <a:stretch/>
        </p:blipFill>
        <p:spPr>
          <a:xfrm>
            <a:off x="571680" y="1714680"/>
            <a:ext cx="78580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142884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ыхательная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делительная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Нервная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3"/>
          <p:cNvSpPr/>
          <p:nvPr/>
        </p:nvSpPr>
        <p:spPr>
          <a:xfrm>
            <a:off x="571680" y="2500200"/>
            <a:ext cx="2286000" cy="30006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жабры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Овал 4"/>
          <p:cNvSpPr/>
          <p:nvPr/>
        </p:nvSpPr>
        <p:spPr>
          <a:xfrm>
            <a:off x="3500280" y="2500200"/>
            <a:ext cx="2357640" cy="30006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ч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четочни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чевой пузырь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водной прото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Овал 5"/>
          <p:cNvSpPr/>
          <p:nvPr/>
        </p:nvSpPr>
        <p:spPr>
          <a:xfrm>
            <a:off x="6286680" y="2571840"/>
            <a:ext cx="2214360" cy="29289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оловной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инной мозг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тходящ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е нерв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91" name="Прямая со стрелкой 7"/>
          <p:cNvCxnSpPr/>
          <p:nvPr/>
        </p:nvCxnSpPr>
        <p:spPr>
          <a:xfrm flipH="1">
            <a:off x="1428480" y="1143000"/>
            <a:ext cx="1929600" cy="35784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2" name="Прямая со стрелкой 9"/>
          <p:cNvCxnSpPr/>
          <p:nvPr/>
        </p:nvCxnSpPr>
        <p:spPr>
          <a:xfrm flipH="1">
            <a:off x="4714560" y="1285920"/>
            <a:ext cx="2160" cy="28656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3" name="Прямая со стрелкой 11"/>
          <p:cNvCxnSpPr/>
          <p:nvPr/>
        </p:nvCxnSpPr>
        <p:spPr>
          <a:xfrm>
            <a:off x="6071760" y="1213920"/>
            <a:ext cx="1500840" cy="35820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4" name="Прямая со стрелкой 13"/>
          <p:cNvCxnSpPr/>
          <p:nvPr/>
        </p:nvCxnSpPr>
        <p:spPr>
          <a:xfrm flipH="1">
            <a:off x="1784160" y="2071800"/>
            <a:ext cx="2160" cy="429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5" name="Прямая со стрелкой 15"/>
          <p:cNvCxnSpPr/>
          <p:nvPr/>
        </p:nvCxnSpPr>
        <p:spPr>
          <a:xfrm flipH="1">
            <a:off x="4714560" y="2071440"/>
            <a:ext cx="2160" cy="28620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6" name="Прямая со стрелкой 17"/>
          <p:cNvCxnSpPr/>
          <p:nvPr/>
        </p:nvCxnSpPr>
        <p:spPr>
          <a:xfrm flipH="1">
            <a:off x="7500600" y="1928520"/>
            <a:ext cx="72000" cy="57204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9-04-25T15:07:55Z</dcterms:modified>
  <cp:revision>10</cp:revision>
  <dc:subject/>
  <dc:title>Тип хордовые </dc:title>
</cp:coreProperties>
</file>