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932-A750-4C67-84F6-BA7AA2F7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24A-3CC5-437C-93D4-7822DEFC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AC9-5404-42FA-9159-59F79DD0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D29-DAE0-4FA0-91CF-21808889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864-D217-4739-9B1B-DD4C1C37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FF9A-0E47-41D2-89D8-6573AA41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A7D-E5F4-4B8F-97B3-B2D29CB7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2E9D-0D78-4D56-887C-35CCACC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E8B-B142-4ACB-888C-7FCD56E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328-9F8E-4E1E-AEBB-11E083EA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2D9-6967-4CB9-847A-4D43ECA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C4B-4E98-44C3-A241-B09B8AE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CCA-B389-4539-A457-7C27CD7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A196-64A2-46B9-8BF0-145B13E8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BD2F-308C-4196-A06F-C957DD6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E6AB-49E9-40D8-AFC9-FADA5D9D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373-8CE4-4B21-B0F6-9CD64D4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45B-9C59-4EBA-B74B-7F2DA7F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9DB-FF09-44CA-AF7D-BA04E15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7C5-5DF3-4AC4-997F-4CC7E78B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981-D142-47AC-B3DA-58D06077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EF7-C34B-4FF2-A920-4011CF9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3F2-4B6B-4324-B813-94D03A7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361-8680-4197-ACBD-7D5A1D4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963-5332-49A0-BAFD-193C91C46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881-25D1-416F-989D-8F1FDA1C1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10280" y="6095880"/>
            <a:ext cx="1905120" cy="60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524880" cy="732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10280" y="6248520"/>
            <a:ext cx="190512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010280" y="6095880"/>
            <a:ext cx="1905120" cy="60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чищают воздух,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оздают уют,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На окнах зеленеют,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руглый год цветут и растут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необходимо для роста    растени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здух, вода, свет, тепл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4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10280" y="6248520"/>
            <a:ext cx="190512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туралист -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, занимающийся изучением природы;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тествоиспытател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3240" y="4586400"/>
            <a:ext cx="155736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982080" cy="74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ут4</cp:lastModifiedBy>
  <dcterms:modified xsi:type="dcterms:W3CDTF">2019-10-15T06:50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