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9C6-DE00-48CC-92A8-907EAE95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41E-8EB2-4491-8212-9E520E51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B7E-2BCA-47D1-834B-356AB4B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224-2BB8-440E-8BB2-1632A177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171-B55D-46DA-AF0D-6A4484EE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F0A5-E322-4CD5-96E9-A1296D7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1377-2B3D-44EC-A4C9-035A2582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C665-F6C3-42FB-BCE1-8FEF14B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5FFA-471A-42A0-A645-1BDB4E7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9DBE-51D8-4BA5-99C9-C217168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FD55-0327-4CB9-AB79-456BE76D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BD-EA57-4F59-9EE5-3F68AE3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C732-D8D6-49E2-B7F1-BF65F1E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526-764A-4845-BF44-8F064A2F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73E5-A13A-48AF-871A-9DC7561B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CE15-B814-4517-9B28-409F55B9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67E0-C566-4774-86D0-95B0A5C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A5E-C87F-443E-A2D5-B2A7602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44E-352B-4C64-B7E1-4E7FA0F2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3FA-BA80-40C4-8329-AF61118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503-DC12-47A5-8B94-314494C7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614-2075-4042-99FD-5E58ABC9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9BD-1933-4D80-9A57-ADF50351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589-F5AA-4710-9D83-991F9EF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891-4FEA-4D3C-84E5-FEC2B6B0B90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8D4-FF00-4CAD-B6D6-477C9F2F2D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йдите и исправьте ошиб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редостеречь об опас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веренность в побед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еспокоиться за младшего бра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делять внимание на правописание глагол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войственный для глагол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6:54:59Z</dcterms:created>
  <dc:creator>Admin</dc:creator>
  <dc:description/>
  <dc:language>en-US</dc:language>
  <cp:lastModifiedBy>Admin</cp:lastModifiedBy>
  <dcterms:modified xsi:type="dcterms:W3CDTF">2012-02-29T11:07:19Z</dcterms:modified>
  <cp:revision>2</cp:revision>
  <dc:subject/>
  <dc:title>Найдите и исправьте ошибки</dc:title>
</cp:coreProperties>
</file>