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B17-2A86-41BB-B865-25C90819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84E-20B7-428C-9E9B-55CF4AD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583-109D-4463-8F30-2596ED0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6D9-7350-4A7A-9CC4-E054658A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1C18-60F9-4014-898A-871724DE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8E1-A6B6-4F2D-9297-7F89052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2D5-30D9-4F5A-B632-1412657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B4A-2F5C-4A58-8B56-1A49A2C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9FC-E4A1-4D32-9D78-25FBDEA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BFC9-6554-48ED-94AF-F390BAD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8176-166D-4C8A-B204-A97194E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BBC-A7CD-4132-97C6-3662C4E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01F3-B9C5-4E26-8451-E21A126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D102-2E2D-4CF1-9C83-8A0CD330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CECD-9252-4E83-9FD7-41EC728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60CA-4A5E-42C1-B544-5B0FF4EE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B550-3268-424B-A52E-2FAB9B62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71E-4235-422A-98D8-783033F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13F-691E-4F3E-AB62-082D1A92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216-A91D-4E88-B4DA-E6D2C24A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07B-AD90-47CC-A9F8-DCC0E31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993-54F1-450E-A9A6-A09C2BC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405-4C20-4246-802B-D0D9732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439-0F97-43AD-A16F-BBAFFC8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6F2-8A56-422C-B050-D8D2555274D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CAA-9641-4453-B13A-5A93C5252B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йдите и исправьте ошиб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едостеречь об опас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веренность в побед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еспокоиться за младшего бра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делять внимание на правописание глагол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войственный для глагол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6:54:59Z</dcterms:created>
  <dc:creator>Admin</dc:creator>
  <dc:description/>
  <dc:language>en-US</dc:language>
  <cp:lastModifiedBy>Admin</cp:lastModifiedBy>
  <dcterms:modified xsi:type="dcterms:W3CDTF">2012-02-29T11:07:19Z</dcterms:modified>
  <cp:revision>2</cp:revision>
  <dc:subject/>
  <dc:title>Найдите и исправьте ошибки</dc:title>
</cp:coreProperties>
</file>