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058A-0FA4-4387-97E9-910CF918D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FC78-89F4-4CDF-BE7C-678C58C8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EAD2-230A-4EBA-8DBD-BD80179C4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5322-5D07-4ADE-AFB2-C679E735E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6D08-CFCE-4522-88CD-62D391DA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8990-B386-4DFB-ADF0-6070AFA6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A920-C0C9-408E-9584-2C3D2923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EC74-BE79-4D3B-83B4-DB1A5DDE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FA01-DC61-42C5-9C81-1134B559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2EC7-9824-42EF-82F1-30CCC511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0E3A-0D3B-4E37-9C98-ED145973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0B00-9513-4034-911F-3ED974BA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E648-54E9-4DBD-AAD2-76267B25C2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 Укажите, в каких случаях НЕ пишется слит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160020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не) померкнув от време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не) потухшие ог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не) успев сказ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не) измер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Укажите правильно построенное предложение с деепричастным оборо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ходясь в пути, мне всегда вспоминается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уча, набирая силу, медленно поднималась из-за л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дыхая на даче, мне пришло приглашение на веч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ся вспомнив друга и захотел написать ему письм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Укажите предложени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деепричастным оборо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гда наступила весна, кустик дал первый рос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авший от разговоров путник усну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село переливаясь на солнце, дрожали капли ро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ёза, воспетая в песнях, всегда была спутницей русского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Найдите предложени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пунктуационной ошиб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5228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рнувшись домой, я долго вспоминал о своих летних приключен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ин раз, рассматривая семейный альбом и удивляясь разнообразию пережитого, я вспомнил забавный случ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остановился и, оглядевшись, увидел уже знакомое мне мест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работал, спустя рука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Укажите, в каком ряду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глагольные формы употребляются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винительным падежом зависимого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алеть, жалеющий, жале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писать, подписанный, подписавш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товить, приготовленный, приготов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бить, любимый, лю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Укажите, где допущена ошибка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пределении грамматических призна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устив – деепричастие, сов.ви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вершённый – причастие, страдат., прош.в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стоящий – прилагательно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видев – деепричастие, несов.ви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це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 – 6 баллов – «5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 балла – «4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 балла – «3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 балла – «2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EM</cp:lastModifiedBy>
  <dcterms:modified xsi:type="dcterms:W3CDTF">2009-12-14T07:19:13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