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96AE-A43A-4E3D-B1A3-216C7957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F9B-90B4-4DC8-B280-4B22F78B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315-3640-4E79-AC5D-27A64D74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697-2D04-42B9-BB33-8A03B108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821-4E8A-437B-AF97-3528D84B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A14-EDDE-4042-A7CE-8E190FDE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68E-8A59-4395-AA7C-7060195B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542-6773-4CF6-9C81-09712E5C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0AC-9807-4353-83FB-ED2EE817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622-768A-4840-BA9F-00A4440D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428-2D93-4B77-907D-9120A7CE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A582-74B5-4E92-8AC6-4E78A853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BC22-B048-4D80-9DBE-A5B9A7A9B0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овогодняя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этическо-физическая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иктор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 учитель физики МБОУ «Курташкинская шко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ёшкина М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Вознесенски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стихотвор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Мороз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нишь время молод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врывались на пар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ляя пол-ладо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ороженной к дв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«пол-ладони» оказалась «примороженной к двери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ите это с точки зрения физи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Металл, обладая большой теплопроводностью, активно «отводит» тепло от руки, вследствие чего влага, имеющаяся в её порах и на ней, быстро охлаждается до температуры кристаллизации и примерзае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98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0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А. Блок. Из стихотворения «Ночь на Новый год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жат холодные тума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ят багровые кост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а морозная Светл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чтах таинственной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рипнет снег – сердца займутся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ова тихая лу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воротами смею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льше – улица тем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скрипит снег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Скрип снега вызван хождением по нему; при этом разрушались его ледяные кристалл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автор этих стр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ятней модного парк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стает речка льдом од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ьчишек радостный на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ьками звучно режет л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коньки  «режут» лёд и почему они хорошо скользят по льд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Под давлением конькобежца лёд подтаивает и коньки движутся по тонкой водяной пленке, которая служит смаз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С. Пуш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00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. Б. Кедрин .Из стихотворения «Мороз на стёкл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йзаж тропического л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ет стужа на ок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чем ей розы? Видно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има тоскует о вес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едите на физическую терминологию процес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сования» стужи на ок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Кристаллиз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01 (13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 А. Бунин. Из стихотворения «Ночь на окн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бряном от инея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кне, серебряном от ине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ночь хризантемы расцв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ерхних стёклах небо ярко-си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стреха в снеговой пы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чего «в верхних стёклах – небо ярко-сине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Конвективные потоки воздуха, соприкасаясь с нижними оконными стеклами, охладились; при этом водяные пары, содерж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иеся в этих потоках, сконденсировались, охладились и кристаллизова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01 (7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И. Недогонов. Из стихотворения «Хол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оз, туман речной сгущ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дит в просторе ледян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ницы в стёкла превращ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 Доном ходит ходу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, вдосталь вымученный за ноч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белом поле под лу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пящий витязь, Дон Иваны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жит в кольчуге ледя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в мороз над ещё не замерзшим Доном был виден гу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ма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. Температура воды в реке выше, чем окружающего возду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нимающийся с воды водяной пар в воздухе охлаждается и конденсиру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апельки влаги – образуется тум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01 (8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стихотворения «Метел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молчит, - лучина с тре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шь горит багровым блеск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по кровле ветр шум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автор этих строк. Почему лучина «горит с треском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ы. Афанасий Афанасиевич Фет. При горении лучины из её древесины интенсивно испаряется влага; увеличиваясь в объём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реском разрывает древесные волок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HAPPY NEW YEAR 2006 "/>
          <p:cNvPicPr/>
          <p:nvPr/>
        </p:nvPicPr>
        <p:blipFill>
          <a:blip r:embed="rId1"/>
          <a:stretch/>
        </p:blipFill>
        <p:spPr>
          <a:xfrm>
            <a:off x="7956720" y="5373720"/>
            <a:ext cx="196560" cy="484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01 (50)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200023"/>
          <p:cNvPicPr/>
          <p:nvPr/>
        </p:nvPicPr>
        <p:blipFill>
          <a:blip r:embed="rId1"/>
          <a:stretch/>
        </p:blipFill>
        <p:spPr>
          <a:xfrm>
            <a:off x="863640" y="0"/>
            <a:ext cx="82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написал цитируемое стихотворение? Какое физическое явление связано с событием «сковал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руды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 морозы затрещ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сковали все пру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мальчишки закрич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й «спасибо» за тру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 Есе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01 (4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01 (43)"/>
          <p:cNvPicPr/>
          <p:nvPr/>
        </p:nvPicPr>
        <p:blipFill>
          <a:blip r:embed="rId1"/>
          <a:stretch/>
        </p:blipFill>
        <p:spPr>
          <a:xfrm>
            <a:off x="-2309760" y="-1052640"/>
            <a:ext cx="13763520" cy="89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автор этих строк? Как называется произведение, откуда они взяты? Что представляют, с точки зрения физики, «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клах лёгкие узо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но увидела Татья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утру побелевший дво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тины, кровли и забо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тёклах лёгкие узо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евья в лёгком сереб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С. Пушкин,  «Евгений Онегин».   Кристаллики замёрзшей воды, её твёрдое состоя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01 (11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. Басё – японский поэ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 треском лопнул кувшин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треском лопнул кувшин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очью вода в нём замёрз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пробудился вдру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вода при замерзании разорвала кувши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кристаллизации объём льда становится больше, чем объём бывшей до этого 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7T16:26:57Z</dcterms:created>
  <dc:creator>Алёшкин</dc:creator>
  <dc:description/>
  <dc:language>en-US</dc:language>
  <cp:lastModifiedBy>Кафедра ИВС</cp:lastModifiedBy>
  <dcterms:modified xsi:type="dcterms:W3CDTF">2019-10-06T18:51:27Z</dcterms:modified>
  <cp:revision>6</cp:revision>
  <dc:subject/>
  <dc:title>Новогодняя поэтическо-физическая викторина</dc:title>
</cp:coreProperties>
</file>