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6F8-1E01-430A-9171-EBFC3105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3AB-1DCE-45CC-A745-BD40C9C8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D8C-EB8C-439D-B5D9-D8BD78FA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CB3-6BD7-4CD0-AB69-900A163E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C392-833F-4B60-9AFD-9961016E1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3D4F7-6B44-4D08-ADC0-53C1E64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26118-CFB3-482A-9C3C-942EB373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8B20-F1C2-4291-ACEF-5C40DDC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C084A-93D7-499B-B38E-2729AA87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81A91-A33C-4C08-A856-AB6C77D7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E8BA3-CD34-4610-AC2A-D42E9B2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73C-8BA3-4AAE-87F5-26DBDD75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E912C-34D4-4542-9923-133EFD4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BA0DD-8098-4E59-AE05-5D92B68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03FA1-C810-4636-9819-D1F4B86C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7FBB-CBAF-4411-982E-497385B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7BFD6-BF70-4095-86D2-874601077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C4C-3C36-4D21-8CF3-1EAE06DB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529-C69C-46D7-91B3-9E19B2A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320-CA1B-4152-9B2A-83FA00C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E01-FA42-4921-A993-F1FE1F1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36B-2DE7-465A-B84A-D83771D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789-65BE-4088-89C5-87D6679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55A-9251-430F-828C-BD3430B2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0360" y="63813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E1F7-768C-4898-8392-FFC078D23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B5CE-E46A-4015-B104-773A2C9A4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92160" y="2708280"/>
            <a:ext cx="72518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формационно-коммуникационных технологий в обучени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928960" y="3357360"/>
            <a:ext cx="57672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36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Использование ИКТ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264360" y="2397240"/>
            <a:ext cx="259236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351480" y="2389320"/>
            <a:ext cx="25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Демонстрация приемов анализа текста и использования письмен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250920" y="2397240"/>
            <a:ext cx="2573280" cy="187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34800" y="2397240"/>
            <a:ext cx="24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Предоставление моделей реальных жизненных проблем или собы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"/>
          <p:cNvSpPr/>
          <p:nvPr/>
        </p:nvSpPr>
        <p:spPr>
          <a:xfrm flipH="1">
            <a:off x="5514840" y="2482920"/>
            <a:ext cx="725760" cy="1198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1"/>
          <p:cNvGrpSpPr/>
          <p:nvPr/>
        </p:nvGrpSpPr>
        <p:grpSpPr>
          <a:xfrm>
            <a:off x="1739880" y="1087560"/>
            <a:ext cx="5425200" cy="1404360"/>
            <a:chOff x="1739880" y="1087560"/>
            <a:chExt cx="5425200" cy="1404360"/>
          </a:xfrm>
        </p:grpSpPr>
        <p:grpSp>
          <p:nvGrpSpPr>
            <p:cNvPr id="186" name="Group 12"/>
            <p:cNvGrpSpPr/>
            <p:nvPr/>
          </p:nvGrpSpPr>
          <p:grpSpPr>
            <a:xfrm>
              <a:off x="1739880" y="1212840"/>
              <a:ext cx="5425200" cy="1279080"/>
              <a:chOff x="1739880" y="1212840"/>
              <a:chExt cx="5425200" cy="1279080"/>
            </a:xfrm>
          </p:grpSpPr>
          <p:sp>
            <p:nvSpPr>
              <p:cNvPr id="187" name="Oval 13"/>
              <p:cNvSpPr/>
              <p:nvPr/>
            </p:nvSpPr>
            <p:spPr>
              <a:xfrm>
                <a:off x="1799280" y="1253520"/>
                <a:ext cx="5365800" cy="1238400"/>
              </a:xfrm>
              <a:prstGeom prst="ellipse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4"/>
              <p:cNvSpPr/>
              <p:nvPr/>
            </p:nvSpPr>
            <p:spPr>
              <a:xfrm>
                <a:off x="1739880" y="1212840"/>
                <a:ext cx="5365800" cy="123804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Oval 15"/>
            <p:cNvSpPr/>
            <p:nvPr/>
          </p:nvSpPr>
          <p:spPr>
            <a:xfrm>
              <a:off x="1995840" y="1087560"/>
              <a:ext cx="4856760" cy="117648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2058840" y="1094400"/>
              <a:ext cx="4739040" cy="114696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8"/>
            <p:cNvSpPr/>
            <p:nvPr/>
          </p:nvSpPr>
          <p:spPr>
            <a:xfrm>
              <a:off x="2346120" y="1129320"/>
              <a:ext cx="3969000" cy="87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9"/>
          <p:cNvSpPr/>
          <p:nvPr/>
        </p:nvSpPr>
        <p:spPr>
          <a:xfrm>
            <a:off x="2538360" y="12924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1528920" y="4338720"/>
            <a:ext cx="259236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254240" y="4503600"/>
            <a:ext cx="300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Предоставление изображения для моделирования эмоций и чув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3"/>
          <p:cNvSpPr/>
          <p:nvPr/>
        </p:nvSpPr>
        <p:spPr>
          <a:xfrm flipH="1" rot="1876800">
            <a:off x="4415760" y="3001680"/>
            <a:ext cx="871560" cy="1187280"/>
          </a:xfrm>
          <a:custGeom>
            <a:avLst/>
            <a:gdLst>
              <a:gd name="textAreaLeft" fmla="*/ -360 w 871560"/>
              <a:gd name="textAreaRight" fmla="*/ 871560 w 87156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1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4395960" y="4338720"/>
            <a:ext cx="235728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438800" y="4427640"/>
            <a:ext cx="226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Использование таблиц в качестве математической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Freeform 23" descr=""/>
          <p:cNvPicPr/>
          <p:nvPr/>
        </p:nvPicPr>
        <p:blipFill>
          <a:blip r:embed="rId1"/>
          <a:stretch/>
        </p:blipFill>
        <p:spPr>
          <a:xfrm>
            <a:off x="2803680" y="2371680"/>
            <a:ext cx="682560" cy="1389240"/>
          </a:xfrm>
          <a:prstGeom prst="rect">
            <a:avLst/>
          </a:prstGeom>
          <a:ln w="0">
            <a:noFill/>
          </a:ln>
        </p:spPr>
      </p:pic>
      <p:pic>
        <p:nvPicPr>
          <p:cNvPr id="199" name="Freeform 23" descr=""/>
          <p:cNvPicPr/>
          <p:nvPr/>
        </p:nvPicPr>
        <p:blipFill>
          <a:blip r:embed="rId2"/>
          <a:stretch/>
        </p:blipFill>
        <p:spPr>
          <a:xfrm>
            <a:off x="3676680" y="2762280"/>
            <a:ext cx="682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Использование ИКТ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6264360" y="2397240"/>
            <a:ext cx="259236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335640" y="2508120"/>
            <a:ext cx="252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Содействие открытиям в обучении (поиск информации на веб-сай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50920" y="2397240"/>
            <a:ext cx="257328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07800" y="2433600"/>
            <a:ext cx="2448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Обеспечение доступа к информации в различных формах</a:t>
            </a: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0"/>
          <p:cNvSpPr/>
          <p:nvPr/>
        </p:nvSpPr>
        <p:spPr>
          <a:xfrm flipH="1">
            <a:off x="5514840" y="2482920"/>
            <a:ext cx="725760" cy="1198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739880" y="1087560"/>
            <a:ext cx="5425200" cy="1404360"/>
            <a:chOff x="1739880" y="1087560"/>
            <a:chExt cx="5425200" cy="1404360"/>
          </a:xfrm>
        </p:grpSpPr>
        <p:grpSp>
          <p:nvGrpSpPr>
            <p:cNvPr id="208" name="Group 12"/>
            <p:cNvGrpSpPr/>
            <p:nvPr/>
          </p:nvGrpSpPr>
          <p:grpSpPr>
            <a:xfrm>
              <a:off x="1739880" y="1212840"/>
              <a:ext cx="5425200" cy="1279080"/>
              <a:chOff x="1739880" y="1212840"/>
              <a:chExt cx="5425200" cy="1279080"/>
            </a:xfrm>
          </p:grpSpPr>
          <p:sp>
            <p:nvSpPr>
              <p:cNvPr id="209" name="Oval 13"/>
              <p:cNvSpPr/>
              <p:nvPr/>
            </p:nvSpPr>
            <p:spPr>
              <a:xfrm>
                <a:off x="1799280" y="1253520"/>
                <a:ext cx="5365800" cy="1238400"/>
              </a:xfrm>
              <a:prstGeom prst="ellipse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4"/>
              <p:cNvSpPr/>
              <p:nvPr/>
            </p:nvSpPr>
            <p:spPr>
              <a:xfrm>
                <a:off x="1739880" y="1212840"/>
                <a:ext cx="5365800" cy="123804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Oval 15"/>
            <p:cNvSpPr/>
            <p:nvPr/>
          </p:nvSpPr>
          <p:spPr>
            <a:xfrm>
              <a:off x="1995840" y="1087560"/>
              <a:ext cx="4856760" cy="117648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2058840" y="1094400"/>
              <a:ext cx="4739040" cy="114696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8"/>
            <p:cNvSpPr/>
            <p:nvPr/>
          </p:nvSpPr>
          <p:spPr>
            <a:xfrm>
              <a:off x="2346120" y="1129320"/>
              <a:ext cx="3969000" cy="87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9"/>
          <p:cNvSpPr/>
          <p:nvPr/>
        </p:nvSpPr>
        <p:spPr>
          <a:xfrm>
            <a:off x="2538360" y="12924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ценка и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1528920" y="4338720"/>
            <a:ext cx="259236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1254240" y="4657680"/>
            <a:ext cx="30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Демонстрация различных типов тек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3"/>
          <p:cNvSpPr/>
          <p:nvPr/>
        </p:nvSpPr>
        <p:spPr>
          <a:xfrm flipH="1" rot="1876800">
            <a:off x="4415760" y="3001680"/>
            <a:ext cx="871560" cy="1187280"/>
          </a:xfrm>
          <a:custGeom>
            <a:avLst/>
            <a:gdLst>
              <a:gd name="textAreaLeft" fmla="*/ -360 w 871560"/>
              <a:gd name="textAreaRight" fmla="*/ 871560 w 87156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1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4395960" y="4338720"/>
            <a:ext cx="235728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4373640" y="4449600"/>
            <a:ext cx="24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Предоставление альтернативных презентаций и изоб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Freeform 23" descr=""/>
          <p:cNvPicPr/>
          <p:nvPr/>
        </p:nvPicPr>
        <p:blipFill>
          <a:blip r:embed="rId1"/>
          <a:stretch/>
        </p:blipFill>
        <p:spPr>
          <a:xfrm>
            <a:off x="2803680" y="2371680"/>
            <a:ext cx="6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21" name="Freeform 23" descr=""/>
          <p:cNvPicPr/>
          <p:nvPr/>
        </p:nvPicPr>
        <p:blipFill>
          <a:blip r:embed="rId2"/>
          <a:stretch/>
        </p:blipFill>
        <p:spPr>
          <a:xfrm>
            <a:off x="3676680" y="2762280"/>
            <a:ext cx="682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Использование ИКТ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6264360" y="2397240"/>
            <a:ext cx="270036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210360" y="26146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Совершенствование и повышение качества работ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250920" y="2397240"/>
            <a:ext cx="257328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64960" y="261468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Обмен идеями и работам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"/>
          <p:cNvSpPr/>
          <p:nvPr/>
        </p:nvSpPr>
        <p:spPr>
          <a:xfrm flipH="1">
            <a:off x="5514840" y="2482920"/>
            <a:ext cx="725760" cy="1198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1"/>
          <p:cNvGrpSpPr/>
          <p:nvPr/>
        </p:nvGrpSpPr>
        <p:grpSpPr>
          <a:xfrm>
            <a:off x="1739880" y="1087560"/>
            <a:ext cx="5425200" cy="1404360"/>
            <a:chOff x="1739880" y="1087560"/>
            <a:chExt cx="5425200" cy="1404360"/>
          </a:xfrm>
        </p:grpSpPr>
        <p:grpSp>
          <p:nvGrpSpPr>
            <p:cNvPr id="230" name="Group 12"/>
            <p:cNvGrpSpPr/>
            <p:nvPr/>
          </p:nvGrpSpPr>
          <p:grpSpPr>
            <a:xfrm>
              <a:off x="1739880" y="1212840"/>
              <a:ext cx="5425200" cy="1279080"/>
              <a:chOff x="1739880" y="1212840"/>
              <a:chExt cx="5425200" cy="1279080"/>
            </a:xfrm>
          </p:grpSpPr>
          <p:sp>
            <p:nvSpPr>
              <p:cNvPr id="231" name="Oval 13"/>
              <p:cNvSpPr/>
              <p:nvPr/>
            </p:nvSpPr>
            <p:spPr>
              <a:xfrm>
                <a:off x="1799280" y="1253520"/>
                <a:ext cx="5365800" cy="1238400"/>
              </a:xfrm>
              <a:prstGeom prst="ellipse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4"/>
              <p:cNvSpPr/>
              <p:nvPr/>
            </p:nvSpPr>
            <p:spPr>
              <a:xfrm>
                <a:off x="1739880" y="1212840"/>
                <a:ext cx="5365800" cy="123804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Oval 15"/>
            <p:cNvSpPr/>
            <p:nvPr/>
          </p:nvSpPr>
          <p:spPr>
            <a:xfrm>
              <a:off x="1995840" y="1087560"/>
              <a:ext cx="4856760" cy="117648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2058840" y="1094400"/>
              <a:ext cx="4739040" cy="114696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8"/>
            <p:cNvSpPr/>
            <p:nvPr/>
          </p:nvSpPr>
          <p:spPr>
            <a:xfrm>
              <a:off x="2346120" y="1129320"/>
              <a:ext cx="3969000" cy="87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9"/>
          <p:cNvSpPr/>
          <p:nvPr/>
        </p:nvSpPr>
        <p:spPr>
          <a:xfrm>
            <a:off x="2494080" y="121284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Представление и 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0"/>
          <p:cNvSpPr/>
          <p:nvPr/>
        </p:nvSpPr>
        <p:spPr>
          <a:xfrm>
            <a:off x="1528920" y="4338720"/>
            <a:ext cx="259236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322280" y="475128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Обмен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3"/>
          <p:cNvSpPr/>
          <p:nvPr/>
        </p:nvSpPr>
        <p:spPr>
          <a:xfrm flipH="1" rot="1876800">
            <a:off x="4415760" y="3001680"/>
            <a:ext cx="871560" cy="1187280"/>
          </a:xfrm>
          <a:custGeom>
            <a:avLst/>
            <a:gdLst>
              <a:gd name="textAreaLeft" fmla="*/ -360 w 871560"/>
              <a:gd name="textAreaRight" fmla="*/ 871560 w 87156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1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4395960" y="4338720"/>
            <a:ext cx="235728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4462560" y="4657680"/>
            <a:ext cx="227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Обобщение мнений 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Freeform 23" descr=""/>
          <p:cNvPicPr/>
          <p:nvPr/>
        </p:nvPicPr>
        <p:blipFill>
          <a:blip r:embed="rId1"/>
          <a:stretch/>
        </p:blipFill>
        <p:spPr>
          <a:xfrm>
            <a:off x="2803680" y="2371680"/>
            <a:ext cx="6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43" name="Freeform 23" descr=""/>
          <p:cNvPicPr/>
          <p:nvPr/>
        </p:nvPicPr>
        <p:blipFill>
          <a:blip r:embed="rId2"/>
          <a:stretch/>
        </p:blipFill>
        <p:spPr>
          <a:xfrm>
            <a:off x="3676680" y="2762280"/>
            <a:ext cx="682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Использование ИКТ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6264360" y="2397240"/>
            <a:ext cx="259236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335640" y="256536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Использование интерактивных программ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250920" y="2397240"/>
            <a:ext cx="257328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7800" y="2689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зучение баз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 flipH="1">
            <a:off x="5514840" y="2482920"/>
            <a:ext cx="725760" cy="1198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1"/>
          <p:cNvGrpSpPr/>
          <p:nvPr/>
        </p:nvGrpSpPr>
        <p:grpSpPr>
          <a:xfrm>
            <a:off x="1739880" y="1087560"/>
            <a:ext cx="5425200" cy="1404360"/>
            <a:chOff x="1739880" y="1087560"/>
            <a:chExt cx="5425200" cy="1404360"/>
          </a:xfrm>
        </p:grpSpPr>
        <p:grpSp>
          <p:nvGrpSpPr>
            <p:cNvPr id="252" name="Group 12"/>
            <p:cNvGrpSpPr/>
            <p:nvPr/>
          </p:nvGrpSpPr>
          <p:grpSpPr>
            <a:xfrm>
              <a:off x="1739880" y="1212840"/>
              <a:ext cx="5425200" cy="1279080"/>
              <a:chOff x="1739880" y="1212840"/>
              <a:chExt cx="5425200" cy="1279080"/>
            </a:xfrm>
          </p:grpSpPr>
          <p:sp>
            <p:nvSpPr>
              <p:cNvPr id="253" name="Oval 13"/>
              <p:cNvSpPr/>
              <p:nvPr/>
            </p:nvSpPr>
            <p:spPr>
              <a:xfrm>
                <a:off x="1799280" y="1253520"/>
                <a:ext cx="5365800" cy="1238400"/>
              </a:xfrm>
              <a:prstGeom prst="ellipse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1739880" y="1212840"/>
                <a:ext cx="5365800" cy="123804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Oval 15"/>
            <p:cNvSpPr/>
            <p:nvPr/>
          </p:nvSpPr>
          <p:spPr>
            <a:xfrm>
              <a:off x="1995840" y="1087560"/>
              <a:ext cx="4856760" cy="117648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6"/>
            <p:cNvSpPr/>
            <p:nvPr/>
          </p:nvSpPr>
          <p:spPr>
            <a:xfrm>
              <a:off x="2058840" y="1094400"/>
              <a:ext cx="4739040" cy="114696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8"/>
            <p:cNvSpPr/>
            <p:nvPr/>
          </p:nvSpPr>
          <p:spPr>
            <a:xfrm>
              <a:off x="2346120" y="1129320"/>
              <a:ext cx="3969000" cy="87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19"/>
          <p:cNvSpPr/>
          <p:nvPr/>
        </p:nvSpPr>
        <p:spPr>
          <a:xfrm>
            <a:off x="2538360" y="12128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естирование и под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0"/>
          <p:cNvSpPr/>
          <p:nvPr/>
        </p:nvSpPr>
        <p:spPr>
          <a:xfrm>
            <a:off x="1903320" y="4338720"/>
            <a:ext cx="471168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128680" y="4581360"/>
            <a:ext cx="42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d"/>
                </a:solidFill>
                <a:latin typeface="Arial"/>
              </a:rPr>
              <a:t>Сбор данных для проверки, подтверждения или опровержения пред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Freeform 23" descr=""/>
          <p:cNvPicPr/>
          <p:nvPr/>
        </p:nvPicPr>
        <p:blipFill>
          <a:blip r:embed="rId1"/>
          <a:stretch/>
        </p:blipFill>
        <p:spPr>
          <a:xfrm>
            <a:off x="2803680" y="2371680"/>
            <a:ext cx="6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62" name="Freeform 23" descr=""/>
          <p:cNvPicPr/>
          <p:nvPr/>
        </p:nvPicPr>
        <p:blipFill>
          <a:blip r:embed="rId2"/>
          <a:stretch/>
        </p:blipFill>
        <p:spPr>
          <a:xfrm>
            <a:off x="3676680" y="2762280"/>
            <a:ext cx="682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6933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екомендации по использованию информационно-коммуникационных технологий 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. Компьютерные программы не должны использоваться с развлекательной направленностью и с исключительной целью повышения интереса к предмету путем показа визуальных объектов. В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ажно использовать мультимедиа средства (ИКТ)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 не только в качестве иллюстративного материала, но и 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ак основу для структурирования и систематизации информации, творческого применения полученных знаний, 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т.е. иллюстрации должны подкреплять познавательную деятельность, а не заменять её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2. 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спользуя ИКТ, необходимо планировать работу по обобщению и закреплению учебного материала 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через использование мультимедийных энциклопедий, включение тестовых заданий и закрепление знаний, умений и навыков на обучающих тренажерах, в обучающих программах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3. 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ланируя формы работы с использованием ИКТ, необходимо создавать проблемные ситуации, развивать творческий потенциал обучающихся; не перегружать учебный  материал использованием ИКТ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 (чрезмерное увлечение компьютером может принести вред, снизить работоспособность)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6933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екомендации по использованию информационно-коммуникационных технологий 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412640"/>
            <a:ext cx="830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4. Для развития коммуникативной компетенци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ажно при использовании ИКТ планировать групповые задания. 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лагодаря обсуждению и проектированию образовательного процесса его участники по мере накопления опыта обсуждений приобретают многие полезные умения и свойства: выделять и излагать свою позицию и воспринимать чужую; подчиняться общим правилам и вырабатывать на этой основе способы саморегуляции и адекватной самооценки и др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5. Необходимо ориентировать учебную деятельность и самостоятельную работу обучающихся на удовлетворение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 образовательных  потребностей учеников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6. При подготовке к занятиям с использованием ИКТ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 необходимо учитывать особенности акцентирования 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зрительного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) отдельных элементов, физиологические стороны восприятия 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четкость печати, особенности шрифтов и т.д.)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ttp://akak.ru/recipes/pictures/000/015/688_big.jpg"/>
          <p:cNvPicPr/>
          <p:nvPr/>
        </p:nvPicPr>
        <p:blipFill>
          <a:blip r:embed="rId1"/>
          <a:srcRect l="0" t="0" r="0" b="13296"/>
          <a:stretch/>
        </p:blipFill>
        <p:spPr>
          <a:xfrm>
            <a:off x="3348000" y="4005360"/>
            <a:ext cx="252108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477720" y="981000"/>
            <a:ext cx="855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формационно-коммуникационные технологии (ИКТ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окупность методов, производственных процессов и программно-технических средств, интегрированных с целью сбора, обработки, хранения, распространения, отображения и использования информации в интересах ее пользов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art-zip.ru/images/gallery/75/preview/rabota-v-internete.jpg"/>
          <p:cNvPicPr/>
          <p:nvPr/>
        </p:nvPicPr>
        <p:blipFill>
          <a:blip r:embed="rId2"/>
          <a:stretch/>
        </p:blipFill>
        <p:spPr>
          <a:xfrm>
            <a:off x="108000" y="3486240"/>
            <a:ext cx="3389400" cy="315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domcomputer.ru/wp-content/uploads/2012/05/planshet_le1700.png"/>
          <p:cNvPicPr/>
          <p:nvPr/>
        </p:nvPicPr>
        <p:blipFill>
          <a:blip r:embed="rId3"/>
          <a:stretch/>
        </p:blipFill>
        <p:spPr>
          <a:xfrm>
            <a:off x="6012000" y="4703760"/>
            <a:ext cx="2914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2"/>
          <p:cNvGrpSpPr/>
          <p:nvPr/>
        </p:nvGrpSpPr>
        <p:grpSpPr>
          <a:xfrm>
            <a:off x="944640" y="743040"/>
            <a:ext cx="7858080" cy="847800"/>
            <a:chOff x="944640" y="743040"/>
            <a:chExt cx="7858080" cy="847800"/>
          </a:xfrm>
        </p:grpSpPr>
        <p:pic>
          <p:nvPicPr>
            <p:cNvPr id="9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944640" y="743040"/>
              <a:ext cx="7858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03320" y="781200"/>
              <a:ext cx="77421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3"/>
          <p:cNvSpPr/>
          <p:nvPr/>
        </p:nvSpPr>
        <p:spPr>
          <a:xfrm>
            <a:off x="1011240" y="949320"/>
            <a:ext cx="77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Изменения в системе использования и оценивания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10"/>
          <p:cNvGrpSpPr/>
          <p:nvPr/>
        </p:nvGrpSpPr>
        <p:grpSpPr>
          <a:xfrm>
            <a:off x="895320" y="2614680"/>
            <a:ext cx="7858080" cy="847800"/>
            <a:chOff x="895320" y="2614680"/>
            <a:chExt cx="7858080" cy="847800"/>
          </a:xfrm>
        </p:grpSpPr>
        <p:pic>
          <p:nvPicPr>
            <p:cNvPr id="9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895320" y="2614680"/>
              <a:ext cx="7858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57240" y="2652840"/>
              <a:ext cx="774216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11"/>
          <p:cNvSpPr/>
          <p:nvPr/>
        </p:nvSpPr>
        <p:spPr>
          <a:xfrm>
            <a:off x="3531240" y="2819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http://t1.gstatic.com/images?q=tbn:ANd9GcSQwe43lK_kDZR4kj4iowX4oRIARrYmSQOmWmBbs3KmugVFTlDd"/>
          <p:cNvPicPr/>
          <p:nvPr/>
        </p:nvPicPr>
        <p:blipFill>
          <a:blip r:embed="rId3"/>
          <a:stretch/>
        </p:blipFill>
        <p:spPr>
          <a:xfrm>
            <a:off x="6804000" y="4437000"/>
            <a:ext cx="21430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99" name="Прямоугольник 8"/>
          <p:cNvGrpSpPr/>
          <p:nvPr/>
        </p:nvGrpSpPr>
        <p:grpSpPr>
          <a:xfrm>
            <a:off x="950760" y="1676520"/>
            <a:ext cx="7858440" cy="847440"/>
            <a:chOff x="950760" y="1676520"/>
            <a:chExt cx="7858440" cy="847440"/>
          </a:xfrm>
        </p:grpSpPr>
        <p:pic>
          <p:nvPicPr>
            <p:cNvPr id="10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950760" y="1676520"/>
              <a:ext cx="7858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11240" y="1714680"/>
              <a:ext cx="77421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3"/>
          <p:cNvSpPr/>
          <p:nvPr/>
        </p:nvSpPr>
        <p:spPr>
          <a:xfrm>
            <a:off x="1346400" y="1882800"/>
            <a:ext cx="70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способов обучения, методик и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957240" y="3527280"/>
            <a:ext cx="2750760" cy="2570040"/>
            <a:chOff x="957240" y="3527280"/>
            <a:chExt cx="2750760" cy="2570040"/>
          </a:xfrm>
        </p:grpSpPr>
        <p:sp>
          <p:nvSpPr>
            <p:cNvPr id="104" name="AutoShape 4"/>
            <p:cNvSpPr/>
            <p:nvPr/>
          </p:nvSpPr>
          <p:spPr>
            <a:xfrm>
              <a:off x="957240" y="3777120"/>
              <a:ext cx="2750760" cy="23202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999720" y="3783600"/>
              <a:ext cx="2667960" cy="2276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021680" y="5459400"/>
              <a:ext cx="2631960" cy="57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7"/>
            <p:cNvSpPr/>
            <p:nvPr/>
          </p:nvSpPr>
          <p:spPr>
            <a:xfrm>
              <a:off x="1021680" y="3801600"/>
              <a:ext cx="263196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0"/>
            <p:cNvGrpSpPr/>
            <p:nvPr/>
          </p:nvGrpSpPr>
          <p:grpSpPr>
            <a:xfrm>
              <a:off x="1903680" y="3527280"/>
              <a:ext cx="817200" cy="522000"/>
              <a:chOff x="1903680" y="3527280"/>
              <a:chExt cx="817200" cy="522000"/>
            </a:xfrm>
          </p:grpSpPr>
          <p:sp>
            <p:nvSpPr>
              <p:cNvPr id="109" name="Oval 11"/>
              <p:cNvSpPr/>
              <p:nvPr/>
            </p:nvSpPr>
            <p:spPr>
              <a:xfrm>
                <a:off x="1903680" y="3527280"/>
                <a:ext cx="817200" cy="522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3"/>
              <p:cNvSpPr/>
              <p:nvPr/>
            </p:nvSpPr>
            <p:spPr>
              <a:xfrm>
                <a:off x="1921680" y="3534120"/>
                <a:ext cx="771840" cy="49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5"/>
              <p:cNvSpPr/>
              <p:nvPr/>
            </p:nvSpPr>
            <p:spPr>
              <a:xfrm>
                <a:off x="1973160" y="3551400"/>
                <a:ext cx="651960" cy="37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16"/>
            <p:cNvSpPr/>
            <p:nvPr/>
          </p:nvSpPr>
          <p:spPr>
            <a:xfrm>
              <a:off x="2127960" y="360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1054080" y="4146120"/>
              <a:ext cx="26157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ие эффективности всех видов образовательной деятельности на основе использования информационных и коммуникационных технолог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"/>
          <p:cNvGrpSpPr/>
          <p:nvPr/>
        </p:nvGrpSpPr>
        <p:grpSpPr>
          <a:xfrm>
            <a:off x="3924360" y="3559320"/>
            <a:ext cx="2734920" cy="2568240"/>
            <a:chOff x="3924360" y="3559320"/>
            <a:chExt cx="2734920" cy="2568240"/>
          </a:xfrm>
        </p:grpSpPr>
        <p:sp>
          <p:nvSpPr>
            <p:cNvPr id="115" name="AutoShape 4"/>
            <p:cNvSpPr/>
            <p:nvPr/>
          </p:nvSpPr>
          <p:spPr>
            <a:xfrm>
              <a:off x="3924360" y="3808800"/>
              <a:ext cx="2734920" cy="2318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3966480" y="3815640"/>
              <a:ext cx="2652480" cy="22744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3988440" y="5490000"/>
              <a:ext cx="2616840" cy="57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3988440" y="3833280"/>
              <a:ext cx="261684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4865400" y="3559320"/>
              <a:ext cx="812520" cy="521640"/>
              <a:chOff x="4865400" y="3559320"/>
              <a:chExt cx="812520" cy="521640"/>
            </a:xfrm>
          </p:grpSpPr>
          <p:sp>
            <p:nvSpPr>
              <p:cNvPr id="120" name="Oval 11"/>
              <p:cNvSpPr/>
              <p:nvPr/>
            </p:nvSpPr>
            <p:spPr>
              <a:xfrm>
                <a:off x="4865400" y="3559320"/>
                <a:ext cx="812520" cy="521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3"/>
              <p:cNvSpPr/>
              <p:nvPr/>
            </p:nvSpPr>
            <p:spPr>
              <a:xfrm>
                <a:off x="4883400" y="3566160"/>
                <a:ext cx="767520" cy="492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5"/>
              <p:cNvSpPr/>
              <p:nvPr/>
            </p:nvSpPr>
            <p:spPr>
              <a:xfrm>
                <a:off x="4934520" y="3583440"/>
                <a:ext cx="648360" cy="37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6"/>
            <p:cNvSpPr/>
            <p:nvPr/>
          </p:nvSpPr>
          <p:spPr>
            <a:xfrm>
              <a:off x="5086800" y="363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4020840" y="4177440"/>
              <a:ext cx="26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ие качества подготовки специалистов с новым типом мышления, соответствующим требованиям информационного общ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спользование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нформационно-коммуникационных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ехнологий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AutoShape 78"/>
          <p:cNvSpPr/>
          <p:nvPr/>
        </p:nvSpPr>
        <p:spPr>
          <a:xfrm>
            <a:off x="455760" y="2193840"/>
            <a:ext cx="2574720" cy="3338640"/>
          </a:xfrm>
          <a:custGeom>
            <a:avLst/>
            <a:gdLst>
              <a:gd name="textAreaLeft" fmla="*/ 35280 w 2574720"/>
              <a:gd name="textAreaRight" fmla="*/ 2539440 w 2574720"/>
              <a:gd name="textAreaTop" fmla="*/ 35280 h 3338640"/>
              <a:gd name="textAreaBottom" fmla="*/ 3303360 h 3338640"/>
            </a:gdLst>
            <a:ahLst/>
            <a:rect l="textAreaLeft" t="textAreaTop" r="textAreaRight" b="textAreaBottom"/>
            <a:pathLst>
              <a:path w="21600" h="28008">
                <a:moveTo>
                  <a:pt x="1013" y="0"/>
                </a:moveTo>
                <a:arcTo wR="1013" hR="1013" stAng="16200000" swAng="-5400000"/>
                <a:lnTo>
                  <a:pt x="0" y="26995"/>
                </a:lnTo>
                <a:arcTo wR="1013" hR="1013" stAng="10800000" swAng="-5400000"/>
                <a:lnTo>
                  <a:pt x="20587" y="2800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8c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9"/>
          <p:cNvSpPr/>
          <p:nvPr/>
        </p:nvSpPr>
        <p:spPr>
          <a:xfrm>
            <a:off x="731880" y="1852560"/>
            <a:ext cx="2090520" cy="285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b828"/>
              </a:gs>
              <a:gs pos="100000">
                <a:srgbClr val="2f61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ИВИР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0"/>
          <p:cNvSpPr/>
          <p:nvPr/>
        </p:nvSpPr>
        <p:spPr>
          <a:xfrm flipH="1">
            <a:off x="2741760" y="1925640"/>
            <a:ext cx="80640" cy="142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f611d"/>
              </a:gs>
              <a:gs pos="100000">
                <a:srgbClr val="16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1"/>
          <p:cNvSpPr/>
          <p:nvPr/>
        </p:nvSpPr>
        <p:spPr>
          <a:xfrm flipH="1">
            <a:off x="750240" y="1924200"/>
            <a:ext cx="81000" cy="142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f611d"/>
              </a:gs>
              <a:gs pos="100000">
                <a:srgbClr val="16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2"/>
          <p:cNvSpPr/>
          <p:nvPr/>
        </p:nvSpPr>
        <p:spPr>
          <a:xfrm>
            <a:off x="3232080" y="2193840"/>
            <a:ext cx="2576520" cy="3338640"/>
          </a:xfrm>
          <a:custGeom>
            <a:avLst/>
            <a:gdLst>
              <a:gd name="textAreaLeft" fmla="*/ 35280 w 2576520"/>
              <a:gd name="textAreaRight" fmla="*/ 2541240 w 2576520"/>
              <a:gd name="textAreaTop" fmla="*/ 35280 h 3338640"/>
              <a:gd name="textAreaBottom" fmla="*/ 3303360 h 3338640"/>
            </a:gdLst>
            <a:ahLst/>
            <a:rect l="textAreaLeft" t="textAreaTop" r="textAreaRight" b="textAreaBottom"/>
            <a:pathLst>
              <a:path w="21600" h="27988">
                <a:moveTo>
                  <a:pt x="1013" y="0"/>
                </a:moveTo>
                <a:arcTo wR="1013" hR="1013" stAng="16200000" swAng="-5400000"/>
                <a:lnTo>
                  <a:pt x="0" y="26975"/>
                </a:lnTo>
                <a:arcTo wR="1013" hR="1013" stAng="10800000" swAng="-5400000"/>
                <a:lnTo>
                  <a:pt x="20587" y="2798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791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3"/>
          <p:cNvSpPr/>
          <p:nvPr/>
        </p:nvSpPr>
        <p:spPr>
          <a:xfrm>
            <a:off x="3430440" y="1843200"/>
            <a:ext cx="2090880" cy="285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9133"/>
              </a:gs>
              <a:gs pos="100000">
                <a:srgbClr val="6343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МОГ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4"/>
          <p:cNvSpPr/>
          <p:nvPr/>
        </p:nvSpPr>
        <p:spPr>
          <a:xfrm flipH="1">
            <a:off x="5438160" y="1924200"/>
            <a:ext cx="82440" cy="142560"/>
          </a:xfrm>
          <a:prstGeom prst="octagon">
            <a:avLst>
              <a:gd name="adj" fmla="val 29287"/>
            </a:avLst>
          </a:prstGeom>
          <a:solidFill>
            <a:srgbClr val="f1d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5"/>
          <p:cNvSpPr/>
          <p:nvPr/>
        </p:nvSpPr>
        <p:spPr>
          <a:xfrm flipH="1">
            <a:off x="3437640" y="1916280"/>
            <a:ext cx="81000" cy="142560"/>
          </a:xfrm>
          <a:prstGeom prst="octagon">
            <a:avLst>
              <a:gd name="adj" fmla="val 29287"/>
            </a:avLst>
          </a:prstGeom>
          <a:solidFill>
            <a:srgbClr val="f1d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6"/>
          <p:cNvSpPr/>
          <p:nvPr/>
        </p:nvSpPr>
        <p:spPr>
          <a:xfrm>
            <a:off x="6040440" y="2193840"/>
            <a:ext cx="2575080" cy="3330720"/>
          </a:xfrm>
          <a:custGeom>
            <a:avLst/>
            <a:gdLst>
              <a:gd name="textAreaLeft" fmla="*/ 35280 w 2575080"/>
              <a:gd name="textAreaRight" fmla="*/ 2539800 w 2575080"/>
              <a:gd name="textAreaTop" fmla="*/ 35280 h 3330720"/>
              <a:gd name="textAreaBottom" fmla="*/ 3295440 h 3330720"/>
            </a:gdLst>
            <a:ahLst/>
            <a:rect l="textAreaLeft" t="textAreaTop" r="textAreaRight" b="textAreaBottom"/>
            <a:pathLst>
              <a:path w="21600" h="27937">
                <a:moveTo>
                  <a:pt x="1013" y="0"/>
                </a:moveTo>
                <a:arcTo wR="1013" hR="1013" stAng="16200000" swAng="-5400000"/>
                <a:lnTo>
                  <a:pt x="0" y="26924"/>
                </a:lnTo>
                <a:arcTo wR="1013" hR="1013" stAng="10800000" swAng="-5400000"/>
                <a:lnTo>
                  <a:pt x="20587" y="27937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4b7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7"/>
          <p:cNvSpPr/>
          <p:nvPr/>
        </p:nvSpPr>
        <p:spPr>
          <a:xfrm>
            <a:off x="6270480" y="1825560"/>
            <a:ext cx="2092320" cy="28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d8ce5"/>
              </a:gs>
              <a:gs pos="100000">
                <a:srgbClr val="3241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8"/>
          <p:cNvSpPr/>
          <p:nvPr/>
        </p:nvSpPr>
        <p:spPr>
          <a:xfrm flipH="1">
            <a:off x="8309880" y="1908000"/>
            <a:ext cx="81000" cy="141480"/>
          </a:xfrm>
          <a:prstGeom prst="octagon">
            <a:avLst>
              <a:gd name="adj" fmla="val 29287"/>
            </a:avLst>
          </a:prstGeom>
          <a:solidFill>
            <a:srgbClr val="6fc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9"/>
          <p:cNvSpPr/>
          <p:nvPr/>
        </p:nvSpPr>
        <p:spPr>
          <a:xfrm flipH="1">
            <a:off x="6230160" y="1897200"/>
            <a:ext cx="79560" cy="141120"/>
          </a:xfrm>
          <a:prstGeom prst="octagon">
            <a:avLst>
              <a:gd name="adj" fmla="val 29287"/>
            </a:avLst>
          </a:prstGeom>
          <a:solidFill>
            <a:srgbClr val="6fc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2"/>
          <p:cNvSpPr/>
          <p:nvPr/>
        </p:nvSpPr>
        <p:spPr>
          <a:xfrm>
            <a:off x="1603440" y="2658960"/>
            <a:ext cx="17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3"/>
          <p:cNvSpPr/>
          <p:nvPr/>
        </p:nvSpPr>
        <p:spPr>
          <a:xfrm>
            <a:off x="4421160" y="2235240"/>
            <a:ext cx="17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4"/>
          <p:cNvSpPr/>
          <p:nvPr/>
        </p:nvSpPr>
        <p:spPr>
          <a:xfrm>
            <a:off x="7250040" y="1744560"/>
            <a:ext cx="17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5"/>
          <p:cNvSpPr/>
          <p:nvPr/>
        </p:nvSpPr>
        <p:spPr>
          <a:xfrm>
            <a:off x="546120" y="2595600"/>
            <a:ext cx="239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мотивированы к участию в выполнении познавательных и метакогнитивны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6"/>
          <p:cNvSpPr/>
          <p:nvPr/>
        </p:nvSpPr>
        <p:spPr>
          <a:xfrm>
            <a:off x="3359160" y="2336760"/>
            <a:ext cx="239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Т – действенный инструмент, помогающий учителям в преподавании, позволяет облегчить объяснение и обеспечить понимание учащимися научных по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7"/>
          <p:cNvSpPr/>
          <p:nvPr/>
        </p:nvSpPr>
        <p:spPr>
          <a:xfrm>
            <a:off x="6145200" y="2630520"/>
            <a:ext cx="239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6"/>
          <p:cNvSpPr/>
          <p:nvPr/>
        </p:nvSpPr>
        <p:spPr>
          <a:xfrm>
            <a:off x="6145200" y="2338560"/>
            <a:ext cx="239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Т обеспечивает быструю обратную связь, взаимодействие преподавателя и обучаемого в систем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395280" y="1052640"/>
            <a:ext cx="8307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е учебники, обучающие системы, системы контроля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туальные конструкторы, программы имитационного моделирования, тренажеры, энциклопедии, словари, хрестомат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е компьютерные игры, мультимедийные учебные заня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анционные учебные к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е библиотеки, электронные книги, электронные периодические издания, словари, справочники, электронная почта, электронные телеконференции, каталоги, поисковые сист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е и информационные ресурсы с визуальной информацией (коллекции: фотографии, портреты, иллюстрации, видеофрагменты процессов и явлений, демонстрации опытов, видео экскурсии), электронные и информационные ресурсы с аудиоинформацией (звукозаписи стихотворений, дидактического речевого материала, музыкальных произведений, звуков живой и неживой прир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ированные аудиообъе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8320" y="77148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бразовательные средства ИКТ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ернет сервисы для педагогов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6920" y="1557000"/>
            <a:ext cx="7587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ttp://scholar.google.com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ttp://www.youtube.c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http://it-n.ru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http://pedsovet.org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http://www.openclass.ru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ttp://learningapps.or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ttp://master-test.n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:\DSC_0870.JPG"/>
          <p:cNvPicPr/>
          <p:nvPr/>
        </p:nvPicPr>
        <p:blipFill>
          <a:blip r:embed="rId1"/>
          <a:srcRect l="0" t="0" r="39321" b="0"/>
          <a:stretch/>
        </p:blipFill>
        <p:spPr>
          <a:xfrm>
            <a:off x="468360" y="1052640"/>
            <a:ext cx="2624040" cy="246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F:\Для Юли\IMG_5474.jpg"/>
          <p:cNvPicPr/>
          <p:nvPr/>
        </p:nvPicPr>
        <p:blipFill>
          <a:blip r:embed="rId2"/>
          <a:srcRect l="13593" t="0" r="21015" b="13368"/>
          <a:stretch/>
        </p:blipFill>
        <p:spPr>
          <a:xfrm>
            <a:off x="6356520" y="1065240"/>
            <a:ext cx="2469960" cy="245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F:\Для Юли\IMG_5492.jpg"/>
          <p:cNvPicPr/>
          <p:nvPr/>
        </p:nvPicPr>
        <p:blipFill>
          <a:blip r:embed="rId3"/>
          <a:srcRect l="6834" t="0" r="20893" b="12313"/>
          <a:stretch/>
        </p:blipFill>
        <p:spPr>
          <a:xfrm>
            <a:off x="3419640" y="1052640"/>
            <a:ext cx="2736720" cy="2490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G:\DCIM\100ANDRO\DSC_0925.JPG"/>
          <p:cNvPicPr/>
          <p:nvPr/>
        </p:nvPicPr>
        <p:blipFill>
          <a:blip r:embed="rId4"/>
          <a:srcRect l="0" t="0" r="10606" b="0"/>
          <a:stretch/>
        </p:blipFill>
        <p:spPr>
          <a:xfrm>
            <a:off x="4788000" y="4032360"/>
            <a:ext cx="3655800" cy="230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G:\DCIM\100ANDRO\DSC_0927.JPG"/>
          <p:cNvPicPr/>
          <p:nvPr/>
        </p:nvPicPr>
        <p:blipFill>
          <a:blip r:embed="rId5"/>
          <a:srcRect l="0" t="0" r="10128" b="0"/>
          <a:stretch/>
        </p:blipFill>
        <p:spPr>
          <a:xfrm>
            <a:off x="468360" y="4006800"/>
            <a:ext cx="37069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826920" y="1484280"/>
            <a:ext cx="777744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зложение нового материа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изуализация знаний (демонстрационно-энциклопедические программы, информационные ресурсы с визуальной и аудио информацией, программа презентаций Powe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крепление программного матери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ренинг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ные обучающие программы, тренаже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троль и провер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стирование с оцени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амостоятельная рабо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учающие программы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епетитор", энциклопедии, развивающие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ведение интегрированных занятий по методу проек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(поисковые системы, электронные энциклопедии, электронные учебники, тренажеры, программа презентаций Power Point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4920" y="981000"/>
            <a:ext cx="6933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пособы применения ИКТ на разных этапах работы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34760" y="47592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Использование средств ИКТ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264360" y="2397240"/>
            <a:ext cx="259236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335640" y="2565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Сравнение и интерпретация работ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250920" y="2397240"/>
            <a:ext cx="2573280" cy="1852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7800" y="243360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Демонстрация ученикам различных прие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 flipH="1">
            <a:off x="5514840" y="2482920"/>
            <a:ext cx="725760" cy="1198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1859040" y="1320840"/>
            <a:ext cx="5423400" cy="1022040"/>
            <a:chOff x="1859040" y="1320840"/>
            <a:chExt cx="5423400" cy="1022040"/>
          </a:xfrm>
        </p:grpSpPr>
        <p:grpSp>
          <p:nvGrpSpPr>
            <p:cNvPr id="164" name="Group 12"/>
            <p:cNvGrpSpPr/>
            <p:nvPr/>
          </p:nvGrpSpPr>
          <p:grpSpPr>
            <a:xfrm>
              <a:off x="1859040" y="1411920"/>
              <a:ext cx="5423400" cy="930960"/>
              <a:chOff x="1859040" y="1411920"/>
              <a:chExt cx="5423400" cy="930960"/>
            </a:xfrm>
          </p:grpSpPr>
          <p:sp>
            <p:nvSpPr>
              <p:cNvPr id="165" name="Oval 13"/>
              <p:cNvSpPr/>
              <p:nvPr/>
            </p:nvSpPr>
            <p:spPr>
              <a:xfrm>
                <a:off x="1918080" y="1443600"/>
                <a:ext cx="5364360" cy="899280"/>
              </a:xfrm>
              <a:prstGeom prst="ellipse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4"/>
              <p:cNvSpPr/>
              <p:nvPr/>
            </p:nvSpPr>
            <p:spPr>
              <a:xfrm>
                <a:off x="1859040" y="1411920"/>
                <a:ext cx="5364360" cy="90108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Oval 15"/>
            <p:cNvSpPr/>
            <p:nvPr/>
          </p:nvSpPr>
          <p:spPr>
            <a:xfrm>
              <a:off x="2114640" y="1320840"/>
              <a:ext cx="4855680" cy="85500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2178000" y="1325880"/>
              <a:ext cx="4737600" cy="83484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64920" y="1351080"/>
              <a:ext cx="3967920" cy="6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2544840" y="13986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емон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1528920" y="4338720"/>
            <a:ext cx="259236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1254240" y="47512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Сопоставление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H="1" rot="1876800">
            <a:off x="4415760" y="3001680"/>
            <a:ext cx="871560" cy="1187280"/>
          </a:xfrm>
          <a:custGeom>
            <a:avLst/>
            <a:gdLst>
              <a:gd name="textAreaLeft" fmla="*/ -360 w 871560"/>
              <a:gd name="textAreaRight" fmla="*/ 871560 w 87156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1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4395960" y="4338720"/>
            <a:ext cx="2357280" cy="165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438800" y="4449600"/>
            <a:ext cx="226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зучение и обсуждение работ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Freeform 23" descr=""/>
          <p:cNvPicPr/>
          <p:nvPr/>
        </p:nvPicPr>
        <p:blipFill>
          <a:blip r:embed="rId1"/>
          <a:stretch/>
        </p:blipFill>
        <p:spPr>
          <a:xfrm>
            <a:off x="2803680" y="2371680"/>
            <a:ext cx="682560" cy="1389240"/>
          </a:xfrm>
          <a:prstGeom prst="rect">
            <a:avLst/>
          </a:prstGeom>
          <a:ln w="0">
            <a:noFill/>
          </a:ln>
        </p:spPr>
      </p:pic>
      <p:pic>
        <p:nvPicPr>
          <p:cNvPr id="177" name="Freeform 23" descr=""/>
          <p:cNvPicPr/>
          <p:nvPr/>
        </p:nvPicPr>
        <p:blipFill>
          <a:blip r:embed="rId2"/>
          <a:stretch/>
        </p:blipFill>
        <p:spPr>
          <a:xfrm>
            <a:off x="3676680" y="2762280"/>
            <a:ext cx="682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0:55:48Z</dcterms:created>
  <dc:creator>computer</dc:creator>
  <dc:description/>
  <dc:language>en-US</dc:language>
  <cp:lastModifiedBy>л</cp:lastModifiedBy>
  <dcterms:modified xsi:type="dcterms:W3CDTF">2013-05-31T12:36:48Z</dcterms:modified>
  <cp:revision>68</cp:revision>
  <dc:subject/>
  <dc:title>Инновационные технологии в обучении английскому языку</dc:title>
</cp:coreProperties>
</file>