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6FF-CF60-403E-B355-F5B1E902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D4B-F952-4A40-A1D6-2547EF07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BB2-D828-465F-8D43-E2580D72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65D-0F4A-4C1E-92EA-165BCBB6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3FA-62DA-4EC3-987E-D1830601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15D-E69E-4E96-9A8E-7356365D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895-5B43-4B22-9895-AD783D35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913-5B9F-4693-BE4C-E0A91C42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815-5DCB-4A80-AF9D-B250470C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5FF-A4F5-415C-B995-1785D1AC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01A-BBE5-498D-95C6-3E890A03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51B-DD99-4624-B2FA-975C308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40E6-743D-417F-A63E-7E51D99DC30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2640" y="586692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3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87200" y="324000"/>
            <a:ext cx="666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37 города Тюмен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И.Кузнецо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42800" y="3059280"/>
            <a:ext cx="59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рмовик ИЛ-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189000" y="8532720"/>
            <a:ext cx="66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юмень 2019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708280" y="6012000"/>
            <a:ext cx="41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работал: ученик 7б класса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тлянов Кирил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уководитель: учитель технолог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удов В.Н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60280" y="154080"/>
          <a:ext cx="6408720" cy="8821800"/>
        </p:xfrm>
        <a:graphic>
          <a:graphicData uri="http://schemas.openxmlformats.org/drawingml/2006/table">
            <a:tbl>
              <a:tblPr/>
              <a:tblGrid>
                <a:gridCol w="569880"/>
                <a:gridCol w="569880"/>
                <a:gridCol w="2633760"/>
                <a:gridCol w="2635200"/>
              </a:tblGrid>
              <a:tr h="880920">
                <a:tc rowSpan="7"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лифуем детали шкуркой 120 зернист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рстак, шкур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верстия обрабатываем надфил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дфи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буем собрать само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ей П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ираем самолет с кле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ей П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делываем антен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волока, плоскогубц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жигаем выжигателем звезды, кон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жигате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елка гото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749cdc"/>
                </a:solidFill>
                <a:latin typeface="Calibri"/>
              </a:rPr>
              <a:t>Техника безопасности при изготовлении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89000" y="1143000"/>
            <a:ext cx="6669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порядок на вашем рабочем мес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регайтесь  ожогов при работе с выжигателем и поражения электрическим ток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йте соответствующую рабочую одежд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но закрепляйте дета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электроинстсрументом сохраняйте устойчивое положение и не пытайтесь дотянуться  до предметов, находящихся в недосягаем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те случайного включения инструмен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ть руки в правильном положе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920" y="250560"/>
            <a:ext cx="617220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8. Экономическое обосновани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638280" y="1928880"/>
            <a:ext cx="57610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траты на материал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анера1500х1500х3– 400 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600х300х3мм – 90 р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Шлифовальная шкурка  –20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лей ПВА – 15 рубл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:  125 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л я на уроках , поэтому затраты труда не учитыва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траты на электроэнергию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минут работы с электро лобзиком – 0,1 кВ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электроэнергии: 0,7 кВт/ч – 1,9р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: 1 • 1,9 = 1,9руб – затраты на электроэнерг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бестоимос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ы на материалы + затраты на электроэнергию 125+2руб = 127руб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9. Анализ получен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8640" y="183492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делал интересную игрушку. На мой взгляд  подарок получился очень оригинальный и красивый. Также я научился многим вещам, которые помогут мне в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ому же самолет выглядит необычно и думаю, что он понравится именинник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ому же самолет сделан из экологически чистого материала и при утилизации не нанесет вреда природ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екл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ращайтесь ,кому понравилась моя поделка,сделаем качественно и недор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Содержание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404640" y="189396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и обоснование прое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улировка задачи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ие идеи про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стория механической игруш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формация об издел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атериально – техническое обеспеч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Технология изготовления прое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Экономическое обоснование прое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Анализ полученных результат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1. Выбор и обоснование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нь рождения брата  я задумался о выборе подарка. Но как говориться : «Лучший подарок сделан своими руками.». Поэтому я стал искать идеи для подарка. Идея сама родилась в голове, когда я увидел на картинке самолет ИЛ-2.  Как все мальчики  брат люби машинки, самолеты и другую технику. Поэтому я решил сделать самолет своими рук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2. Формулировка 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9920" y="2050920"/>
            <a:ext cx="617220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игрушка должна быть красивой и быть похожей на настоящий самолет. Она должна быть простой в использовании и в тоже время безопас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3. Развитие идеи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421000" y="3995640"/>
            <a:ext cx="1871640" cy="151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Макет самоле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7"/>
          <p:cNvSpPr/>
          <p:nvPr/>
        </p:nvSpPr>
        <p:spPr>
          <a:xfrm>
            <a:off x="0" y="6357960"/>
            <a:ext cx="1724040" cy="1154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Эстетич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4132440" y="476424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4400640" y="6203880"/>
            <a:ext cx="1674720" cy="134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зготовл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 безопас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071960" y="5357880"/>
            <a:ext cx="53820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18"/>
          <p:cNvSpPr/>
          <p:nvPr/>
        </p:nvSpPr>
        <p:spPr>
          <a:xfrm>
            <a:off x="2401920" y="6012000"/>
            <a:ext cx="1782720" cy="1728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еобходимы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3321000" y="5435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21"/>
          <p:cNvSpPr/>
          <p:nvPr/>
        </p:nvSpPr>
        <p:spPr>
          <a:xfrm flipH="1">
            <a:off x="1701360" y="5435640"/>
            <a:ext cx="91764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285840" y="4214880"/>
            <a:ext cx="171432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Экономич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1714680" y="2357280"/>
            <a:ext cx="3071520" cy="1249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ачество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добство в использован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24"/>
          <p:cNvSpPr/>
          <p:nvPr/>
        </p:nvSpPr>
        <p:spPr>
          <a:xfrm flipV="1">
            <a:off x="3286080" y="3571560"/>
            <a:ext cx="7164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Oval 25"/>
          <p:cNvSpPr/>
          <p:nvPr/>
        </p:nvSpPr>
        <p:spPr>
          <a:xfrm>
            <a:off x="4357800" y="4429080"/>
            <a:ext cx="2500200" cy="1071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аличие оборуд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19"/>
          <p:cNvSpPr/>
          <p:nvPr/>
        </p:nvSpPr>
        <p:spPr>
          <a:xfrm flipH="1">
            <a:off x="2000160" y="4786200"/>
            <a:ext cx="64296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4. История механической игрушки</a:t>
            </a:r>
            <a:r>
              <a:rPr b="0" lang="ru-RU" sz="24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олетах в небе с помощью специального устройства задумывался еще Леонардо дп Винчи в 16 веке, однако первый полет официально зарегистрирован в начале прошлого века. О том,кому мы обязаны возможностью авиаперелетов, до сих пор ведутся ожесточенные споры, однако факт остается фактом- официально первый полет зарегистрирован в 1903 году. Самый первый самолет в мире изобрели братья Рай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енный самолет Ил-2 — самая массовая боевая модель за всю истор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званный среди солдат «летающим танком» или попросту горбатым, он ценой огромных потерь смог сдержать чудовищный напор немецкой авиации и сухопутных войск в первые годы войны, а уже после этого внес свой важный вклад в победу над Герман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5. Информация об издел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3000" y="2124000"/>
            <a:ext cx="617220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амолет ИЛ-2 будет выпилен из фанеры толщиной 3 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едназначена для развлекательных целей, точнее иг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6. Материально-техническое обеспе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404640" y="1979640"/>
            <a:ext cx="60487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готовления самолета мне потребуетс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ы: фанера толщиной 3мм, размером 600х300х3мм.,  клей ПВА, проволока для антен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менты и оборудование; верстак, электрический лобзик, сверлильный станок,  плоскогубцы, клей ПВА и выжигател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0640" y="-360"/>
            <a:ext cx="61722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9cdc"/>
                </a:solidFill>
                <a:latin typeface="Times New Roman"/>
                <a:ea typeface="Times New Roman"/>
              </a:rPr>
              <a:t>7. Технология изготовления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" y="826920"/>
          <a:ext cx="6594480" cy="8088480"/>
        </p:xfrm>
        <a:graphic>
          <a:graphicData uri="http://schemas.openxmlformats.org/drawingml/2006/table">
            <a:tbl>
              <a:tblPr/>
              <a:tblGrid>
                <a:gridCol w="573120"/>
                <a:gridCol w="644400"/>
                <a:gridCol w="2724120"/>
                <a:gridCol w="2652840"/>
              </a:tblGrid>
              <a:tr h="1095480">
                <a:tc rowSpan="7"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№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Дет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№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оследовательность выпол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работ(операций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Инструмент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риспособ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рать заготовку с учетом припусков на обработк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рстак, линейка, карандаш, угольни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ечатать чертеж изделия с сайта «Чудо лобзик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нт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клеиваем на фанеру чертеж клеем П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нера,к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нужно высверлить отверс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рлильный стан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лой  вырезать каждый чертеж отд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ла, верста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пилить все детали ручным лобзик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обзик,верста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user</cp:lastModifiedBy>
  <cp:lastPrinted>2012-11-26T08:19:03Z</cp:lastPrinted>
  <dcterms:modified xsi:type="dcterms:W3CDTF">2019-12-08T08:31:07Z</dcterms:modified>
  <cp:revision>104</cp:revision>
  <dc:subject/>
  <dc:title>PowerPoint Presentation</dc:title>
</cp:coreProperties>
</file>