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8EE-9A85-41E1-9B2F-D3D6679B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A2A-CABF-4E11-91EF-1EC4331F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3B6-E7DD-4F21-8854-AC726DC8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C9C-600D-4E3E-A012-99B6D5F2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739-5997-4F16-94D1-0716D738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DE8-231C-4B74-BF1B-3EB3D9FE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9CF-7D9B-42F0-A62E-0D0433B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21B-C54A-4712-B34A-40F00B40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21A-24FF-4738-B653-370556C3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F79-B160-4C2F-B2B4-A5F410F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D33-9EAE-4BD9-815B-841C9DD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9B5-0BC0-4433-8C96-50E5BAEC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39E7-8880-405A-9C77-46AFA8DAE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1160" y="5351040"/>
            <a:ext cx="781056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итель: Ходаковская Елена Игор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ник: Свиридов Ар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1117440" y="1854360"/>
            <a:ext cx="7110720" cy="17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Растительный мир Калужской облас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365040"/>
            <a:ext cx="8991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Calibri Light"/>
              </a:rPr>
              <a:t>Липа сердцевидная                            Ясень обыкновенный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Содержимое 4" descr="pl_8_.jpg"/>
          <p:cNvPicPr/>
          <p:nvPr/>
        </p:nvPicPr>
        <p:blipFill>
          <a:blip r:embed="rId1"/>
          <a:stretch/>
        </p:blipFill>
        <p:spPr>
          <a:xfrm>
            <a:off x="-12600" y="2057400"/>
            <a:ext cx="3774960" cy="28400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pl_9_.jpg"/>
          <p:cNvPicPr/>
          <p:nvPr/>
        </p:nvPicPr>
        <p:blipFill>
          <a:blip r:embed="rId2"/>
          <a:stretch/>
        </p:blipFill>
        <p:spPr>
          <a:xfrm>
            <a:off x="5381640" y="2082960"/>
            <a:ext cx="3741840" cy="28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780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Calibri Light"/>
              </a:rPr>
              <a:t>Развит ярус кустарников, состоящий из лещины обыкновенной, жимолости, бересклетов и др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Содержимое 4" descr="pl_10_.jpg"/>
          <p:cNvPicPr/>
          <p:nvPr/>
        </p:nvPicPr>
        <p:blipFill>
          <a:blip r:embed="rId1"/>
          <a:stretch/>
        </p:blipFill>
        <p:spPr>
          <a:xfrm>
            <a:off x="330120" y="1994040"/>
            <a:ext cx="4046760" cy="30430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5" descr="pl_11_.jpg"/>
          <p:cNvPicPr/>
          <p:nvPr/>
        </p:nvPicPr>
        <p:blipFill>
          <a:blip r:embed="rId2"/>
          <a:stretch/>
        </p:blipFill>
        <p:spPr>
          <a:xfrm>
            <a:off x="4861080" y="1955880"/>
            <a:ext cx="4046400" cy="30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4" descr="pl_12_.jpg"/>
          <p:cNvPicPr/>
          <p:nvPr/>
        </p:nvPicPr>
        <p:blipFill>
          <a:blip r:embed="rId1"/>
          <a:stretch/>
        </p:blipFill>
        <p:spPr>
          <a:xfrm>
            <a:off x="592200" y="1955880"/>
            <a:ext cx="3792600" cy="2852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438440" y="1088640"/>
            <a:ext cx="4514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травяном покрове - ранневесенние эфемероиды, в том числе лук медвежий (черемша) и другие многолетние растения - сныть, осока волосистая, зеленчук желтый, пролесник многолетний, хохлатки , бор развесистый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6825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 Light"/>
              </a:rPr>
              <a:t>Боры-беломошники на территории области встречаются нередко. Видами - эдификаторами в них являются сосна и напочвенные лишайники. Из травянистых растений встречается кошачья лапка, вереск, ястребинка волосистая (фото 14), очиток едкий и др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Содержимое 4" descr="pl_13_.jpg"/>
          <p:cNvPicPr/>
          <p:nvPr/>
        </p:nvPicPr>
        <p:blipFill>
          <a:blip r:embed="rId1"/>
          <a:stretch/>
        </p:blipFill>
        <p:spPr>
          <a:xfrm>
            <a:off x="479520" y="2603520"/>
            <a:ext cx="3282840" cy="21924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pl_14_.jpg"/>
          <p:cNvPicPr/>
          <p:nvPr/>
        </p:nvPicPr>
        <p:blipFill>
          <a:blip r:embed="rId2"/>
          <a:stretch/>
        </p:blipFill>
        <p:spPr>
          <a:xfrm>
            <a:off x="5381640" y="2540160"/>
            <a:ext cx="3133800" cy="235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4" descr="pl_15_.jpg"/>
          <p:cNvPicPr/>
          <p:nvPr/>
        </p:nvPicPr>
        <p:blipFill>
          <a:blip r:embed="rId1"/>
          <a:stretch/>
        </p:blipFill>
        <p:spPr>
          <a:xfrm>
            <a:off x="1968480" y="2138400"/>
            <a:ext cx="5219640" cy="392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3840" y="275760"/>
            <a:ext cx="8159760" cy="16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Боры - зеленомошники приурочены к ровным, слабо дренированным пространствам. Среди них выделяют бор-кисличник, бор-брусничник и бор-черничник. Травяной покров разрежен и не содержит каких-либо специфичных видов; обычно это виды, встречающиеся и в ельниках , марьянник луговой, грушанки, плауны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4" descr="pl_16_.jpg"/>
          <p:cNvPicPr/>
          <p:nvPr/>
        </p:nvPicPr>
        <p:blipFill>
          <a:blip r:embed="rId1"/>
          <a:stretch/>
        </p:blipFill>
        <p:spPr>
          <a:xfrm>
            <a:off x="406440" y="927000"/>
            <a:ext cx="4333680" cy="3259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730400" y="56808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евесный ярус в этих лесах образован березой повислой, березой пушистой, осиной, ивой козьей, eлью, сосной и дубом. Эти типы лесов имеют обычно небольшой возраст и в дальнейшем заменяются другими типами л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4" descr="pl_17_.jpg"/>
          <p:cNvPicPr/>
          <p:nvPr/>
        </p:nvPicPr>
        <p:blipFill>
          <a:blip r:embed="rId1"/>
          <a:stretch/>
        </p:blipFill>
        <p:spPr>
          <a:xfrm>
            <a:off x="368280" y="1579680"/>
            <a:ext cx="4226040" cy="3178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27360" y="885600"/>
            <a:ext cx="4616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Луга центральной поймы характеризуются достаточным увлажнением и богатыми почвами. Здесь доминируют крупные мезофитные злаки: лисохвост луговой, овсяница луговая, пырей ползучий, ежа сборна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 Light"/>
              </a:rPr>
              <a:t>Зонтичные: дягиль , борщевик сибирский, жабрица порезниковая . 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Содержимое 4" descr="pl_18_.jpg"/>
          <p:cNvPicPr/>
          <p:nvPr/>
        </p:nvPicPr>
        <p:blipFill>
          <a:blip r:embed="rId1"/>
          <a:stretch/>
        </p:blipFill>
        <p:spPr>
          <a:xfrm>
            <a:off x="744480" y="1562040"/>
            <a:ext cx="2722680" cy="3633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5" descr="pl_19_.jpg"/>
          <p:cNvPicPr/>
          <p:nvPr/>
        </p:nvPicPr>
        <p:blipFill>
          <a:blip r:embed="rId2"/>
          <a:stretch/>
        </p:blipFill>
        <p:spPr>
          <a:xfrm>
            <a:off x="5776920" y="1574640"/>
            <a:ext cx="2409840" cy="362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 Light"/>
              </a:rPr>
              <a:t>Виды рода герань, щавель густой (конский). 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Содержимое 4" descr="pl_20_.jpg"/>
          <p:cNvPicPr/>
          <p:nvPr/>
        </p:nvPicPr>
        <p:blipFill>
          <a:blip r:embed="rId1"/>
          <a:stretch/>
        </p:blipFill>
        <p:spPr>
          <a:xfrm>
            <a:off x="844560" y="2146320"/>
            <a:ext cx="3794040" cy="285264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5" descr="pl_21_.jpg"/>
          <p:cNvPicPr/>
          <p:nvPr/>
        </p:nvPicPr>
        <p:blipFill>
          <a:blip r:embed="rId2"/>
          <a:stretch/>
        </p:blipFill>
        <p:spPr>
          <a:xfrm>
            <a:off x="5767560" y="1533600"/>
            <a:ext cx="2144520" cy="369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4" descr="pl_22_.jpg"/>
          <p:cNvPicPr/>
          <p:nvPr/>
        </p:nvPicPr>
        <p:blipFill>
          <a:blip r:embed="rId1"/>
          <a:stretch/>
        </p:blipFill>
        <p:spPr>
          <a:xfrm>
            <a:off x="774720" y="1803240"/>
            <a:ext cx="3827520" cy="2878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28880" y="1317240"/>
            <a:ext cx="4514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 более влажных местах таволга вязолистная , горец змеиный, виды рода манжетка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5723"/>
                </a:solidFill>
                <a:latin typeface="Calibri"/>
              </a:rPr>
              <a:t>Карта Калужской области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Picture 4" descr="C:\Documents and Settings\преподаватель\Рабочий стол\Карта-Калужской-области.jpg"/>
          <p:cNvPicPr/>
          <p:nvPr/>
        </p:nvPicPr>
        <p:blipFill>
          <a:blip r:embed="rId1"/>
          <a:stretch/>
        </p:blipFill>
        <p:spPr>
          <a:xfrm>
            <a:off x="1854360" y="1663560"/>
            <a:ext cx="5489280" cy="519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4" descr="pl_23_.jpg"/>
          <p:cNvPicPr/>
          <p:nvPr/>
        </p:nvPicPr>
        <p:blipFill>
          <a:blip r:embed="rId1"/>
          <a:stretch/>
        </p:blipFill>
        <p:spPr>
          <a:xfrm>
            <a:off x="1638360" y="1839960"/>
            <a:ext cx="5613480" cy="4221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440" y="352440"/>
            <a:ext cx="88012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Луга притеррасной поймы часто имеют повышенное увлажнение за счет выхода ключей и стока со склонов дол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4" descr="pl_24_.jpg"/>
          <p:cNvPicPr/>
          <p:nvPr/>
        </p:nvPicPr>
        <p:blipFill>
          <a:blip r:embed="rId1"/>
          <a:stretch/>
        </p:blipFill>
        <p:spPr>
          <a:xfrm>
            <a:off x="482760" y="1725480"/>
            <a:ext cx="376236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60960" y="631440"/>
            <a:ext cx="4883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Встречаются заболоченные участки. Здесь доминируют различные виды осок, камыш лесной, рогоз широколистный, местами тростник и виды рода манник, растут лютики, из злаков, бекмания, полевица побегообразующая, из крестоцветных виды рода жерушник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4" descr="pl_31_.jpg"/>
          <p:cNvPicPr/>
          <p:nvPr/>
        </p:nvPicPr>
        <p:blipFill>
          <a:blip r:embed="rId1"/>
          <a:stretch/>
        </p:blipFill>
        <p:spPr>
          <a:xfrm>
            <a:off x="0" y="0"/>
            <a:ext cx="2381400" cy="1790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908240" y="36468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едует заметить, что суходольные луга и опушки на склонах речных долин, имеющих южную экспозицию, содержат специфический набор видов - так называемую "окскую флору" – виды растений, распространенных в более южных черноземных степных регионах, а в Калужской области встречающихся редко. Это виды астрагалов (фото 27), шалфей луговой (фото 28), герань кроваво-красная (фото 29), спаржа, коровяк мучнистый, зопник клубненосный (фото 30), скабиоза желтая (фото 3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pl_27_.jpg"/>
          <p:cNvPicPr/>
          <p:nvPr/>
        </p:nvPicPr>
        <p:blipFill>
          <a:blip r:embed="rId2"/>
          <a:stretch/>
        </p:blipFill>
        <p:spPr>
          <a:xfrm>
            <a:off x="2577960" y="391464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pl_28_.jpg"/>
          <p:cNvPicPr/>
          <p:nvPr/>
        </p:nvPicPr>
        <p:blipFill>
          <a:blip r:embed="rId3"/>
          <a:stretch/>
        </p:blipFill>
        <p:spPr>
          <a:xfrm>
            <a:off x="0" y="456084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pl_29_.jpg"/>
          <p:cNvPicPr/>
          <p:nvPr/>
        </p:nvPicPr>
        <p:blipFill>
          <a:blip r:embed="rId4"/>
          <a:stretch/>
        </p:blipFill>
        <p:spPr>
          <a:xfrm>
            <a:off x="2459160" y="1444680"/>
            <a:ext cx="2381040" cy="15904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pl_30_.jpg"/>
          <p:cNvPicPr/>
          <p:nvPr/>
        </p:nvPicPr>
        <p:blipFill>
          <a:blip r:embed="rId5"/>
          <a:stretch/>
        </p:blipFill>
        <p:spPr>
          <a:xfrm>
            <a:off x="0" y="2155680"/>
            <a:ext cx="2381400" cy="179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4" descr="pl_34_.jpg"/>
          <p:cNvPicPr/>
          <p:nvPr/>
        </p:nvPicPr>
        <p:blipFill>
          <a:blip r:embed="rId1"/>
          <a:stretch/>
        </p:blipFill>
        <p:spPr>
          <a:xfrm>
            <a:off x="627120" y="2286000"/>
            <a:ext cx="3757680" cy="2509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48000" y="1761840"/>
            <a:ext cx="4896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ходные боло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– это промежуточный тип между верховыми и низинн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Много грибов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Содержимое 4" descr="76.jpeg"/>
          <p:cNvPicPr/>
          <p:nvPr/>
        </p:nvPicPr>
        <p:blipFill>
          <a:blip r:embed="rId1"/>
          <a:stretch/>
        </p:blipFill>
        <p:spPr>
          <a:xfrm>
            <a:off x="312840" y="1994040"/>
            <a:ext cx="3846240" cy="288432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5" descr="102305455_gribuy_podberyozovik.jpg"/>
          <p:cNvPicPr/>
          <p:nvPr/>
        </p:nvPicPr>
        <p:blipFill>
          <a:blip r:embed="rId2"/>
          <a:stretch/>
        </p:blipFill>
        <p:spPr>
          <a:xfrm>
            <a:off x="4489560" y="1766880"/>
            <a:ext cx="4286160" cy="33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Много ягод.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Содержимое 4" descr="0b1e7b5326cb6d198cfaad36c23bf533.jpg"/>
          <p:cNvPicPr/>
          <p:nvPr/>
        </p:nvPicPr>
        <p:blipFill>
          <a:blip r:embed="rId1"/>
          <a:stretch/>
        </p:blipFill>
        <p:spPr>
          <a:xfrm>
            <a:off x="628560" y="254304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5" descr="1301842070_18.jpg"/>
          <p:cNvPicPr/>
          <p:nvPr/>
        </p:nvPicPr>
        <p:blipFill>
          <a:blip r:embed="rId2"/>
          <a:stretch/>
        </p:blipFill>
        <p:spPr>
          <a:xfrm>
            <a:off x="4629240" y="254484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 Light"/>
              </a:rPr>
              <a:t>Берегите природу!!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Documents and Settings\преподаватель\Рабочий стол\ггг.jpg"/>
          <p:cNvPicPr/>
          <p:nvPr/>
        </p:nvPicPr>
        <p:blipFill>
          <a:blip r:embed="rId1"/>
          <a:stretch/>
        </p:blipFill>
        <p:spPr>
          <a:xfrm>
            <a:off x="266760" y="1352520"/>
            <a:ext cx="8458200" cy="55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Calibri Light"/>
              </a:rPr>
              <a:t>Калужская область расположена в пределах лесной зоны и включает две подзоны: хвойно-широколиственных и широколиственных лесов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8880" y="18633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В подзоне хвойно-широколиственных лесов преобладают различные типы ельников: ельники-зеленомошники, ельники неморальные, ельники-долгомошники, ельники болотно-травяные, ельники лишайниковые. Древесный ярус в таких лесах составлен елью европейской с примесью сосны, березы, осины, липы, дуба черешчат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3000" y="3142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 Light"/>
              </a:rPr>
              <a:t>Ельники-зеленомошники – наиболее распространенный тип ельников. Это трехъярусные сообщества: ель, травянистый или травяно-кустарничковый ярус и мхи; подлесок не выражен. В этом же типе выделяются ельники-кисличники, ельники-брусничники, ельники-черничники 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C:\Documents and Settings\преподаватель\Рабочий стол\pl_1_.jpg"/>
          <p:cNvPicPr/>
          <p:nvPr/>
        </p:nvPicPr>
        <p:blipFill>
          <a:blip r:embed="rId1"/>
          <a:stretch/>
        </p:blipFill>
        <p:spPr>
          <a:xfrm>
            <a:off x="0" y="2057400"/>
            <a:ext cx="4165560" cy="278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преподаватель\Рабочий стол\pl_2_.jpg"/>
          <p:cNvPicPr/>
          <p:nvPr/>
        </p:nvPicPr>
        <p:blipFill>
          <a:blip r:embed="rId2"/>
          <a:stretch/>
        </p:blipFill>
        <p:spPr>
          <a:xfrm>
            <a:off x="5013360" y="2031840"/>
            <a:ext cx="3774960" cy="284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4" descr="pl_3_.jpg"/>
          <p:cNvPicPr/>
          <p:nvPr/>
        </p:nvPicPr>
        <p:blipFill>
          <a:blip r:embed="rId1"/>
          <a:stretch/>
        </p:blipFill>
        <p:spPr>
          <a:xfrm>
            <a:off x="0" y="1574640"/>
            <a:ext cx="4356000" cy="327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9360" y="1545840"/>
            <a:ext cx="4724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Ельники неморальные занимают местообитания с наиболее богатыми почвами. Кустарниковый ярус в таких лесах состоит из орешника обыкновенного, жимол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4" descr="pl_4_.jpg"/>
          <p:cNvPicPr/>
          <p:nvPr/>
        </p:nvPicPr>
        <p:blipFill>
          <a:blip r:embed="rId1"/>
          <a:stretch/>
        </p:blipFill>
        <p:spPr>
          <a:xfrm>
            <a:off x="695160" y="2349360"/>
            <a:ext cx="5007240" cy="376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209840" y="163476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руш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4" descr="pl_5_.jpg"/>
          <p:cNvPicPr/>
          <p:nvPr/>
        </p:nvPicPr>
        <p:blipFill>
          <a:blip r:embed="rId1"/>
          <a:stretch/>
        </p:blipFill>
        <p:spPr>
          <a:xfrm>
            <a:off x="493560" y="1930320"/>
            <a:ext cx="3624480" cy="27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травяном покрове преобладают сныть, зеленчук, лютик кашубский, копытень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4" descr="pl_6_.jpg"/>
          <p:cNvPicPr/>
          <p:nvPr/>
        </p:nvPicPr>
        <p:blipFill>
          <a:blip r:embed="rId1"/>
          <a:stretch/>
        </p:blipFill>
        <p:spPr>
          <a:xfrm>
            <a:off x="0" y="1684440"/>
            <a:ext cx="3908520" cy="293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975120" y="1964880"/>
            <a:ext cx="4914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зоне   широколиственных лесов коренные леса занимают очень небольшую площадь в междуречьях Вытебети, Жиздры и 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4" descr="pl_7_.jpg"/>
          <p:cNvPicPr/>
          <p:nvPr/>
        </p:nvPicPr>
        <p:blipFill>
          <a:blip r:embed="rId1"/>
          <a:stretch/>
        </p:blipFill>
        <p:spPr>
          <a:xfrm>
            <a:off x="339840" y="1096920"/>
            <a:ext cx="4268520" cy="2852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28880" y="1825200"/>
            <a:ext cx="4514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85723"/>
                </a:solidFill>
                <a:latin typeface="Calibri"/>
              </a:rPr>
              <a:t>Видами - эдификаторами в таких лесах являются в основном дуб черешчатый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43:27Z</dcterms:created>
  <dc:creator>Инна</dc:creator>
  <dc:description/>
  <dc:language>en-US</dc:language>
  <cp:lastModifiedBy>Бутчинская СОШ</cp:lastModifiedBy>
  <dcterms:modified xsi:type="dcterms:W3CDTF">2019-12-11T07:02:29Z</dcterms:modified>
  <cp:revision>13</cp:revision>
  <dc:subject/>
  <dc:title>Презентация PowerPoint</dc:title>
</cp:coreProperties>
</file>