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F20-5474-43F3-8266-1FD8E34A3A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F80-496A-4818-BE1F-04FB4B4EF5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426-DBBF-4775-BC87-1A26B31F91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61F8-6BB2-4F44-8C92-D406F0E35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0E0-41AC-4197-B1A2-A4DD9665A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353-1978-4CDB-BED3-DAA85A077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B6C4-D421-481E-82FD-05268C4D7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6C6F-6FB9-44C2-BAC0-D472C09E56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38C-8CC5-4CE5-9FED-19EF9BAC48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22B-F06D-4BD8-A433-CCF3633531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9739-FEA6-4C96-8C55-F5AFD07EC4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F66-7CA9-4F45-B7CA-BF4B9048BF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0138-ED2E-4AE0-94A2-86BAFAE9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8059-BAEE-4559-9CB4-69DFD5D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1ACD-7C5F-4F31-9951-EF5CC636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8323-8608-4272-873B-4443010D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5BC-5239-4511-890D-27E51B8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FB4-DD17-4DE9-AE16-D03AAB9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4747-E1B8-4F63-B3DD-0CCC718A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3E3-2789-4E94-A29F-4E107BA6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594-2B9D-4393-895D-BA1DE41E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6A0-2DB1-4EB2-B779-88F848B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DBC-6DEE-4685-8873-5A6D4D4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0416-8686-40EB-8053-81397F77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D71F-1894-4D58-B0AC-12B7C17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7162-7842-4B33-A574-A1077CE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EBF-71E2-42C0-B5A1-619DA6E3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6061-870E-4C6F-ABBE-5FEDC4E1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CC8E-2268-4BAD-B81E-B5469914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7215-5380-4A4D-B40F-DC537B0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16AC-DB86-4AFB-9144-65913D50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55C6-89A3-476B-A6B4-5C069CE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6254-CE44-43D0-B111-2E8ED332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B167-20BA-4FC1-8361-636562C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BAA5-4937-44B7-B43A-E2705AC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FD33-BBE4-41BE-AC31-7CFCD9F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4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a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0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27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27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27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27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a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a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37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27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44E-4632-4F3C-B00E-6B134D58E3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e3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7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4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a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e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8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5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0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5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0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44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7673"/>
                </a:gs>
                <a:gs pos="100000">
                  <a:srgbClr val="0061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2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2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2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2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2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3F62-C3D1-485F-8DF7-E28D44B8EB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7_1.mp4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76;&#1086;&#1088;&#1086;&#1076;%20-%20&#1086;&#1090;&#1082;&#1088;&#1099;&#1090;&#1080;&#1077;,%20&#1087;&#1086;&#1083;&#1091;&#1095;&#1077;&#1085;&#1080;&#1077;,%20&#1087;&#1088;&#1080;&#1084;&#1077;&#1085;&#1077;&#1085;&#1080;&#1077;-&#1054;&#1073;&#1088;&#1077;&#1079;&#1082;&#1072;%2001.mp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пиграф: «УДАЧА ПРИХОДИТ ТЕМ, КТО ЕЁ ДОБИВАЕТСЯ!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мощник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нимание, Находчивость и Смекал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C:\Users\Татьяна\Desktop\slide_1.jpg"/>
          <p:cNvPicPr/>
          <p:nvPr/>
        </p:nvPicPr>
        <p:blipFill>
          <a:blip r:embed="rId1"/>
          <a:stretch/>
        </p:blipFill>
        <p:spPr>
          <a:xfrm>
            <a:off x="3132000" y="260280"/>
            <a:ext cx="338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Опыт № 1: Взаимодействие металлов с кислота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n +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Cl = ZnCl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900" spc="-1" strike="noStrike" baseline="-25000">
                <a:solidFill>
                  <a:srgbClr val="ffffff"/>
                </a:solidFill>
                <a:latin typeface="Arial"/>
              </a:rPr>
              <a:t> ↑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900" spc="-1" strike="noStrike">
                <a:solidFill>
                  <a:srgbClr val="ffffff"/>
                </a:solidFill>
                <a:latin typeface="Arial"/>
              </a:rPr>
              <a:t>Запишите аналогичную реакцию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для алюминия и серной кисло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+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slide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еакции замещения – это реакции, при осуществлении которых атомы простого вещества замещают атомы одного из элементов в сложном вещ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ОБЛЕМА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ЛЮБОЙ ЛИ МЕТАЛЛ СПОСОБЕ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УПИТЬ В РЕАКЦИЮ ЗАМ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КИСЛОТ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Эксперимент №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льций  + Соляная кислота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гний + Соляная кислота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нк + Соляная кислота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 + Соляная кислота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2" descr="slide_8"/>
          <p:cNvPicPr/>
          <p:nvPr/>
        </p:nvPicPr>
        <p:blipFill>
          <a:blip r:embed="rId2"/>
          <a:stretch/>
        </p:blipFill>
        <p:spPr>
          <a:xfrm>
            <a:off x="6443640" y="285264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92440" y="3789360"/>
            <a:ext cx="5486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.Н.Бекето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4797360"/>
            <a:ext cx="770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адемик  Петербургской АН (, изучая взаимодействие металлов с кислотами, пришел к выводу, как и вы. Он заметил, во-первых, что не все металлы реагируют с кислотами, во-вторых, скорость химических реакций зависит от активности металлов. Он составил ряд активности металлов (электрохимический ряд напряжений металл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2" descr="ÐÐµÐºÐµÑÐ¾Ð²."/>
          <p:cNvPicPr/>
          <p:nvPr/>
        </p:nvPicPr>
        <p:blipFill>
          <a:blip r:embed="rId1"/>
          <a:srcRect l="0" t="12507" r="0" b="12507"/>
          <a:stretch/>
        </p:blipFill>
        <p:spPr>
          <a:xfrm>
            <a:off x="2916360" y="-747720"/>
            <a:ext cx="540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slide-8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3600" spc="-1" strike="noStrike" u="sng">
                <a:solidFill>
                  <a:srgbClr val="ffff99"/>
                </a:solidFill>
                <a:uFillTx/>
                <a:latin typeface="Arial"/>
              </a:rPr>
              <a:t>Первое правило ряда напряжений : 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взаимодействие металлов с растворами кислот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1384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ждый из металлов, расположенных в ряду активности металлов до водорода, способен вытеснять его из растворов кислот. Металлы, стоящие в ряду активности после водорода  не вступают в реакцию с растворами кисло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3600" spc="-1" strike="noStrike" u="sng">
                <a:solidFill>
                  <a:srgbClr val="ffff99"/>
                </a:solidFill>
                <a:uFillTx/>
                <a:latin typeface="Arial"/>
              </a:rPr>
              <a:t>Второе правило ряда напряжений</a:t>
            </a:r>
            <a:r>
              <a:rPr b="0" i="1" lang="ru-RU" sz="3600" spc="-1" strike="noStrike">
                <a:solidFill>
                  <a:srgbClr val="ffff99"/>
                </a:solidFill>
                <a:latin typeface="Arial"/>
              </a:rPr>
              <a:t>: взаимодействие металлов с растворами солей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талл, стоящий в ряду напряжений левее, способен вытеснять металлы из растворов солей, которые стоят в этом ряду правее 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99"/>
                </a:solidFill>
                <a:uFillTx/>
                <a:latin typeface="Arial"/>
              </a:rPr>
              <a:t>Эксперимент №2: </a:t>
            </a: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«Взаимодействие металлов с растворами солей»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 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 С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+  Ag 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=  Ag +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(NO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уравнять) рисунок в учебнике на стр. 18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"/>
          <p:cNvSpPr/>
          <p:nvPr/>
        </p:nvSpPr>
        <p:spPr>
          <a:xfrm>
            <a:off x="1116000" y="2349360"/>
            <a:ext cx="70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явления знаете вы                                                       В жизни нашей встречаются они,                                    А отличают эти явления - взаимные превращения,                                                                        И образуются всегда – новые вещества                Что же это за явлен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сперимент №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формляем результаты лабораторного опыта в табл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 1: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о в ряду напряжений металлов стоит левее меди, поэтому железо вытесняет медь из растворов  её со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 2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ь в ряду напряжений металлов стоит левее серебра, поэтому медь вытесняет серебро из раствора её со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Ответьте на следующие вопросы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мы изучали сегодня на уро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замещ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два правила ряда активности метал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АКРЕПЛЕНИЕ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пишите уравнения возможных реакций, если не идёт реакция, объясните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+H 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SO 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+HCl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+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+Mg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+HCl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32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№2 (стр.187) -на «3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(стр.187) - (на «4»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,  №3(стр.187), -      (на «5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 СОТРУДНИЧЕСТВО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0" name="Picture 2" descr="C:\Users\Татьяна\Desktop\Image1707.jpg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перечисленных явлений выберите только химическ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плавление параф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бразование ине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ржавление гвоз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разложение воды электрическим током на водород и кисл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) горение древес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жите признаки и условия для явл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) и  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каким признакам можно определить, что произошла химическая реак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му закону, связанному с массой веществ, подчиняются все химические реакции? Кем и когда он был откры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сущность этого закон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азывают уравнением химической реак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типы реакций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каким типом реакций мы познакомились на прошлом уро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соеди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разло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ГРА  «НАЙДИ МЕНЯ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 Р + 5О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 –со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 – со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C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 - раз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KMn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Arial"/>
              </a:rPr>
              <a:t> - раз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бота по карточка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ариан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Вариант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соед.      1)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→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раз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соед.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со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N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→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ое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→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со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Cl +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разл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4)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→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сое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сое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5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ое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Тема урока: «Реакции замещения»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на практике с данным типом химических реакц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прогнозировать и записывать формулы продуктов реа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 возможность их протек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Опыт Кавендиш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8" name="Picture 2" descr="C:\Users\Татьяна\Desktop\f41c5673dc8c798ce0f1d5cdcf6c0294.jpg"/>
          <p:cNvPicPr/>
          <p:nvPr/>
        </p:nvPicPr>
        <p:blipFill>
          <a:blip r:embed="rId2"/>
          <a:stretch/>
        </p:blipFill>
        <p:spPr>
          <a:xfrm>
            <a:off x="541440" y="1600200"/>
            <a:ext cx="8061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Инструкция по технике безопасности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началом работы приготовьте рабочее мес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ется брать вещества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лабораторной работы неукоснительно соблюдайте правила техники безопасности, следите, чтобы вещества не попадали на кожу лица и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лучае попадании кислоты на кожу промыть проточной водой и обработать 5% раствором питьевой с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ывайте о правилах обращения со стеклянной посу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зырьки с растворами не оставляйте открытыми (закрывайте сразу после того как набрали раствор в пробирку). Крышки от пузырьков не пута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07:31Z</dcterms:created>
  <dc:creator>-</dc:creator>
  <dc:description/>
  <dc:language>en-US</dc:language>
  <cp:lastModifiedBy>Customer</cp:lastModifiedBy>
  <dcterms:modified xsi:type="dcterms:W3CDTF">2019-02-26T13:50:19Z</dcterms:modified>
  <cp:revision>183</cp:revision>
  <dc:subject/>
  <dc:title>Реакции замещения</dc:title>
</cp:coreProperties>
</file>