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7A91-0EBC-4E98-BF7B-A4AB7E68B8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итмическая гимнастика 80-х годов была крайне популярна. Комплексы упражнений заранее продумывали для широкой аудитории. Телепередачи с занятиями транслировались по Центральному телеви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BFE3-AF93-40F8-BC18-DC93ED2C09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еская гимнастика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99BA-1F41-45DF-94BC-FED4BF078D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еская гимнастика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176-5B62-4DEF-8D64-5E6842C963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еская гимнастика на свежем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92B-E159-4092-9D50-E344A08EE0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 по ритмической гимнас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1B6C-A4F6-4761-9146-B3AAD1E8D8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ритмической гимнастики оказывают существенное влияние на формирование правильной осанки, красивой походки, воспитывают эстетические понятия, культуру движений. С помощью средств ритмической гимнастики можно развивать такие качества, как общая выносливость, сила, гибкость, лов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A8F-2B32-4D21-AC90-555FE6B433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ADE-71C2-404D-A54E-350A534A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DAD-CBCA-4BB1-BEE3-08A98EEB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98B57-9D00-4C68-AF50-86E55FE4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58CA3-895B-4264-84E4-EC1A373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09BAB-B371-4499-8E36-4D8CE96D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7709F-8E11-4962-8670-1D7C55B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8CBF3-49CC-4DFB-B9D7-A3A9B1A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87D54-172D-4329-BC1E-28B0755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45E43-8DAE-4D6D-9F03-8513405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0CF2C-F575-4AE1-A5BB-EFAFC4E8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2C92F-909E-4B84-9FD9-C67E7788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DA391-D959-4DB0-8E6D-713EFD0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E12-0B03-405F-80AA-4130B065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B4682-DD05-499D-B913-8D26A5D0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AB2F1-D745-4479-8EBC-8F3434F3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89625-CE6B-4FD9-9DF1-9FA7F70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BE1C5-0ECE-4F64-87BE-5E833AF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F9F44-4CA1-4A96-B0DE-66A83BC4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F7790-D7E9-41AD-B9CE-274FD0F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C597-2AA4-479D-AD80-37B8503B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A9A87-D053-442D-A933-7421FF6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190A7-BDD8-42C1-904C-9AD8239C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19E6E-F0CE-4FF4-8EEE-67C73E5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FBE-6AB6-4E03-9CA1-C6DBFD8A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A6242-6195-4DC8-AAE9-BE505AC4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370C4-7B64-4930-A908-49B448A7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35C27-0850-455C-9603-20C2F33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83936-AFD9-44A6-9758-DCCF1A7B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30277-AC07-4D25-A36F-A7DAAF3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8C15C-36A0-4129-A15C-D28D5150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9DE6-43CD-4D4D-AFC4-19BB37BE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305AE-4C1D-41C3-AE22-C9FA38B7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B5BDF-9B85-430D-95F4-E156F04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59CD-BE6D-4ECA-8F7E-995C0D1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3BB-325D-4FD3-8014-C7FDAC4C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E910C-2C4F-4429-9647-F41E896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461B4-7ECB-47DB-A069-59EBBEEE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BF90B-2FBB-4FDE-98BA-799E73C2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06CD8-5BF4-438E-BE7F-E43B9D28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F0302-7459-4070-B359-4376B66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3846F-A99D-4156-9F64-21F8BE16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25DC3-1EB1-4671-A346-E0C2143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CB165-09E8-4526-A551-107B8CE9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68404-631A-42DC-9A63-17FFBA5B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37CF8-11C8-4734-A8CF-E9FEBD3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866-86BA-4F3A-A1DF-BA519AD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CA6C3-6682-46EA-8C0C-FDB6BE22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0458A-D2D4-4E07-BF34-499BFED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EA08-B4B2-41E4-8DF8-965ED2E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058F0-9CC2-4AA0-91D8-8E828E2B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65ED6-F6A8-4CE0-883D-6641AA37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422F3-7710-44E5-93A4-26B67626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4AACC-6900-42FD-9AEA-92AF7D05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58945-5526-4501-BFCE-0DDF38A0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6C558-ED92-47C7-A77D-483E702E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3B69B-6598-400E-9BDC-903F43B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E61-FC03-4189-A8A5-EE2B2A8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72287-3866-40F8-A1F3-A424C7BE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3D42D-210E-4DC7-A420-E1B89E8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88AD1-4745-4A1F-B0A7-9D2BB9F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3A31C-5605-44DE-A9FB-27FAA6BA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EDA56-3063-4C45-A30C-2974E30B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54ECA-9903-4EC4-9D35-13795256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E8125-D521-45F3-9E74-07DEEFBA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CBB-896D-43F4-B30A-178DC2E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DE9-BD75-449F-B1D7-A10A2372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74BF-B84F-4552-880E-CAD6FD3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C02-5F67-4685-9119-25393D1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7A8-617B-473B-982C-29C1F61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31E-CD76-4C79-BEAC-09B8CFC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576-3664-43A7-96E1-2EC65128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9799-7A19-4DA0-871B-339AA25A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316-3CB8-4DB6-8A81-CD3B3873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1D2A-E499-48B7-AEF1-19737640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2EFC-5C10-482F-AC3D-654E0B46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BC54-A966-4D41-BA27-2D2FBFC4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7D64-3135-4078-9AF1-9FE9251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BAC7-9E06-40B2-A9A5-09C246F7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2EB9-069E-4102-8882-4B6F5AC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FAE-96FE-4AFF-8145-9E2E9CD8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3152-FFAA-46B5-B45F-053B54D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BAAD-311E-427C-8ADA-7C594A3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645C-39B6-4899-A332-E06EF9B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93CD-5585-4D18-8D6B-CB5E06D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011A-F52C-4BC1-BFFE-03B502D4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6039-9A7A-49BA-8B12-D83FE4B7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D296-82F3-469F-ADF1-163D7F34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E83F-B3BC-4AEA-9D8A-1FD63989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7DA57-A4B1-4B0C-B8A4-B16CB19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75ED-F22A-4AC5-97DB-98E95086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8BF-0B28-42D7-AC5D-2C2E05E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A2E1-4CF0-4B60-A037-E70DAB7F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3C14-0172-422B-96E4-B06F417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D28F-1572-4C1A-BB24-FA083F95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B640A-4CA0-4BBE-B194-686B41F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B28E-7C6F-40BA-B821-2B40686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8380-0E90-4BBD-A905-C314A46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04D6-92F7-4956-88C0-C376BE3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F87E-F7D9-4236-BF3A-FAA98365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597A-5DB5-4FB3-A035-F7C3592C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3850-05E1-454A-8D9F-2F30ED04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738-D3F9-4F0D-B64B-5F40BD48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4D5EF-E621-415E-9229-B7EBC0F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008E-429D-4B8F-B654-3C883534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FEDF-6887-4073-B9C8-26DAF58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6281C-1684-4B3D-8143-A697EA5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C477-B88A-42A0-8EEB-E0BFEAEE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26D8-2AED-43A3-B3E0-297EAC17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24BF-2B8F-4FA2-8367-D454EB0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954C-045C-4BDE-99B0-C49D1B9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6EC6-C523-40AF-9949-4A8C9FAD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7A38-60E8-4CA3-B428-0057D5B5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149-5795-48EB-ABCC-AEE679F9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63B6-9177-4558-A298-015CF990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C74F-2B3D-446C-91F2-7C89D20F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93F3C-2460-41FF-953E-B2ABC042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2943-B00E-407B-8E45-8F5D3BCF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111F-9A05-42B4-812E-FB0BD0E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EC57-25AF-4708-9C8E-074FC9C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ADFAE-5CA2-4F48-BBDC-67558D39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E733D-7D50-41EE-96DE-CE31A90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A787-080C-429B-8C48-8104857F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75E0-7157-47CF-BFB3-95512DB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8B7-562E-49C1-A0AB-A8BC4F21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7285-A95F-4E67-BD8D-DF5CACA1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D751-1951-4FD5-BFA1-FA854EB1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4042F-98ED-47C1-8C93-809423C7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2BA43-A925-4921-AF57-AD088A6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DDA9-DD52-4B41-BA2F-3DC92815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53E5E-CFCD-4528-A548-7A54C47E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6CE16-48B1-46F8-8789-7C18A67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4D4A2-697D-433E-A03E-37C6F7C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56FA-C0AC-436C-9E94-35E727A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A2B2-73C7-4A5A-93F8-7058181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281-5DEF-4F92-83E0-89FFE0DA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246B4-9ECB-4427-B2FC-2072579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964FB-5C1D-428D-9BAC-3644333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8D0F-6361-4817-9D17-C3878457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3ECF-1EAC-4D12-9E2B-6383D9A6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BC9E-52F0-4959-B560-79620EB3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E132F-406A-4CD5-8F21-1E95CB31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4DC8-1408-479C-B84D-366D06C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13CDC-381D-4D73-9528-5F7A975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E4BA8-4413-42A1-AC7B-83910E6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AFEB0-3F80-4D74-932D-DEBE3C9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1E6-FF9E-4203-B293-BB8B930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239FE-AF4F-409B-8154-5C9705B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59E1-7F36-4053-AB2A-15EA791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5DDBC-88E4-4453-A5B2-105827F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1DF3C-7D82-4D89-98C9-CD86405C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8856C-1D57-4B73-8FEC-34B19041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53969-2C16-4056-A397-1DDA7D7B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A9FC7-C9EA-4BE6-8030-BB7BE3B1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5ADFC-3F24-4B96-ABB0-53F6C597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D229E-4A18-42F3-AF15-294F4D1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EF5DE-6993-4ED3-AD6C-780F44C1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83FC-310F-4495-8479-48D24C04F9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3CC-DCEA-4D40-B551-385AE058CE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3953-275B-43E7-9406-FC4F893327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C385-7455-433D-A6E1-E84ED23AE9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843-1D09-4F2D-A618-71FA9E921E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F44A-3915-4BD1-A769-40F66063C5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C8F-0D44-4AE8-A164-631123DF71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0C0-2DB4-4763-A8AE-AB4545E181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D56B-7C6C-4FE4-B766-69275DF837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814E-2667-4E96-9F7D-A6C1B16113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F577-0CA3-4A5B-A952-9792B7DAAA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0A76-BDAC-4A96-B6DC-B69EAD3105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6F27-EF3F-4886-9D51-4E03D60080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униципальное казён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ладимировская средняя школ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бинского района Новосибирской обла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Ритмическая гимнасти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ьяченко Василис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еница 10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. Владимировское, 20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Техника безопасности на уроке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В строю держать дистанцию не менее 1 метр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ельзя торопить и толкать учащегося, стоящего впереди теб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Умей ждать, наберись терп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трого соблюдай дозировку, предложенную учителе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собое внимание обрати на выполнение силовых упражн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Во время игры не думай только о себе, расталкивая всех и стремясь поигр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рати внимание на обувь, она не должна скользить по пол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дежда на тебе должна быть чистой, соответствовать гигиеническим требования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Волосы аккуратно подобран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огти коротко пострижен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учись уважать своих одноклассников и учител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ыстрота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способность человека совершать действия в минимальный для данных условий отрезок времен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явление быстроты зависит от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корости химических процессов а мышц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портивной техни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движности нервных процесс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левых усил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илы эластичности мыш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ства развити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7200" y="1600200"/>
          <a:ext cx="8229600" cy="5229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4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од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ыж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г с изменением направления боком, скрестным шагом, спиной, бег с различным положением рук, галоп, бег с увеличением скорост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носках бесшумно, на пятках, с высоким подниманием но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поворотом, сохраняя равновесие, в полном приседе, на одной ноге, обеих, повороты на 90 и 180 градус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омн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пражнение надо давать на укрепление стоп мышц брюшного пресса, спи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язательный контроль осан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менение подвижных иг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ратить внимание на подбор упражне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 напряжения – расслабление – отды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спользовать контрольные упражнения тестир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Гибкость 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способность человека выполнять упражнения с большей амплитуд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ибкость зависит от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ластичности мышечных связок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нешней температуры сред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точной периоди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меняется под влиянием утомл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onstantia"/>
              </a:rPr>
              <a:t>Средством развития гибкости являются растяги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324000" y="1557360"/>
          <a:ext cx="8496000" cy="5111640"/>
        </p:xfrm>
        <a:graphic>
          <a:graphicData uri="http://schemas.openxmlformats.org/drawingml/2006/table">
            <a:tbl>
              <a:tblPr/>
              <a:tblGrid>
                <a:gridCol w="3095640"/>
                <a:gridCol w="2209680"/>
                <a:gridCol w="1595520"/>
                <a:gridCol w="159516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сси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ти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помощью партне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отягощени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бственная си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спанде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хи, рывки, накл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предметами и без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дение конечностей до пре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Гибкость развивается поэтапн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витие активной и пассивной подвижности в суставах, укрепление суставов, укрепление мышечно-связочного аппарата у младших школьников надо укреплять, т.к. слабо развиты сустав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ап развития амплитуды выполняют несколько серий. До выполнения упражнения надо разогреть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Выносливость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способность человека к длительному выполнению какой-либо деятельности без снижения её эффективности, т.е. способность противостоять утомлени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39640" y="328428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тодика развити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бщая выносливость – это увеличение аэробных процесс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пециальная выносливость (скоростная или силовая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овкость-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это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ность человека осваивать новые движения и успешно действовать в соответствии с требованиями внезапно меняющейся обстанов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тодика воспитани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менение необычных исходных положен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еркальное выполнение упражнен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менение скорости или темпа движ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зменение пространственных грани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7000"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1"/>
          <p:cNvSpPr/>
          <p:nvPr/>
        </p:nvSpPr>
        <p:spPr>
          <a:xfrm>
            <a:off x="826920" y="76500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ая гимнастика 80-х годов была крайне популярна. Комплексы упражнений заранее продумывали для широкой аудитории. Телепередачи с занятиями транслировались по Центральному телевиде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Picture 10" descr="http://cdn-tn.fishki.net/20/preview/1314415.jpg"/>
          <p:cNvPicPr/>
          <p:nvPr/>
        </p:nvPicPr>
        <p:blipFill>
          <a:blip r:embed="rId1"/>
          <a:stretch/>
        </p:blipFill>
        <p:spPr>
          <a:xfrm>
            <a:off x="4716360" y="2421000"/>
            <a:ext cx="3686400" cy="2952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4" descr="http://i27.fastpic.ru/big/2011/1006/c1/4baa1cf28caffc8d713c21bb8ac959c1.jpg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5120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Задачи ритмической гимнасти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28400" y="1642680"/>
            <a:ext cx="4817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еспечить гармоничное и физическое развитие ребенка и на этой основе укреплять его здоровь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вать физические каче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ширять функциональные возможности сердечно - сосудистой и дыхательной сист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вать чувство ритм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особствовать развитию грациозности, элегант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волять более успешно совершенствоваться в других видах спорта и танцевального искусст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равлять недостатки осан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3" name="Picture 2" descr="C:\Users\acer\Desktop\ritmicheskaya_gimnastika_v_detskom_sadu.jpg"/>
          <p:cNvPicPr/>
          <p:nvPr/>
        </p:nvPicPr>
        <p:blipFill>
          <a:blip r:embed="rId1"/>
          <a:stretch/>
        </p:blipFill>
        <p:spPr>
          <a:xfrm>
            <a:off x="5429160" y="4071960"/>
            <a:ext cx="3143520" cy="2143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C:\Users\acer\Desktop\ritmoplastika5.jpg"/>
          <p:cNvPicPr/>
          <p:nvPr/>
        </p:nvPicPr>
        <p:blipFill>
          <a:blip r:embed="rId2"/>
          <a:stretch/>
        </p:blipFill>
        <p:spPr>
          <a:xfrm>
            <a:off x="5429160" y="1444680"/>
            <a:ext cx="3143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http://www.maam.ru/upload/blogs/detsad-1393407436.jpg"/>
          <p:cNvPicPr/>
          <p:nvPr/>
        </p:nvPicPr>
        <p:blipFill>
          <a:blip r:embed="rId1"/>
          <a:stretch/>
        </p:blipFill>
        <p:spPr>
          <a:xfrm>
            <a:off x="900000" y="3860640"/>
            <a:ext cx="3384720" cy="2535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http://edu.mari.ru/mouo-medvedevo/dou10/DocLib1/%D0%A4%D0%B8%D0%B7%D0%BA%D1%83%D0%BB%D1%8C%D1%82%D1%83%D1%80%D0%BD%D1%8B%D0%B9%20%D0%B7%D0%B0%D0%BB/2013%20%D0%B3%D0%BE%D0%B4/%D0%A3%D0%BF%D1%80%D0%B0%D0%B6%D0%BD%D0%B5%D0%BD%D0%B8%D1%8F%20%D0%BD%D0%B0%20%D1%81%D1%82%D0%B5%D0%BF%D0%B0%D1%85/3.JPG"/>
          <p:cNvPicPr/>
          <p:nvPr/>
        </p:nvPicPr>
        <p:blipFill>
          <a:blip r:embed="rId2"/>
          <a:stretch/>
        </p:blipFill>
        <p:spPr>
          <a:xfrm>
            <a:off x="4932360" y="119700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http://sec-07.com/images/560537c76d3d5.jpg"/>
          <p:cNvPicPr/>
          <p:nvPr/>
        </p:nvPicPr>
        <p:blipFill>
          <a:blip r:embed="rId3"/>
          <a:stretch/>
        </p:blipFill>
        <p:spPr>
          <a:xfrm>
            <a:off x="4932360" y="3860640"/>
            <a:ext cx="3456000" cy="2521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6"/>
          <p:cNvSpPr/>
          <p:nvPr/>
        </p:nvSpPr>
        <p:spPr>
          <a:xfrm>
            <a:off x="1547640" y="549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итмическая гимнастика в детском са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4" name="Picture 8" descr="http://50ds.ru/img/_3MO0Z8K11.jpg"/>
          <p:cNvPicPr/>
          <p:nvPr/>
        </p:nvPicPr>
        <p:blipFill>
          <a:blip r:embed="rId4"/>
          <a:stretch/>
        </p:blipFill>
        <p:spPr>
          <a:xfrm>
            <a:off x="900000" y="1197000"/>
            <a:ext cx="338472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рямоугольник 1"/>
          <p:cNvSpPr/>
          <p:nvPr/>
        </p:nvSpPr>
        <p:spPr>
          <a:xfrm>
            <a:off x="1835280" y="620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итмическая гимнастика в шко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2" descr="http://i.ytimg.com/vi/1Skg6tqbkTQ/maxresdefault.jpg"/>
          <p:cNvPicPr/>
          <p:nvPr/>
        </p:nvPicPr>
        <p:blipFill>
          <a:blip r:embed="rId1"/>
          <a:stretch/>
        </p:blipFill>
        <p:spPr>
          <a:xfrm>
            <a:off x="636480" y="4005360"/>
            <a:ext cx="3878280" cy="2354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http://sch-728.narod.ru/images/p90_img_2978.jpg"/>
          <p:cNvPicPr/>
          <p:nvPr/>
        </p:nvPicPr>
        <p:blipFill>
          <a:blip r:embed="rId2"/>
          <a:stretch/>
        </p:blipFill>
        <p:spPr>
          <a:xfrm>
            <a:off x="684360" y="1268280"/>
            <a:ext cx="3816360" cy="2592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http://sch-728.narod.ru/images/p90_img_2989.jpg"/>
          <p:cNvPicPr/>
          <p:nvPr/>
        </p:nvPicPr>
        <p:blipFill>
          <a:blip r:embed="rId3"/>
          <a:stretch/>
        </p:blipFill>
        <p:spPr>
          <a:xfrm>
            <a:off x="4932360" y="1268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http://boombob.ru/img/picture/Jun/25/6b67fb720c39d25d439af1dbfcb925c4/mini_8.jpg"/>
          <p:cNvPicPr/>
          <p:nvPr/>
        </p:nvPicPr>
        <p:blipFill>
          <a:blip r:embed="rId4"/>
          <a:stretch/>
        </p:blipFill>
        <p:spPr>
          <a:xfrm>
            <a:off x="4932360" y="4005360"/>
            <a:ext cx="3672000" cy="23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http://26.img.avito.st/1280x960/749900326.jpg"/>
          <p:cNvPicPr/>
          <p:nvPr/>
        </p:nvPicPr>
        <p:blipFill>
          <a:blip r:embed="rId1"/>
          <a:stretch/>
        </p:blipFill>
        <p:spPr>
          <a:xfrm>
            <a:off x="650880" y="3716280"/>
            <a:ext cx="3776760" cy="2517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http://region.metronews.ru/omsk/wp-content/uploads/2012/08/zfWXk8EdhJ4.jpg"/>
          <p:cNvPicPr/>
          <p:nvPr/>
        </p:nvPicPr>
        <p:blipFill>
          <a:blip r:embed="rId2"/>
          <a:stretch/>
        </p:blipFill>
        <p:spPr>
          <a:xfrm>
            <a:off x="611280" y="1125360"/>
            <a:ext cx="3816360" cy="244800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1476360" y="620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итмическая гимнастика на свежем возду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2" descr="http://rd2d.com/images/articles/Da-zdravstvuet-pljazh_1.jpg"/>
          <p:cNvPicPr/>
          <p:nvPr/>
        </p:nvPicPr>
        <p:blipFill>
          <a:blip r:embed="rId3"/>
          <a:stretch/>
        </p:blipFill>
        <p:spPr>
          <a:xfrm>
            <a:off x="4716360" y="3716280"/>
            <a:ext cx="3864240" cy="25210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http://chambordsports.ch/wp-content/uploads/2012/04/GE-Flyer.jpg"/>
          <p:cNvPicPr/>
          <p:nvPr/>
        </p:nvPicPr>
        <p:blipFill>
          <a:blip r:embed="rId4"/>
          <a:stretch/>
        </p:blipFill>
        <p:spPr>
          <a:xfrm>
            <a:off x="4716360" y="1125360"/>
            <a:ext cx="38577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http://solntsevo.mos.ru/images/2013/1221/7.jpg"/>
          <p:cNvPicPr/>
          <p:nvPr/>
        </p:nvPicPr>
        <p:blipFill>
          <a:blip r:embed="rId1"/>
          <a:stretch/>
        </p:blipFill>
        <p:spPr>
          <a:xfrm>
            <a:off x="611280" y="3645000"/>
            <a:ext cx="3767040" cy="2509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http://www.seun.ru/upload/iblock/ef0/IMG_3094.jpg"/>
          <p:cNvPicPr/>
          <p:nvPr/>
        </p:nvPicPr>
        <p:blipFill>
          <a:blip r:embed="rId2"/>
          <a:stretch/>
        </p:blipFill>
        <p:spPr>
          <a:xfrm>
            <a:off x="4643280" y="3624120"/>
            <a:ext cx="3816360" cy="25416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http://i.ytimg.com/vi/JjzuDc_PtY8/maxresdefault.jpg"/>
          <p:cNvPicPr/>
          <p:nvPr/>
        </p:nvPicPr>
        <p:blipFill>
          <a:blip r:embed="rId3"/>
          <a:stretch/>
        </p:blipFill>
        <p:spPr>
          <a:xfrm>
            <a:off x="4627440" y="1197000"/>
            <a:ext cx="3805200" cy="21607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8" descr="http://i.ytimg.com/vi/KmVZo6KLhe4/maxresdefault.jpg"/>
          <p:cNvPicPr/>
          <p:nvPr/>
        </p:nvPicPr>
        <p:blipFill>
          <a:blip r:embed="rId4"/>
          <a:stretch/>
        </p:blipFill>
        <p:spPr>
          <a:xfrm>
            <a:off x="468360" y="1197000"/>
            <a:ext cx="3887640" cy="218772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8"/>
          <p:cNvSpPr/>
          <p:nvPr/>
        </p:nvSpPr>
        <p:spPr>
          <a:xfrm>
            <a:off x="1476360" y="549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ревнования по ритмической гимнаст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2"/>
          <p:cNvSpPr/>
          <p:nvPr/>
        </p:nvSpPr>
        <p:spPr>
          <a:xfrm>
            <a:off x="611280" y="620640"/>
            <a:ext cx="79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ритмической гимнастики оказывают существенное влияние на формирование правильной осанки, красивой походки, воспитывают эстетические понятия, культуру движений. С помощью средств ритмической гимнастики можно развивать такие физические качества, как общая выносливость, сила, гибкость, ловк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Picture 2" descr="http://s019.radikal.ru/i614/1303/4d/0df7c96a5f41.jpg"/>
          <p:cNvPicPr/>
          <p:nvPr/>
        </p:nvPicPr>
        <p:blipFill>
          <a:blip r:embed="rId1"/>
          <a:stretch/>
        </p:blipFill>
        <p:spPr>
          <a:xfrm>
            <a:off x="3635280" y="3076560"/>
            <a:ext cx="496908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786200" y="848880"/>
            <a:ext cx="388944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дготовительная часть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назначена для разогревания и подготовки организма к выполнению упражнений основной ча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юда включаются разные виды ходьбы, танцевальные шаги, бег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коло 7 – 8 упражн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6" name="Picture 2" descr="C:\Users\acer\Desktop\i (1).jpg"/>
          <p:cNvPicPr/>
          <p:nvPr/>
        </p:nvPicPr>
        <p:blipFill>
          <a:blip r:embed="rId1"/>
          <a:stretch/>
        </p:blipFill>
        <p:spPr>
          <a:xfrm>
            <a:off x="0" y="1260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50560" y="549000"/>
            <a:ext cx="86072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сновная часть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правлена на развитие  различных групп мышц и физических качеств. В основную часть входит «пиковая нагрузка» - это бег на месте с продвижением, с различными движениями рук, танцевальные движения высокой интенсивности. Это около 14 упражнений в исходном положении стоя и около 12 упражнений в исходных положениях сидя и леж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427640" y="549000"/>
            <a:ext cx="436536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Заключительная часть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должна научить детей расслабляться и восстанавливать силы после продолжительной нагрузки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17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 конце каждого комплекса рекомендуется выполнять упражнения на гибкость и растяжку, т. к. хорошо разогретые мышцы наиболее эластичны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17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Это часть комплекса включает 5 – 6 упражнений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17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9" name="Рисунок 3" descr="35.jpg"/>
          <p:cNvPicPr/>
          <p:nvPr/>
        </p:nvPicPr>
        <p:blipFill>
          <a:blip r:embed="rId1"/>
          <a:stretch/>
        </p:blipFill>
        <p:spPr>
          <a:xfrm>
            <a:off x="493560" y="469800"/>
            <a:ext cx="3870360" cy="315144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4" descr="1260569750_2.jpg"/>
          <p:cNvPicPr/>
          <p:nvPr/>
        </p:nvPicPr>
        <p:blipFill>
          <a:blip r:embed="rId2"/>
          <a:stretch/>
        </p:blipFill>
        <p:spPr>
          <a:xfrm>
            <a:off x="1274760" y="3852720"/>
            <a:ext cx="3089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624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История создания и концепция метода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5280" y="1428480"/>
            <a:ext cx="7993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то время, когда на сценах концертных зал мелькали босые ноги пластичек (основоположницей пластической школы танца была Айседора Дункан), в Женевской Консерватории профессор Эмиль Жак-Далькроз, отчаявшись научить своих учеников воспринимать ритмическую структуру музыкального произведения, предложил им на уроке сольфеджио пользоваться дирижерским жестом, что сразу помогло ученикам действенно ощутить ритм музыки, а позднее Далькроз присоединил к движениям рук шаги, бег и прыжки при выполнении ритмических рисунков. Именно сольфеджио навело его на мысль о воплощении музыкальных звучаний в движени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250920" y="333000"/>
            <a:ext cx="4897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и было началом системы, названной впоследствии «системой ритмической гимнастики», а еще позднее — «ритмикой», а пока это называли «faire les pas» (делать шаги). Многие шутя говорили просто «pas Jaques» (шаги Жака)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2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ак началась революция в деле музыкального воспитания. Далькроз чувствовал необходимость участия всего тела в интерпретации элементов музыкальной выразительности. Он искал связь между моторикой и слуховыми восприятиями и считал, что стоит на пороге нового вида искусства, к которому приближался с трепет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6" descr="stretching-1"/>
          <p:cNvPicPr/>
          <p:nvPr/>
        </p:nvPicPr>
        <p:blipFill>
          <a:blip r:embed="rId1"/>
          <a:stretch/>
        </p:blipFill>
        <p:spPr>
          <a:xfrm rot="20449800">
            <a:off x="5153040" y="1814040"/>
            <a:ext cx="3716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зностороннее развитие лич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звитие двигательных способностей учащихся: быстроты, гибкости, силы, ловкости, вынослив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рганизация занятий ритмической гимнастико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занятий используется любой проветриваемый зал, не менее 4 метров на каждого занимающего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ле и до занятий учащиеся пользуются раздевалками, душев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проведения занятий должен быть инвентарь: магнитофон, скакалки, мячи, ленты, обручи, флажки и т.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сли в зале есть зеркала и станки, надо выполнять упражнения около н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выполнения упражнений лежа иметь чистый коврик, палас или одеял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дежда для ритмической гимнастики должна соответствовать размеру учащихся и состоять: а) из футболки и шорт; б) купальника гимнастического; с) футболки и лосин и т.д. На ногах – кроссовки или тапочки, для лучшего согревания мышц можно иметь гет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осы желательно подобрать, убрать с ше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9966ff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лоб можно одеть повязку, чтобы впитывался по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28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9-12-12T06:05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20000000000010243100207f6000400038000</vt:lpwstr>
  </property>
</Properties>
</file>