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7931-0693-43AF-A532-4051F1259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95FE-E9CB-484D-9CFD-5C38A9F8C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61F-1ACD-4F89-8C07-53BAF2114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BA22-8D88-463A-8E41-47211AC1D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D8C-CBB6-460E-BECA-F314C36E7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0B0-19AE-4AAA-9FC9-947C86E34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EBC-D22F-4D56-A856-0F00B28EF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880-0DB3-4D3A-BDB0-A971D435E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67E3-CDBA-48E2-8A31-2DFF58614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EF1-9904-48B3-954B-18964C6EC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E43-A1C0-459F-B7C7-A4B783CB3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DD24-04F1-4093-8035-0A357581E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23C1-B2E0-47F1-A738-FAE06E80E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92E-D0A1-4658-BF73-C951D06F6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A5C-2F5E-4D24-A735-B2FA63DE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E27-9C7E-42E7-933B-C8AEBD1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942-2187-4182-BE16-E8841623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163-D343-46CC-A1CA-5B37CF44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5FDE-8002-48E7-A8C1-1FCE0E2A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70C-7D5A-404D-952B-F54230CC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060-0601-417F-8DFA-88013B0F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1BC-9B83-4241-8C50-94E7C9B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D0C9-39AA-42AA-9019-CF3DA05F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684-3EDC-40A7-8995-7FDCB44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C1F8-CB5B-44B9-859D-78F9345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F4F-CA1C-4146-A7D5-4D48BC6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F383-649C-47F6-AB35-1DB5AEC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478-92F8-4EEF-833E-5663098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D914-8CA7-4A42-94F5-DC00E925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A0F4-0F2E-476A-8CAC-6FB7AF4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96B-E5B9-49C6-A7E6-A4664B0B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0B9E-93A4-41DC-B84D-987F1AD0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2013-6C67-446D-864B-EB509F9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9F2B-A7CB-40ED-972D-EB22A34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9876-596F-4402-82F2-7923ADB0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F563-DAC0-479B-ADD0-1866E30D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62B-9234-4DD9-9CB2-780E17E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067B-2221-49D7-B029-CF310F0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67F1-B97D-4BDD-925F-BC66FB5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81A7-0793-4D7A-9F57-C8480DEC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D077-FB65-4708-A7EE-0CA4A72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85F4-D784-4047-ACA8-377FBE6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0F07-D792-4F7B-A82E-1ABCE89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FD4C-3A43-4B80-A625-D48713D2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A67A-24B3-430A-B220-1002DFF0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670D-C69F-4EC3-B85B-0069171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DE23-CDBE-4A2E-9BF7-6D49467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A4F-2748-4B69-B6E6-9C5036BD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D2BA-721C-4A5B-9ABD-2BEBF3F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B430-65E7-461E-91E8-5721378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ED14-74B9-4C93-89F7-3703B60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A6CE4-1DBB-4AF7-B120-3DA052E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5757-290D-4E51-97BD-73442AB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5206-ADF9-4246-A99B-89FFD8A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833E-9D8C-413B-AD40-454199E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9F9C-288B-4A99-B9CB-EEBCB941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49B1-9FC3-48A7-9813-320438C8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B9D8-C44A-45DF-B19D-F79D5254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CB5-842B-47F2-8A3D-C0EE1D6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E263-2853-4FE9-96AF-AAC3B12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A610-F545-46DB-AA4E-A482069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F4E4-57C1-44D9-B968-6ADEDF6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A91C-F21F-4262-A057-DE41E22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FD37-21FF-4276-B976-35A20347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F69D-CD0D-4178-BCF8-EF4D0FC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83C9-A199-4C8D-B7CB-61A2F73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347F-2F62-4A93-8C69-3C0D820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9D951-71B8-4E94-8814-61E0846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7083-92D8-44FA-A060-3D845361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49C-58B2-4667-870E-2B15D2BE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866E-5C39-491C-BC94-826596DE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DAA-0EF1-4351-983D-56CA6C2F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B46-6499-45DF-8D95-69136BE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AF8-4F88-4FBE-8D08-5B60705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7C70-3C35-47B0-83C7-D0B3039655B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26E-B7FE-448F-904A-E60E44FD7559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24D2-26F5-4A87-80F4-7764B0E1C87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346-4E25-454C-A84F-CB8954AC9977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236-AA90-4501-9909-2D57B433E3F2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04920" y="1371600"/>
            <a:ext cx="84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Знаки препинания в СП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7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7"/>
          <p:cNvSpPr/>
          <p:nvPr/>
        </p:nvSpPr>
        <p:spPr>
          <a:xfrm>
            <a:off x="228600" y="228600"/>
            <a:ext cx="847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В каком  варианте указаны все цифры, где должна стоять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Когда я вернулся домой (1) елку тотчас зажгли (2) и в комнате началось такое веселое потрескивание свечей (3)  будто вокруг беспрерывно лопались сухие стручки а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990720" y="2743200"/>
            <a:ext cx="7084800" cy="52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3049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30492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1"/>
          <p:cNvSpPr/>
          <p:nvPr/>
        </p:nvSpPr>
        <p:spPr>
          <a:xfrm>
            <a:off x="304920" y="4572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2"/>
          <p:cNvSpPr/>
          <p:nvPr/>
        </p:nvSpPr>
        <p:spPr>
          <a:xfrm>
            <a:off x="304920" y="556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3"/>
          <p:cNvSpPr/>
          <p:nvPr/>
        </p:nvSpPr>
        <p:spPr>
          <a:xfrm>
            <a:off x="1066680" y="3581280"/>
            <a:ext cx="7010640" cy="53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4"/>
          <p:cNvSpPr/>
          <p:nvPr/>
        </p:nvSpPr>
        <p:spPr>
          <a:xfrm>
            <a:off x="990720" y="4495680"/>
            <a:ext cx="708660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5"/>
          <p:cNvSpPr/>
          <p:nvPr/>
        </p:nvSpPr>
        <p:spPr>
          <a:xfrm>
            <a:off x="1066680" y="5486400"/>
            <a:ext cx="70106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6"/>
          <p:cNvSpPr/>
          <p:nvPr/>
        </p:nvSpPr>
        <p:spPr>
          <a:xfrm flipV="1">
            <a:off x="8381880" y="2743200"/>
            <a:ext cx="38124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7"/>
          <p:cNvSpPr/>
          <p:nvPr/>
        </p:nvSpPr>
        <p:spPr>
          <a:xfrm>
            <a:off x="8458200" y="3657600"/>
            <a:ext cx="45720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8"/>
          <p:cNvSpPr/>
          <p:nvPr/>
        </p:nvSpPr>
        <p:spPr>
          <a:xfrm flipV="1">
            <a:off x="8458200" y="4571280"/>
            <a:ext cx="380880" cy="43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9"/>
          <p:cNvSpPr/>
          <p:nvPr/>
        </p:nvSpPr>
        <p:spPr>
          <a:xfrm>
            <a:off x="8458200" y="5486400"/>
            <a:ext cx="380880" cy="419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 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 каком  варианте указаны все цифры, где должна стоять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ысоте (1) стоящего по всей реке звона (2) догадываешься (3) набирает ли дождь силу (4) или ст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992160" y="1752480"/>
            <a:ext cx="70851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380880" y="1905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380880" y="304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380880" y="4343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38088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>
            <a:off x="992160" y="2895480"/>
            <a:ext cx="7161120" cy="60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992160" y="4114800"/>
            <a:ext cx="723744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1066680" y="5410080"/>
            <a:ext cx="70866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6"/>
          <p:cNvSpPr/>
          <p:nvPr/>
        </p:nvSpPr>
        <p:spPr>
          <a:xfrm>
            <a:off x="8458200" y="4191120"/>
            <a:ext cx="3808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7"/>
          <p:cNvSpPr/>
          <p:nvPr/>
        </p:nvSpPr>
        <p:spPr>
          <a:xfrm>
            <a:off x="8458200" y="3124080"/>
            <a:ext cx="380880" cy="3812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8458200" y="1828800"/>
            <a:ext cx="38088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ectangle 7"/>
          <p:cNvSpPr/>
          <p:nvPr/>
        </p:nvSpPr>
        <p:spPr>
          <a:xfrm>
            <a:off x="228600" y="228600"/>
            <a:ext cx="847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В каком  варианте указаны все цифры, где должна стоять запята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енький дом стоит на краю бездны (1) и (2) поэтому (3)кажется удивительным(4) что в доме спокойно горит свет (5) и на столах лежат книги (6) и рук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>
            <a:off x="990720" y="2362320"/>
            <a:ext cx="723744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380880" y="243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0"/>
          <p:cNvSpPr/>
          <p:nvPr/>
        </p:nvSpPr>
        <p:spPr>
          <a:xfrm>
            <a:off x="3808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>
            <a:off x="380880" y="441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2"/>
          <p:cNvSpPr/>
          <p:nvPr/>
        </p:nvSpPr>
        <p:spPr>
          <a:xfrm>
            <a:off x="38088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990720" y="3200400"/>
            <a:ext cx="7313400" cy="53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4"/>
          <p:cNvSpPr/>
          <p:nvPr/>
        </p:nvSpPr>
        <p:spPr>
          <a:xfrm>
            <a:off x="990720" y="4419720"/>
            <a:ext cx="701028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4, 5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5"/>
          <p:cNvSpPr/>
          <p:nvPr/>
        </p:nvSpPr>
        <p:spPr>
          <a:xfrm>
            <a:off x="992160" y="5334120"/>
            <a:ext cx="723744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6"/>
          <p:cNvSpPr/>
          <p:nvPr/>
        </p:nvSpPr>
        <p:spPr>
          <a:xfrm>
            <a:off x="8458200" y="2362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7"/>
          <p:cNvSpPr/>
          <p:nvPr/>
        </p:nvSpPr>
        <p:spPr>
          <a:xfrm>
            <a:off x="84582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8"/>
          <p:cNvSpPr/>
          <p:nvPr/>
        </p:nvSpPr>
        <p:spPr>
          <a:xfrm>
            <a:off x="8458200" y="5486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8458200" y="4343400"/>
            <a:ext cx="3808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295280" y="1828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"/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твет с ошибкой в образовании формы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отв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шибкой в образовании формы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явится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безошибоч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40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505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Вопро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каком предложении правильно расставлены знаки препин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ив это, Маша, ожидающая его в переполненной комнате молча пошла к лестнице, ведущей наверх, и не спеша открыла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914400" y="2590920"/>
            <a:ext cx="7424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в девять часов, прихрамывая, он побрел, по огибающей лес дороге, медленно, неторопл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спомнил, что, уходя, не запер дверь на террасу, и, возвращаясь назад, проклинал и себя, и г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, туристы очень спешили, но за неимением билетов смогли уехать только через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9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Вопро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каком предложении знаки препинания расставлены прави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е дорожки, извилистые линии которых символизируют поток энергии, приобретают особое значение в япон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7"/>
          <p:cNvSpPr/>
          <p:nvPr/>
        </p:nvSpPr>
        <p:spPr>
          <a:xfrm>
            <a:off x="99072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е осенние тени бродили по лесу деревья, в котором замерзли в ожидании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исатель является психологом, в задачи которого входит понимание мотивов поступков героя, и раскрытие его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низина у границ, которой начинался сосновый бор поразила тур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Вопро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каком предложении допущена пунктуационная ошиб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 обеспечивает способность человека правильно реагировать на новую ситуацию, для разрешения которой нет готового рецеп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этого старинного дома, на первом этаже которого располагались все мелкие магазинчики всегда было особенно оживл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91440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 из центра, согласно которой мы все должны были работать без выходных, пришла в начале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дой старик, в годы войны которому было только девятнадцать лет, рассказывал подробности этого с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9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Вопр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В каком предложении допущена пунктуационная ошиб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домашний уют, создавать который пришлось очень долго, в один день был разрушен приездом Ивле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атформе гуляют барышни и молодые люди, среди которых задает тон местный фр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чальны кажутся в это время темные деревушки, мертвую тишину которых будит звук бубе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838080" y="5105520"/>
            <a:ext cx="7272360" cy="936360"/>
          </a:xfrm>
          <a:prstGeom prst="roundRect">
            <a:avLst>
              <a:gd name="adj" fmla="val 18296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затихал ветерок, и от нагретой земли исходило теплое парение, такая кругом наступала благод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1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7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Вопр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В каком предложении допущена пунктуационная ошиб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я эта снежная масса, от которой гнутся пятидесятилетние сосны и аркой до земли склоняются березы, состоит из шестиконечных плоских звезд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люди по воле автора оживают, произведение развивается по своей логике, толчок для которой дал пис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ее солнышко приветливо глядело с голубого неба, по которому двигались перистые облачка и пригревало изря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5"/>
          <p:cNvSpPr/>
          <p:nvPr/>
        </p:nvSpPr>
        <p:spPr>
          <a:xfrm>
            <a:off x="990720" y="5105520"/>
            <a:ext cx="7315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ы тщательно присмотритесь к людям, которые никого не могут хвалить и никем не довольны, то вы узнаете, что это те самые люди и есть, которыми никто не дово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7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 Вопр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В каком предложении допущена пунктуационная ошиб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992160" y="1341360"/>
            <a:ext cx="7272360" cy="102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ночью, когда на деревне погаснут огни и  в небе уже высоко блещет  семизвездие Стожар, еще раз пробежишь в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в рассказ Марины Цветаевой, убеждаешься, как мало мы знаем великих людей, и как мы, по справедливому упреку Пушкина, «ленивы и нелюбопыт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914400" y="3789360"/>
            <a:ext cx="73501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 с каштанов было так много, что во время дождей плотины из них задерживали сток дождевой воды и некоторые улицы  превращались в оз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914400" y="5013360"/>
            <a:ext cx="73501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четверть часа, когда над нашими головами разразилась гроза и лес точно застонал от раскатов грома, у нас в палатке весело горел огон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dd7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7"/>
          <p:cNvSpPr/>
          <p:nvPr/>
        </p:nvSpPr>
        <p:spPr>
          <a:xfrm>
            <a:off x="228600" y="228600"/>
            <a:ext cx="84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В каком  варианте указаны все цифры, где должна стоять запя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Когда затихает дом (1)и внизу ни на чем не играют (2) я слышу (3) как сквозь вьюгу прорывается гармоника(4) и к гармонике присоединяются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 flipV="1" rot="10800000">
            <a:off x="990720" y="2361240"/>
            <a:ext cx="6780240" cy="533160"/>
          </a:xfrm>
          <a:prstGeom prst="roundRect">
            <a:avLst>
              <a:gd name="adj" fmla="val 3148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304920" y="243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3808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3808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1066680" y="3200400"/>
            <a:ext cx="70088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990720" y="4267080"/>
            <a:ext cx="685800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990720" y="5257800"/>
            <a:ext cx="71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8305920" y="2438280"/>
            <a:ext cx="43632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7"/>
          <p:cNvSpPr/>
          <p:nvPr/>
        </p:nvSpPr>
        <p:spPr>
          <a:xfrm>
            <a:off x="8458200" y="4343400"/>
            <a:ext cx="38088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8"/>
          <p:cNvSpPr/>
          <p:nvPr/>
        </p:nvSpPr>
        <p:spPr>
          <a:xfrm flipV="1">
            <a:off x="8305920" y="3276720"/>
            <a:ext cx="53316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dd7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Синягина Ю.В.</dc:creator>
  <dc:description/>
  <cp:keywords>Подготовка к ЕГЭ Морфологические нормы</cp:keywords>
  <dc:language>en-US</dc:language>
  <cp:lastModifiedBy>bmw</cp:lastModifiedBy>
  <dcterms:modified xsi:type="dcterms:W3CDTF">2013-04-29T05:00:31Z</dcterms:modified>
  <cp:revision>51</cp:revision>
  <dc:subject/>
  <dc:title>Учебный тренажёр и проверочный те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