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gif" ContentType="image/gif"/>
  <Override PartName="/ppt/media/image7.jpeg" ContentType="image/jpeg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C290-375C-4E9A-82BD-30C244480C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93B5-6E0B-43F3-B23E-DD6286B913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FCD5-5CFE-43F1-B073-863FD766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DF17-5055-4FE7-B8DD-FCFCAD42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FD10-1C20-4498-819F-3210D9B2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A2DE-727E-47D4-BC3A-11AE108A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E77C-30CD-4851-B247-8352D3AF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B0CD-7A62-4596-9EAA-7609EB20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92C4-799F-4E7C-BE29-C41AAA86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2E4-94F9-4E72-AE5B-80302832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63FC-2949-4927-8446-F4A5B219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118-031A-4CBA-AFDC-06F4610B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4F7B-A74D-41E4-A0F0-55677F65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616F-199B-4E1C-B646-228096F6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590B-7DED-45B7-BD0D-BD6D16EB8963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400" spc="-1" strike="noStrike">
                <a:solidFill>
                  <a:srgbClr val="0000ff"/>
                </a:solidFill>
                <a:latin typeface="Calibri Light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755640" y="1125360"/>
            <a:ext cx="734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 дифференцированного обуче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5003640" y="4508640"/>
            <a:ext cx="3889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горьева Вера Викторо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английского язы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Игримская средня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образовательная школ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 Героя Советского Союза Собянина Г.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324000" y="231840"/>
            <a:ext cx="784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я с дозированной помощью учи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вень 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179280" y="981000"/>
            <a:ext cx="84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ишите, расставив знаки препин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звучала музыка гости оживилис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д оказался прав к вечеру пришла гро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хал сюда рожь начинала желте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бмануть меня не  трудно я сам  обманываться ра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324000" y="2457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вень 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324000" y="2919240"/>
            <a:ext cx="65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ишите, расставив знаки препин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звучала музыка ♦ гости оживилис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д оказался прав ♦ к вечеру пришла гро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хал сюда ♦ рожь начинала желте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бмануть меня не трудно ♦ я сам обманываться ра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395280" y="428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вень 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9"/>
          <p:cNvSpPr/>
          <p:nvPr/>
        </p:nvSpPr>
        <p:spPr>
          <a:xfrm>
            <a:off x="395280" y="465300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ишите, расставив знаки препин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звучала музыка ♦ гости оживились. (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д оказался прав ♦ к вечеру пришла гроза.(Дополняе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хал сюда ♦ рожь начинала желтеть. (Когд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бмануть меня не трудно ♦ я сам обманываться рад. (Потому чт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-360" y="189000"/>
            <a:ext cx="8642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16380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рованный подход в обучении – это важнейший принцип воспитания и обучения. Он обозначает действенное внимание к каждому ученику, его творческой индивидуальности в условиях классно-урочной системы обучения по обязательным учебным программам, предполагает сочетание фронтальных групповых и индивидуальных заданий для повышения качества обучения и развития каждого уче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L’Ajuntament de Berga destinarà 60.000€ per subvencionar projectes d’entitats locals sense ànim de lucre durant el 2019 • ALL ANDORRA"/>
          <p:cNvPicPr/>
          <p:nvPr/>
        </p:nvPicPr>
        <p:blipFill>
          <a:blip r:embed="rId1"/>
          <a:stretch/>
        </p:blipFill>
        <p:spPr>
          <a:xfrm>
            <a:off x="5940360" y="3860640"/>
            <a:ext cx="3095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042920" y="765000"/>
            <a:ext cx="70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апплодисменты анонимов"/>
          <p:cNvPicPr/>
          <p:nvPr/>
        </p:nvPicPr>
        <p:blipFill>
          <a:blip r:embed="rId1"/>
          <a:stretch/>
        </p:blipFill>
        <p:spPr>
          <a:xfrm>
            <a:off x="2124000" y="1989000"/>
            <a:ext cx="36003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1560" y="115560"/>
            <a:ext cx="7030800" cy="129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фференциация обучения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000" y="1600200"/>
            <a:ext cx="8280360" cy="4276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ация в переводе с латинского  «difference» означае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ие, расслоение целого на различные части, формы, ступе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рованное обуч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эт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организации учебного процесса, при которой учитель работает с группой учащихся, составленной с учётом наличия у них каких-либо значимых для учебного процесса общих качеств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общей дидактической системы, которая обеспечивает специализацию учебного процесса для различных групп обучаемы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50920" y="846000"/>
            <a:ext cx="611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яя дифференци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дифференци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611280" y="260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ы дифференцированного обуч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0" y="2046240"/>
            <a:ext cx="903600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евые ориентации дифференцированного           обуч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каждого на уровне его возможностей и способн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оптимальных условий для развит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250920" y="429264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нцип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дивидуальных возможносте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тив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bject 4"/>
          <p:cNvSpPr/>
          <p:nvPr/>
        </p:nvSpPr>
        <p:spPr>
          <a:xfrm>
            <a:off x="5940360" y="4149720"/>
            <a:ext cx="3132360" cy="2374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24000" y="1699920"/>
            <a:ext cx="8640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индивидуальных особенностей и учебных возможностей уча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критериев деления учащихся на групп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овершенствовать способности и навыки уча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анализировать их работ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ное планирование деятельности уча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атывает разные виды заданий для каждой групп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611280" y="43668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ль преподавателя в дифференциации образовательного процесс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250920" y="115920"/>
            <a:ext cx="85690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фференцированное обучение предполагает разделение обучающихся на группы по одному из критерие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900000" y="1557360"/>
            <a:ext cx="763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"/>
              </a:spcBef>
              <a:buClr>
                <a:srgbClr val="000000"/>
              </a:buClr>
              <a:buFont typeface="Times New Roman"/>
              <a:buChar char="-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755640" y="1413000"/>
            <a:ext cx="669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ровню интеллектуального развит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ипу мыш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ровню актив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мперамент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нтересам и склонност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Team work for Startup - Future Startup"/>
          <p:cNvPicPr/>
          <p:nvPr/>
        </p:nvPicPr>
        <p:blipFill>
          <a:blip r:embed="rId1"/>
          <a:stretch/>
        </p:blipFill>
        <p:spPr>
          <a:xfrm>
            <a:off x="4427640" y="3665520"/>
            <a:ext cx="471636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Результаты поиска по запросу &quot;анимация человечки для презентации&quot; в Яндекс.Картинках"/>
          <p:cNvPicPr/>
          <p:nvPr/>
        </p:nvPicPr>
        <p:blipFill>
          <a:blip r:embed="rId1"/>
          <a:stretch/>
        </p:blipFill>
        <p:spPr>
          <a:xfrm>
            <a:off x="1979640" y="1035000"/>
            <a:ext cx="4608360" cy="27939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 flipV="1" rot="10800000">
            <a:off x="539280" y="382788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улевой уровень актив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 flipV="1" rot="10800000">
            <a:off x="539640" y="454320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носительно-активный уров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539640" y="53118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ительно-активный уров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5"/>
          <p:cNvSpPr/>
          <p:nvPr/>
        </p:nvSpPr>
        <p:spPr>
          <a:xfrm flipV="1" rot="10800000">
            <a:off x="539640" y="58741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рческий уров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1332000" y="260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ление по уровню актив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10 ways to ruin a presentation Leadership &amp; Management"/>
          <p:cNvPicPr/>
          <p:nvPr/>
        </p:nvPicPr>
        <p:blipFill>
          <a:blip r:embed="rId2"/>
          <a:stretch/>
        </p:blipFill>
        <p:spPr>
          <a:xfrm>
            <a:off x="6875640" y="1450800"/>
            <a:ext cx="2736720" cy="2838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Мальчик, стоящий на руках"/>
          <p:cNvPicPr/>
          <p:nvPr/>
        </p:nvPicPr>
        <p:blipFill>
          <a:blip r:embed="rId3"/>
          <a:stretch/>
        </p:blipFill>
        <p:spPr>
          <a:xfrm>
            <a:off x="506520" y="1557360"/>
            <a:ext cx="140148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вневая дифференциация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000" y="1825200"/>
            <a:ext cx="83516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евая дифференциация ( по уровню умственного развития) -  организация обучения, при которой школьники, обучаясь по одной программе, имеют право и возможность усваивать её на обязательном (базовом) и повышенном уров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1"/>
          <p:cNvSpPr/>
          <p:nvPr/>
        </p:nvSpPr>
        <p:spPr>
          <a:xfrm>
            <a:off x="826920" y="3789360"/>
            <a:ext cx="7688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С ( 1-я группа) с низким уровнем обучаем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В ( 2-я группа) со средним уровнем обучаем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А ( 3-я группа) с высоким уровнем обучаем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366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фференцированные задания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28560" y="1825560"/>
            <a:ext cx="7886880" cy="25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различного уровня сложност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ование помощи учителя ученикам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с письменной инструкцие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с наглядным подкреплением (рисунком, чертежом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с образцом выполн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JibberJobber - A Personal Career Management Tool You Must Try!"/>
          <p:cNvPicPr/>
          <p:nvPr/>
        </p:nvPicPr>
        <p:blipFill>
          <a:blip r:embed="rId1"/>
          <a:stretch/>
        </p:blipFill>
        <p:spPr>
          <a:xfrm>
            <a:off x="6084720" y="3807000"/>
            <a:ext cx="30243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684360" y="2602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я различного уровня сложности. Многозначные сл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395280" y="1413000"/>
            <a:ext cx="864072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ровень 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шите многозначные слова. Объясните зна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ный, сертификат, дорога, истина, загореться, черный, кнопка, корень, карандаш, руч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ровень 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словосочетания, используя данные слова в разных значениях. Составьте предложения, употребляя слова в прямом значе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а, выть, черн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ровень 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йте и запишите связный текст, употребляя многозначные сл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4:56:18Z</dcterms:created>
  <dc:creator>Admin</dc:creator>
  <dc:description/>
  <dc:language>en-US</dc:language>
  <cp:lastModifiedBy>User</cp:lastModifiedBy>
  <dcterms:modified xsi:type="dcterms:W3CDTF">2019-12-13T15:13:19Z</dcterms:modified>
  <cp:revision>65</cp:revision>
  <dc:subject/>
  <dc:title>Технология дифференцированного обучения</dc:title>
</cp:coreProperties>
</file>