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6C0-471B-496E-B84F-C0A53126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B9A-993B-4469-A62C-56DFB14A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084-9D53-4B72-9A78-4B4270FF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018-1638-40CA-BD8D-29EF7525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7B08-A28F-41F1-BC11-3773A7AF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4EE9-4F82-4FD8-BE73-F325A6BD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1FB2-A677-4576-A867-7C9C9EE1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7443-EED6-46CB-B130-2BEB005A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C60A-E386-4690-8296-A0185CFB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5B26-C1DD-4CF2-9FE6-8FCBAF1F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838A-2239-48A1-96C8-BE5A406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4B0-0EBE-4DC0-886E-759CCED5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BE2-A911-4E34-94E9-229DAC61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F581-A964-4753-91A0-231A5774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D72A-FBD6-4A01-9773-DB02443B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FC12-CFF0-4154-BC61-CBA30386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5F3E-BDBF-4A28-9DBD-5EE4051A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79C5-A301-4E95-9E1E-6F707209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4367-6472-46DD-9BA8-14981AB8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DFE3-BD44-4AE4-8FBD-60FDEA6A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5696-D80D-4B78-B321-5B8A0FDA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B41C-5B9B-4352-A7F8-9CC80398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90F-4EA0-4D13-8D67-BD2EA739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F3A5-D816-4021-A85B-930459D0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1683-FED2-4CFB-BEB6-21D0653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F3A2-4E48-4254-AC48-F548CB5B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6F04-E204-4181-95CB-B6C83156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F7E7-A676-47B4-B3E3-6D0BA1F7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49DA-8228-4BFD-99E0-5843278B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02B8-F850-4C04-A614-FCE94E2C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5925-ABB7-4533-9B25-C21E9087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CF41-9D7F-4290-988B-34856055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CB6B-E4D4-40B6-BFC9-2FE8E823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B29-560E-43D4-9466-716501BB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54CA9-1840-46ED-98D4-5E6FE0A6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6C20-2714-4990-BF92-13A7A1EC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1C2D-4F24-4615-831D-AF9B9942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C34C-15D1-4A0F-8FC7-984CCC5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40977-5506-4177-8D0A-9601B87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52FB-7285-481E-BF70-5BF958DC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7A96-CF85-4DBC-BA11-8A9490F8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9A45-763A-46CE-8A82-68ADCE2E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636B-2DE5-42EF-9467-415319D1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1E3-0AA3-4FCB-BA49-2D36487C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9C2-076E-47CB-B211-86DA8D96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B5C-1BF6-44D8-BC52-7A42D65F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515-0C84-4CA2-BA2C-7BF91E55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42D-FBD9-42E7-A340-D783B31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3C2D-3504-45F6-9009-2A3403104FC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F789-F33F-4D29-A03B-80919D6161F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25E8-F15D-45C2-8B1F-27A3669AB88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5924-ED60-4780-AF96-76AC8FBED93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ЦЕНТР РАЗВИТИЯ РЕБЕНКА-ДЕТСКИЙ САД «РАДУГА»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ТАРКО-САЛЕ ПУРОВСКОГО РАЙО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Игровая деятельность как средство становления общения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тей со сверстниками»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дготовили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спитатель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в.категории - Магомедова М.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спитатель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в.категории - Набиуллина Л.Ф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19 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4"/>
          <p:cNvSpPr/>
          <p:nvPr/>
        </p:nvSpPr>
        <p:spPr>
          <a:xfrm>
            <a:off x="179280" y="572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вместные игры с предмета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290840" y="3822840"/>
            <a:ext cx="4570560" cy="279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179280" y="647640"/>
            <a:ext cx="45039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179280" y="572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гры с правила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924360" y="3770280"/>
            <a:ext cx="4981680" cy="273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46944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60548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3502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11280" y="731880"/>
            <a:ext cx="8137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Игра — это огромное светлое окно, через которое в духовный мир ребенка вливается живительный поток представлений, понятий об окружающем мире. Игра — это искра, зажигающая огонек пытливости и любознательности.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хомлинский В.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63280" y="42922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79280" y="40464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треннее приветстви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22200" y="1484280"/>
            <a:ext cx="85694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600360" cy="5524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4921200" y="981000"/>
            <a:ext cx="3529080" cy="5472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684360" y="2602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цессуальные игры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Users\Пользователь\Desktop\20181130_094521.jpg"/>
          <p:cNvPicPr/>
          <p:nvPr/>
        </p:nvPicPr>
        <p:blipFill>
          <a:blip r:embed="rId1"/>
          <a:stretch/>
        </p:blipFill>
        <p:spPr>
          <a:xfrm>
            <a:off x="538200" y="458640"/>
            <a:ext cx="3552840" cy="592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Пользователь\Desktop\IMG-6671a43e9d0ae2140ea84b58351ac4d0-V.jpg"/>
          <p:cNvPicPr/>
          <p:nvPr/>
        </p:nvPicPr>
        <p:blipFill>
          <a:blip r:embed="rId2"/>
          <a:stretch/>
        </p:blipFill>
        <p:spPr>
          <a:xfrm>
            <a:off x="5076720" y="473040"/>
            <a:ext cx="3656160" cy="590868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1"/>
          <p:cNvSpPr/>
          <p:nvPr/>
        </p:nvSpPr>
        <p:spPr>
          <a:xfrm>
            <a:off x="34920" y="47160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3751200" cy="5743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611280" y="615960"/>
            <a:ext cx="3367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79280" y="25992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гры направленные на развитие общения между детьм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- первоначальные  игр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в пара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роль принадлежит воспитателю. Здесь преимущественно игры в парах при участии взросл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- совместные игры ( эмоционально-практическое взаимодействие 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 начинает взрослый, он является образцом правильных и единых действий и создает необходимую эмоциональную атмосфер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- совместные игры с предметами( совместная предметная и продуктивная деятельность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озможно лишь после того, как дети научились видеть друг друга и воспринимать субъектность другого ребе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 - игры с правилами ( подготавливает к ролевому общению и игровому взаимодействию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остигается в организованных воспитателем играх с простыми правилами. Игры с правилами достаточно сложны для маленьких дете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24000" y="333360"/>
            <a:ext cx="8640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гры в пар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796000" y="8222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908000" y="3933720"/>
            <a:ext cx="3697560" cy="2694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250920" y="822240"/>
            <a:ext cx="36972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3"/>
          <p:cNvSpPr/>
          <p:nvPr/>
        </p:nvSpPr>
        <p:spPr>
          <a:xfrm>
            <a:off x="179280" y="572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вместные игры с несколькими партнера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4605120" cy="2911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392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8:47:46Z</dcterms:created>
  <dc:creator>Пользователь</dc:creator>
  <dc:description/>
  <dc:language>en-US</dc:language>
  <cp:lastModifiedBy>Пользователь</cp:lastModifiedBy>
  <dcterms:modified xsi:type="dcterms:W3CDTF">2019-12-13T17:28:07Z</dcterms:modified>
  <cp:revision>33</cp:revision>
  <dc:subject/>
  <dc:title>Презентация PowerPoint</dc:title>
</cp:coreProperties>
</file>