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A9726-0A72-4C7A-A1D2-CEDA848E6A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AF47B-B762-4EC7-A260-7E4B4477F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D9EF4-749C-410D-B8A8-9C8473FFBA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0BC45-5638-49F6-8E2A-5896C28963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2AA42-A249-40EE-BA74-E69E8B2F02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9D81E-5620-4599-97EF-00D9A196D0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3FE46-CE9F-42E9-8B9C-71071AAD28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736BF-D8C6-4ED2-A95B-B0B9BE455E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57FCC-A45E-4C0C-B44F-6406AE7E5F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4A2-6386-49DF-9891-E1D2C190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A7A-529B-4F3A-80C2-638BE618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CCC-06F6-411D-8BF9-3A90FFFA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97F-A435-4222-B5BF-E4FD1CBC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135-53DF-4105-9A17-63FAF243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6DB-00E6-438D-99AB-5761E72D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79F-7FE7-43F0-89B1-0D164D1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D50-BAEC-4800-956D-A2DA0E6F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C43-7781-4F81-A34A-B14786A1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483-421C-4547-8BCA-0349BB32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12E-D1D0-49F7-B5DC-0D60351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801-CB1C-44BA-9BD5-C955BEA7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D4750E-51C3-4554-A77F-9B8DED2AD1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800360" y="1260360"/>
            <a:ext cx="66592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2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Тем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АК СТАТЬ ЭКСКУРСОВОД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5840" y="0"/>
            <a:ext cx="100648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50800"/>
            <a:ext cx="4064040" cy="5748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3419640" y="1260360"/>
            <a:ext cx="14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419640" y="1979640"/>
            <a:ext cx="14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Горлыш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56000" y="4103640"/>
            <a:ext cx="10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Тул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419640" y="5219640"/>
            <a:ext cx="12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e181e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40000" y="6659640"/>
            <a:ext cx="1079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780000" y="6673680"/>
            <a:ext cx="9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60360" y="6840360"/>
            <a:ext cx="720720" cy="1800"/>
          </a:xfrm>
          <a:prstGeom prst="line">
            <a:avLst/>
          </a:prstGeom>
          <a:ln w="72000">
            <a:solidFill>
              <a:srgbClr val="a52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360360" y="7020000"/>
            <a:ext cx="720720" cy="1440"/>
          </a:xfrm>
          <a:prstGeom prst="line">
            <a:avLst/>
          </a:prstGeom>
          <a:ln w="72000">
            <a:solidFill>
              <a:srgbClr val="a52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2879640" y="6840360"/>
            <a:ext cx="716040" cy="174960"/>
            <a:chOff x="2879640" y="6840360"/>
            <a:chExt cx="716040" cy="174960"/>
          </a:xfrm>
        </p:grpSpPr>
        <p:sp>
          <p:nvSpPr>
            <p:cNvPr id="67" name="Line 11"/>
            <p:cNvSpPr/>
            <p:nvPr/>
          </p:nvSpPr>
          <p:spPr>
            <a:xfrm flipV="1">
              <a:off x="2879640" y="6840360"/>
              <a:ext cx="174600" cy="17496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 flipV="1">
              <a:off x="3240000" y="6840360"/>
              <a:ext cx="174600" cy="17496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>
              <a:off x="3060720" y="6874560"/>
              <a:ext cx="203040" cy="13572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4"/>
            <p:cNvSpPr/>
            <p:nvPr/>
          </p:nvSpPr>
          <p:spPr>
            <a:xfrm>
              <a:off x="3392640" y="6874560"/>
              <a:ext cx="203040" cy="135720"/>
            </a:xfrm>
            <a:prstGeom prst="line">
              <a:avLst/>
            </a:prstGeom>
            <a:ln w="72000">
              <a:solidFill>
                <a:srgbClr val="a5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15"/>
          <p:cNvSpPr/>
          <p:nvPr/>
        </p:nvSpPr>
        <p:spPr>
          <a:xfrm>
            <a:off x="4824360" y="71280"/>
            <a:ext cx="3095640" cy="59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ДРОНЯЕВСКИ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ГОНЧАРНЫ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ПРОМЫСЕ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Добыв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ин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Готовится сырая плотная гл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Работа на гончарном кру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Суш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Обжиг в гор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родажа на ярмар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8064360" y="255600"/>
            <a:ext cx="1584360" cy="154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3"/>
          <a:stretch/>
        </p:blipFill>
        <p:spPr>
          <a:xfrm>
            <a:off x="8061480" y="1944720"/>
            <a:ext cx="1585800" cy="110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4"/>
          <a:stretch/>
        </p:blipFill>
        <p:spPr>
          <a:xfrm>
            <a:off x="8064360" y="3168720"/>
            <a:ext cx="1608120" cy="111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5"/>
          <a:stretch/>
        </p:blipFill>
        <p:spPr>
          <a:xfrm>
            <a:off x="8064360" y="4392720"/>
            <a:ext cx="1584360" cy="149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6"/>
          <a:stretch/>
        </p:blipFill>
        <p:spPr>
          <a:xfrm>
            <a:off x="8064360" y="6048360"/>
            <a:ext cx="158436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>User</cp:lastModifiedBy>
  <dcterms:modified xsi:type="dcterms:W3CDTF">2019-12-13T07:43:30Z</dcterms:modified>
  <cp:revision>6</cp:revision>
  <dc:subject/>
  <dc:title>Слайд 1</dc:title>
</cp:coreProperties>
</file>