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2A4FB-4701-4D2A-8F38-02C43B36D6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E24FF-E443-4F32-9CF7-99324376C2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7EABC-E6A2-4B58-A15A-4F62EACE79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0F39E-5372-4E20-A5BE-760F42599F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8AFBE-66DA-4322-8B63-A5C29FE505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7F291-EE45-43EC-B8EF-43266BCE62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3794B-0574-456A-A5B4-1085B11DC2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375DE-DEDC-4E36-A7ED-01214DDC08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6B5D2-5BD0-4EDE-ABB2-36B38EC858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E5B-BA43-4615-824A-C3E79F12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911-E0B7-4954-8636-BC0CF327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537-4DD1-4501-8D66-4459B37D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53B-DBA0-4918-A14A-DD74A41D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ABC-06FC-4EB2-AF93-C5365D79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211E-5C80-499D-8F4E-44225BCB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879-25BE-4970-94E5-60E5162C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DE48-EFFA-4B99-9B8F-05F9C165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E0A-748B-49BA-A284-10FD6416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99A-01B0-4EED-A99F-AAD339C3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A15-D673-409E-9DF2-AE1AE654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410-BCB1-4E2B-A549-7E4BC342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4114BD-678E-4564-BBEA-8777953FF0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1800360" y="1260360"/>
            <a:ext cx="665928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2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Тема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КАК СТАТЬ ЭКСКУРСОВОДО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5840" y="0"/>
            <a:ext cx="100648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550800"/>
            <a:ext cx="4064040" cy="57484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3419640" y="1260360"/>
            <a:ext cx="143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e181e"/>
                </a:solidFill>
                <a:latin typeface="Arial"/>
              </a:rPr>
              <a:t>Вен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419640" y="1979640"/>
            <a:ext cx="14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e181e"/>
                </a:solidFill>
                <a:latin typeface="Arial"/>
              </a:rPr>
              <a:t>Горлыш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456000" y="4103640"/>
            <a:ext cx="107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e181e"/>
                </a:solidFill>
                <a:latin typeface="Arial"/>
              </a:rPr>
              <a:t>Туло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419640" y="5219640"/>
            <a:ext cx="126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e181e"/>
                </a:solidFill>
                <a:latin typeface="Arial"/>
              </a:rPr>
              <a:t>Нож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440000" y="6659640"/>
            <a:ext cx="1079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о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780000" y="6673680"/>
            <a:ext cx="900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360360" y="6840360"/>
            <a:ext cx="720720" cy="1800"/>
          </a:xfrm>
          <a:prstGeom prst="line">
            <a:avLst/>
          </a:prstGeom>
          <a:ln w="72000">
            <a:solidFill>
              <a:srgbClr val="a52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360360" y="7020000"/>
            <a:ext cx="720720" cy="1440"/>
          </a:xfrm>
          <a:prstGeom prst="line">
            <a:avLst/>
          </a:prstGeom>
          <a:ln w="72000">
            <a:solidFill>
              <a:srgbClr val="a52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10"/>
          <p:cNvGrpSpPr/>
          <p:nvPr/>
        </p:nvGrpSpPr>
        <p:grpSpPr>
          <a:xfrm>
            <a:off x="2879640" y="6840360"/>
            <a:ext cx="716040" cy="174960"/>
            <a:chOff x="2879640" y="6840360"/>
            <a:chExt cx="716040" cy="174960"/>
          </a:xfrm>
        </p:grpSpPr>
        <p:sp>
          <p:nvSpPr>
            <p:cNvPr id="67" name="Line 11"/>
            <p:cNvSpPr/>
            <p:nvPr/>
          </p:nvSpPr>
          <p:spPr>
            <a:xfrm flipV="1">
              <a:off x="2879640" y="6840360"/>
              <a:ext cx="174600" cy="174960"/>
            </a:xfrm>
            <a:prstGeom prst="line">
              <a:avLst/>
            </a:prstGeom>
            <a:ln w="72000">
              <a:solidFill>
                <a:srgbClr val="a52a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2"/>
            <p:cNvSpPr/>
            <p:nvPr/>
          </p:nvSpPr>
          <p:spPr>
            <a:xfrm flipV="1">
              <a:off x="3240000" y="6840360"/>
              <a:ext cx="174600" cy="174960"/>
            </a:xfrm>
            <a:prstGeom prst="line">
              <a:avLst/>
            </a:prstGeom>
            <a:ln w="72000">
              <a:solidFill>
                <a:srgbClr val="a52a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3"/>
            <p:cNvSpPr/>
            <p:nvPr/>
          </p:nvSpPr>
          <p:spPr>
            <a:xfrm>
              <a:off x="3060720" y="6874560"/>
              <a:ext cx="203040" cy="135720"/>
            </a:xfrm>
            <a:prstGeom prst="line">
              <a:avLst/>
            </a:prstGeom>
            <a:ln w="72000">
              <a:solidFill>
                <a:srgbClr val="a52a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4"/>
            <p:cNvSpPr/>
            <p:nvPr/>
          </p:nvSpPr>
          <p:spPr>
            <a:xfrm>
              <a:off x="3392640" y="6874560"/>
              <a:ext cx="203040" cy="135720"/>
            </a:xfrm>
            <a:prstGeom prst="line">
              <a:avLst/>
            </a:prstGeom>
            <a:ln w="72000">
              <a:solidFill>
                <a:srgbClr val="a52a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Text Box 15"/>
          <p:cNvSpPr/>
          <p:nvPr/>
        </p:nvSpPr>
        <p:spPr>
          <a:xfrm>
            <a:off x="4824360" y="71280"/>
            <a:ext cx="3095640" cy="59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"/>
              </a:rPr>
              <a:t>ДРОНЯЕВСКИ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"/>
              </a:rPr>
              <a:t>ГОНЧАРНЫ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"/>
              </a:rPr>
              <a:t>ПРОМЫСЕ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Добывае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ин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Готовится сырая плотная гли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Работа на гончарном круг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Суш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Обжиг в гор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Продажа на ярмарк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6" descr=""/>
          <p:cNvPicPr/>
          <p:nvPr/>
        </p:nvPicPr>
        <p:blipFill>
          <a:blip r:embed="rId2"/>
          <a:stretch/>
        </p:blipFill>
        <p:spPr>
          <a:xfrm>
            <a:off x="8064360" y="255600"/>
            <a:ext cx="1584360" cy="154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"/>
          <p:cNvPicPr/>
          <p:nvPr/>
        </p:nvPicPr>
        <p:blipFill>
          <a:blip r:embed="rId3"/>
          <a:stretch/>
        </p:blipFill>
        <p:spPr>
          <a:xfrm>
            <a:off x="8061480" y="1944720"/>
            <a:ext cx="1585800" cy="1100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"/>
          <p:cNvPicPr/>
          <p:nvPr/>
        </p:nvPicPr>
        <p:blipFill>
          <a:blip r:embed="rId4"/>
          <a:stretch/>
        </p:blipFill>
        <p:spPr>
          <a:xfrm>
            <a:off x="8064360" y="3168720"/>
            <a:ext cx="1608120" cy="1111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9" descr=""/>
          <p:cNvPicPr/>
          <p:nvPr/>
        </p:nvPicPr>
        <p:blipFill>
          <a:blip r:embed="rId5"/>
          <a:stretch/>
        </p:blipFill>
        <p:spPr>
          <a:xfrm>
            <a:off x="8064360" y="4392720"/>
            <a:ext cx="1584360" cy="149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"/>
          <p:cNvPicPr/>
          <p:nvPr/>
        </p:nvPicPr>
        <p:blipFill>
          <a:blip r:embed="rId6"/>
          <a:stretch/>
        </p:blipFill>
        <p:spPr>
          <a:xfrm>
            <a:off x="8064360" y="6048360"/>
            <a:ext cx="1584360" cy="96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>User</cp:lastModifiedBy>
  <dcterms:modified xsi:type="dcterms:W3CDTF">2019-12-13T07:43:30Z</dcterms:modified>
  <cp:revision>6</cp:revision>
  <dc:subject/>
  <dc:title>Слайд 1</dc:title>
</cp:coreProperties>
</file>