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632-358C-4853-A982-7596BF30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80F-D954-4028-ACD9-7247F188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E05-1FA0-4A3F-A00E-CB0C227E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185-ADDF-481B-9E4E-70C86533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7BE0-A9E0-42D1-8493-89B40EBC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3824-24F0-4FBD-8377-785B0C04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2545-EB4B-4A9A-9417-9FE99C18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BD7E-A533-4F35-9177-85AA151E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1633-B0BB-4059-8D1F-97C049C9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D0DE-FA28-4E02-B674-83EEAB56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9CBB-44A8-4A67-B6EB-DE7467E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BBF-186A-41B4-97E2-0CCFC98C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8ECC-32AC-43A0-A981-72A7F8D3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F9EB-4600-4057-BD70-61CAFCD2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7299-42EF-43B3-9B98-236C2E34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FD3C-73C1-4B4A-B28F-5C5EA01F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3DB6-B6B6-40B6-A45E-0ECD85AC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DA4-CADC-4985-A061-336C4B53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B31-FED6-4057-AF11-660341A9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3A9-2E81-4817-8F7E-F338102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A45-2306-4A72-84E8-8882FA84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688-BBD8-4E98-B482-71A953F7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4A9-EDF0-4067-AE89-8A77FCB2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33E-DE5A-4F3C-BAD9-A59FE0A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E3F1-F1FE-4E74-AF41-1C6C0F85350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D49-63D5-434B-BBE3-85A49BC612F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              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Былины. Былинные герои в         живопис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езентация к уроку изобразительного искусства  и литературного чтения в 4 класс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1" name="Track14.mp3" descr=""/>
          <p:cNvPicPr/>
          <p:nvPr/>
        </p:nvPicPr>
        <p:blipFill>
          <a:blip r:embed="rId1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В.М.Васнецов. </a:t>
            </a:r>
            <a:r>
              <a:rPr b="0" i="1" lang="ru-RU" sz="2800" spc="-1" strike="noStrike">
                <a:solidFill>
                  <a:srgbClr val="2f5897"/>
                </a:solidFill>
                <a:latin typeface="Palatino Linotype"/>
              </a:rPr>
              <a:t>Витязь на распутье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8" name="Picture 4" descr="C:\Users\Татьяна\Downloads\картинки\Безымянный5.png"/>
          <p:cNvPicPr/>
          <p:nvPr/>
        </p:nvPicPr>
        <p:blipFill>
          <a:blip r:embed="rId1"/>
          <a:stretch/>
        </p:blipFill>
        <p:spPr>
          <a:xfrm>
            <a:off x="611280" y="1382760"/>
            <a:ext cx="77994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В.М.Васнецов. </a:t>
            </a:r>
            <a:r>
              <a:rPr b="0" i="1" lang="ru-RU" sz="3200" spc="-1" strike="noStrike">
                <a:solidFill>
                  <a:srgbClr val="2f5897"/>
                </a:solidFill>
                <a:latin typeface="Palatino Linotype"/>
              </a:rPr>
              <a:t>Три богатыря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0" name="Picture 4" descr="C:\Users\Татьяна\Downloads\картинки\Безымянный6.png"/>
          <p:cNvPicPr/>
          <p:nvPr/>
        </p:nvPicPr>
        <p:blipFill>
          <a:blip r:embed="rId1"/>
          <a:stretch/>
        </p:blipFill>
        <p:spPr>
          <a:xfrm>
            <a:off x="755640" y="1341360"/>
            <a:ext cx="792000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Творческий метод Николая Рериха заключается, как правило, в обращении к современникам через исторические и былинные образы, в течение веков устоявшиеся в сознании народов и ставшие ёмкими символами высоких духовных ценностей человеческой доблести. Именно поэтому художник проявлял в течение всей жизни громадный интерес к тем образам и понятиям, которые сотворены самим народом и которые живут в глубинах его сознания как выражение его чаяний, представлений, убеждени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5" descr="C:\Users\Татьяна\Downloads\картинки\Безымянный.png"/>
          <p:cNvPicPr/>
          <p:nvPr/>
        </p:nvPicPr>
        <p:blipFill>
          <a:blip r:embed="rId1"/>
          <a:stretch/>
        </p:blipFill>
        <p:spPr>
          <a:xfrm>
            <a:off x="826920" y="1814400"/>
            <a:ext cx="30974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Н.Рерих. </a:t>
            </a:r>
            <a:r>
              <a:rPr b="0" i="1" lang="ru-RU" sz="5400" spc="-1" strike="noStrike">
                <a:solidFill>
                  <a:srgbClr val="2f5897"/>
                </a:solidFill>
                <a:latin typeface="Palatino Linotype"/>
              </a:rPr>
              <a:t>Святогор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5" name="Picture 4" descr="C:\Users\Татьяна\Downloads\картинки\Безымянный.png"/>
          <p:cNvPicPr/>
          <p:nvPr/>
        </p:nvPicPr>
        <p:blipFill>
          <a:blip r:embed="rId1"/>
          <a:stretch/>
        </p:blipFill>
        <p:spPr>
          <a:xfrm>
            <a:off x="2843280" y="1569960"/>
            <a:ext cx="34639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                   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Н.Рерих. </a:t>
            </a:r>
            <a:r>
              <a:rPr b="0" i="1" lang="ru-RU" sz="4000" spc="-1" strike="noStrike">
                <a:solidFill>
                  <a:srgbClr val="2f5897"/>
                </a:solidFill>
                <a:latin typeface="Palatino Linotype"/>
              </a:rPr>
              <a:t>Илья Муромец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Picture 4" descr="C:\Users\Татьяна\Downloads\картинки\Безымянный66.png"/>
          <p:cNvPicPr/>
          <p:nvPr/>
        </p:nvPicPr>
        <p:blipFill>
          <a:blip r:embed="rId1"/>
          <a:stretch/>
        </p:blipFill>
        <p:spPr>
          <a:xfrm>
            <a:off x="826920" y="1566720"/>
            <a:ext cx="749016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Константин Алексеевич Васильев (1942-1976) не сразу нашёл собственный стиль и направление в живописи. В поисках основы для творчества он обращается к фольклору: песням, былинам, сагам, древним сказаниям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Так рождается цикл картин «Русь былинная», в нём он создаёт завершённые по композиции картины-образы, в каждой из которых удивительно точно выражает собранные и обобщённые народным сознанием лучшие черты героя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0" name="Picture 5" descr="C:\Users\Татьяна\Downloads\картинки\1231.png"/>
          <p:cNvPicPr/>
          <p:nvPr/>
        </p:nvPicPr>
        <p:blipFill>
          <a:blip r:embed="rId1"/>
          <a:stretch/>
        </p:blipFill>
        <p:spPr>
          <a:xfrm>
            <a:off x="900000" y="1563840"/>
            <a:ext cx="30956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2" name="Picture 7" descr="7 Бой Добрыни со Змеем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7f7f7f"/>
                </a:solidFill>
                <a:latin typeface="Century Gothic"/>
              </a:rPr>
              <a:t>К.А.Васильев. Бой Добрыни со Змеем(1972-1974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Герой русских былин Добрыня Никитич, верный друг и соратник Ильи Муромца, один победил коварного Змея Горыныча, спас из пещер людей русских и чужестранцев, а затем и княжну Забаву Путятишн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                           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f7f7f"/>
                </a:solidFill>
                <a:latin typeface="Century Gothic"/>
              </a:rPr>
              <a:t>К.А.Васильев. Вольга Святославович(1973-1974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Чудо богатырь Вольга. Сказочная фантастика этого образа отображена художником в облаках, принявших форму золотого тура, белого сокола, серого волка, щуки зубастой. Это те образы, в которые мог обращаться Вольга, ударившись оземь и сказав заветное слово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C:\Users\Татьяна\Downloads\картинки\2312312.png"/>
          <p:cNvPicPr/>
          <p:nvPr/>
        </p:nvPicPr>
        <p:blipFill>
          <a:blip r:embed="rId1"/>
          <a:stretch/>
        </p:blipFill>
        <p:spPr>
          <a:xfrm>
            <a:off x="611280" y="2060640"/>
            <a:ext cx="41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6" descr="9 Меч Святогора"/>
          <p:cNvPicPr/>
          <p:nvPr/>
        </p:nvPicPr>
        <p:blipFill>
          <a:blip r:embed="rId1"/>
          <a:stretch/>
        </p:blipFill>
        <p:spPr>
          <a:xfrm>
            <a:off x="468360" y="1600200"/>
            <a:ext cx="3376440" cy="5068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f7f7f"/>
                </a:solidFill>
                <a:latin typeface="Century Gothic"/>
              </a:rPr>
              <a:t>К.А.Васильев. Меч Святогора(1974 г.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линный богатырь-гигант Святогор вручает свой заветный меч Илье Муромцу со словами: «А теперь прощай, мой меньшой брат, возьми мой меч-кладенец, владей моей силой богатырской…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1" name="Picture 6" descr="Рождение  Дуная"/>
          <p:cNvPicPr/>
          <p:nvPr/>
        </p:nvPicPr>
        <p:blipFill>
          <a:blip r:embed="rId1"/>
          <a:stretch/>
        </p:blipFill>
        <p:spPr>
          <a:xfrm>
            <a:off x="468360" y="1600200"/>
            <a:ext cx="3446280" cy="5068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f7f7f"/>
                </a:solidFill>
                <a:latin typeface="Century Gothic"/>
              </a:rPr>
              <a:t>К.А.Васильев. Рождение Дуная(1975-1976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Один из героев эпоса, Дунай Иванович в хмельном соперничестве нечаянно убил свою жену – удалую поляницу (богатыршу) Настасью Микулишну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Вместе с ней погубил он и дитя своё – чудесного святозарного младенца. Потрясённый случившимся бросился Дунай-богатырь на свой меч, и кровь их слилась, дав начало Дунаю – великой рек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                                               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Былины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 образах героев былин, в их мужественном поведении народ воспевал патриотические подвиги, самоотверженную борьбу за родную землю, беззаветную храбрость и удаль народную, сочувствие к угнетённым, ясный ум, стойкий характер, прямоту и недоступно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Былины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(от рус. 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быль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- бывшее в действительности), или </a:t>
            </a: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старины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(от рус. 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старина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) – русские народные повествовательные песни-поэмы о богатырях и народных героях, сложенные в старину безымянными певцами-сказителями и устно передававшиеся из поколения в покол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в живопис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8360" y="16286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удож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репроду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4e9ef"/>
                          </a:solidFill>
                          <a:latin typeface="Verdana"/>
                        </a:rPr>
                        <a:t>Николай Рер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Боя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вятог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Илья Муром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4e9ef"/>
                          </a:solidFill>
                          <a:latin typeface="Verdana"/>
                        </a:rPr>
                        <a:t>М.В.Васнец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Богаты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4e9ef"/>
                          </a:solidFill>
                          <a:latin typeface="Verdana"/>
                        </a:rPr>
                        <a:t>М.В.Васнец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итязь на распу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4e9ef"/>
                          </a:solidFill>
                          <a:latin typeface="Verdana"/>
                        </a:rPr>
                        <a:t>К.А.Василь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Бой Добрыни со Зме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ольга Святослав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Меч Святог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Рождение Ду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ортрет К.А.Василье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            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Былины.Былины и живопис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e9ef"/>
                </a:solidFill>
                <a:latin typeface="Century Gothic"/>
              </a:rPr>
              <a:t>Итоги урок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e9ef"/>
                </a:solidFill>
                <a:latin typeface="Century Gothic"/>
              </a:rPr>
              <a:t>Домашнее задани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Литерату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wwcultinfo.ru/fultext1/001/008/098/545.htm  (2K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)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.17.01.04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wwoval.ru/enc/g2486.html(28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Б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ww.rspu.ryazen.ru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: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81/fakult/cpf/gus/guslari/sadko.htvl(3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Б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.04.11.05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Цикличность былин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pSp>
        <p:nvGrpSpPr>
          <p:cNvPr id="95" name="Organization Chart 12"/>
          <p:cNvGrpSpPr/>
          <p:nvPr/>
        </p:nvGrpSpPr>
        <p:grpSpPr>
          <a:xfrm>
            <a:off x="1173240" y="2332080"/>
            <a:ext cx="6724440" cy="3222720"/>
            <a:chOff x="1173240" y="2332080"/>
            <a:chExt cx="6724440" cy="3222720"/>
          </a:xfrm>
        </p:grpSpPr>
        <p:cxnSp>
          <p:nvCxnSpPr>
            <p:cNvPr id="96" name="_s1028"/>
            <p:cNvCxnSpPr>
              <a:stCxn id="97" idx="0"/>
              <a:endCxn id="98" idx="2"/>
            </p:cNvCxnSpPr>
            <p:nvPr/>
          </p:nvCxnSpPr>
          <p:spPr>
            <a:xfrm flipV="1" rot="16200000">
              <a:off x="5289840" y="2033640"/>
              <a:ext cx="229320" cy="1738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29"/>
            <p:cNvCxnSpPr>
              <a:stCxn id="100" idx="0"/>
              <a:endCxn id="98" idx="2"/>
            </p:cNvCxnSpPr>
            <p:nvPr/>
          </p:nvCxnSpPr>
          <p:spPr>
            <a:xfrm flipH="1" flipV="1" rot="5400000">
              <a:off x="3551760" y="2033640"/>
              <a:ext cx="229320" cy="173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1030"/>
            <p:cNvSpPr/>
            <p:nvPr/>
          </p:nvSpPr>
          <p:spPr>
            <a:xfrm>
              <a:off x="3849840" y="233208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6076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Цик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1173240" y="3017880"/>
              <a:ext cx="3247920" cy="2536920"/>
            </a:xfrm>
            <a:prstGeom prst="roundRect">
              <a:avLst>
                <a:gd name="adj" fmla="val 16667"/>
              </a:avLst>
            </a:prstGeom>
            <a:solidFill>
              <a:srgbClr val="6076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Киевский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действие происходи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 Киеве или каким-то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бразом связано с эти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городом)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Герои: Илья Муромец,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обрыня Никитич,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лёша Попович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_s1032"/>
            <p:cNvSpPr/>
            <p:nvPr/>
          </p:nvSpPr>
          <p:spPr>
            <a:xfrm>
              <a:off x="4649760" y="3017880"/>
              <a:ext cx="3247920" cy="2536920"/>
            </a:xfrm>
            <a:prstGeom prst="roundRect">
              <a:avLst>
                <a:gd name="adj" fmla="val 16667"/>
              </a:avLst>
            </a:prstGeom>
            <a:solidFill>
              <a:srgbClr val="6076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Новгородск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герои родилис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И жили в Новгороде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Герои: Садко,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асилий Буслае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Text Box 22"/>
          <p:cNvSpPr/>
          <p:nvPr/>
        </p:nvSpPr>
        <p:spPr>
          <a:xfrm>
            <a:off x="698400" y="5734080"/>
            <a:ext cx="73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бобщение! Былина – это героико-патриотическая песня-сказание, повествующая о подвигах богатырей и отражающая жизнь Древней Рус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248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казатели и собирател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тих, которым писались былин, назывался русским народным, напевным стихом, обычно без рифм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ылины пели обычно под аккомпанемент гуслей звончаты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5" descr="C:\Users\Татьяна\Downloads\картинки\Безымянный1.png"/>
          <p:cNvPicPr/>
          <p:nvPr/>
        </p:nvPicPr>
        <p:blipFill>
          <a:blip r:embed="rId1"/>
          <a:stretch/>
        </p:blipFill>
        <p:spPr>
          <a:xfrm>
            <a:off x="1314360" y="1611360"/>
            <a:ext cx="232416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казители и собирател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32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entury Gothic"/>
              </a:rPr>
              <a:t>        </a:t>
            </a:r>
            <a:r>
              <a:rPr b="0" lang="ru-RU" sz="1600" spc="-1" strike="noStrike">
                <a:solidFill>
                  <a:srgbClr val="7f7f7f"/>
                </a:solidFill>
                <a:latin typeface="Century Gothic"/>
              </a:rPr>
              <a:t>Даровитым певцом был в прошлом столетии Трофим Григорьевич Рябинин, владевший удивительным умением сказывать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Century Gothic"/>
              </a:rPr>
              <a:t>        </a:t>
            </a:r>
            <a:r>
              <a:rPr b="1" lang="ru-RU" sz="1600" spc="-1" strike="noStrike">
                <a:solidFill>
                  <a:srgbClr val="7f7f7f"/>
                </a:solidFill>
                <a:latin typeface="Century Gothic"/>
              </a:rPr>
              <a:t>Рябинины,</a:t>
            </a:r>
            <a:r>
              <a:rPr b="0" lang="ru-RU" sz="1600" spc="-1" strike="noStrike">
                <a:solidFill>
                  <a:srgbClr val="7f7f7f"/>
                </a:solidFill>
                <a:latin typeface="Century Gothic"/>
              </a:rPr>
              <a:t> сказители русских былин. Трофим Григорьевич Р. (1791, деревня Гарницы Петрозаводского уезда Олонецкой губернии, - 1885, деревня Серёдка того же уезда и губернии, ныне Заонежского района Карельской АССР), принадлежал к эпикам строгой, выдержанной школы исполнения, следовал традициям героической трактовки образов и сюжетов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5" descr="C:\Users\Татьяна\Downloads\картинки\Безымянный2.png"/>
          <p:cNvPicPr/>
          <p:nvPr/>
        </p:nvPicPr>
        <p:blipFill>
          <a:blip r:embed="rId1"/>
          <a:stretch/>
        </p:blipFill>
        <p:spPr>
          <a:xfrm>
            <a:off x="1042920" y="1844640"/>
            <a:ext cx="3816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.Репин. </a:t>
            </a:r>
            <a:r>
              <a:rPr b="0" i="1" lang="ru-RU" sz="3600" spc="-1" strike="noStrike">
                <a:solidFill>
                  <a:srgbClr val="2f5897"/>
                </a:solidFill>
                <a:latin typeface="Palatino Linotype"/>
              </a:rPr>
              <a:t>Портрет сказителя былин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9" name="Picture 5" descr="C:\Users\Татьяна\Downloads\картинки\Безымянный3.png"/>
          <p:cNvPicPr/>
          <p:nvPr/>
        </p:nvPicPr>
        <p:blipFill>
          <a:blip r:embed="rId1"/>
          <a:stretch/>
        </p:blipFill>
        <p:spPr>
          <a:xfrm>
            <a:off x="2987640" y="1695600"/>
            <a:ext cx="31687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Каждому культурному человеку необходимо воспитывать себя, свой вкус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Не сотвори себе кумира – эта древняя истина и сегодня жив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Мы растём, мы умнеем, одним словом, меняемся. Поэтому не спешите выносить приговор любви или ненависти тому или иному мастеру, явлению искусства. Постарайтесь постичь его тайны, узнать творчество великих мастеров, и тогда сами сможете ответить на вопрос, чем отличается возвышенное от пошлости, дурной вкус от хорошего, искусство от антиискусства. Мы, к сожалению, привыкли, что нам постоянно навязывают чьё-то мнение – об истории, литературе, живописи, мы мало читаем и видим подлинники. Только знакомство с подлинниками поможет вам выработать своё мнен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        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Многие художники выбирали сюжеты из русской истории, сказок, былин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Зада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осмотрите произведения художник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равните, как они решали былинную те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йдите параллел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думайте, что вам нравится, а что нет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де больше глубины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                     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ылины и живопис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Поселившись с конца 1870-х годов в Москве, К.А.Васнецов посвящает своё творчество темам исторического, сказочного, былинного жанров. Константин Алексеевич понимал, что в народной сказке, былине запечатлён проверенный веками правдивый внутренний и внешний облик народа: «Я всегда был убеждён, что в … сказке, песне, былине сказывается весь цельный облик народа, внутренний и внешний, с прошлым и настоящим, а может, и будущим…»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         </a:t>
            </a:r>
            <a:r>
              <a:rPr b="0" lang="ru-RU" sz="1400" spc="-1" strike="noStrike">
                <a:solidFill>
                  <a:srgbClr val="7f7f7f"/>
                </a:solidFill>
                <a:latin typeface="Century Gothic"/>
              </a:rPr>
              <a:t>И он стремился раскрыть в картинах не только внешнюю красоту, увлекательность, узорчатую нарядность народной фантазии, но и заложенные в былине, сказке, песне глубокий социальный смысл, вековую народную мудрость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5" descr="C:\Users\Татьяна\Downloads\картинки\Безымянный4.png"/>
          <p:cNvPicPr/>
          <p:nvPr/>
        </p:nvPicPr>
        <p:blipFill>
          <a:blip r:embed="rId1"/>
          <a:stretch/>
        </p:blipFill>
        <p:spPr>
          <a:xfrm>
            <a:off x="826920" y="1484280"/>
            <a:ext cx="2881440" cy="472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3:47:52Z</dcterms:created>
  <dc:creator>cloun</dc:creator>
  <dc:description/>
  <dc:language>en-US</dc:language>
  <cp:lastModifiedBy>Татьяна</cp:lastModifiedBy>
  <dcterms:modified xsi:type="dcterms:W3CDTF">2019-12-14T14:50:23Z</dcterms:modified>
  <cp:revision>212</cp:revision>
  <dc:subject/>
  <dc:title>Былины. Былинные герои в живописи</dc:title>
</cp:coreProperties>
</file>