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3E1-D5CF-45B4-BEE4-1F01F23F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631-CCB7-47DA-80B1-A58CFCB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DDA-3423-4879-A111-E1107DCC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404-9B19-4586-8BBD-C0F686E7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1E9-E8E0-4111-9202-8FF296A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339-C4B1-4F23-A093-217B4BA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B06-04FB-43AC-95F4-8BC92F7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091-AE34-4C43-9EB8-C827C53B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08F-C25F-446E-857E-B011BDB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383-2878-449F-A273-62E4EFF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561-0379-43A8-AAC8-CDBDDB7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83F-A1B9-4563-8AAE-F9D6D16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D157-871E-40F5-A6DA-EDDBF33D5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ehang.nl/userfiles/foto%20database/kinder%20kamer/shutterstock_77683078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539640" y="907920"/>
            <a:ext cx="495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маш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755640" y="364500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а  воспитатель МДОУ Детский сад «Елочка»  г. Над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султанова Галина Темирбек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174600" y="287280"/>
            <a:ext cx="5477040" cy="496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meat-expert.ru/forum/uploads/monthly_07_2012/post-8415-0-47330800-1342512599_thumb.png"/>
          <p:cNvPicPr/>
          <p:nvPr/>
        </p:nvPicPr>
        <p:blipFill>
          <a:blip r:embed="rId2"/>
          <a:stretch/>
        </p:blipFill>
        <p:spPr>
          <a:xfrm>
            <a:off x="681120" y="3213000"/>
            <a:ext cx="2092320" cy="149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nova-skh.ru/bitrix/templates/Nova_SKH/img/goats.png"/>
          <p:cNvPicPr/>
          <p:nvPr/>
        </p:nvPicPr>
        <p:blipFill>
          <a:blip r:embed="rId3"/>
          <a:stretch/>
        </p:blipFill>
        <p:spPr>
          <a:xfrm>
            <a:off x="3174840" y="2824200"/>
            <a:ext cx="2467080" cy="2117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4"/>
          <a:stretch/>
        </p:blipFill>
        <p:spPr>
          <a:xfrm>
            <a:off x="352440" y="485640"/>
            <a:ext cx="3754440" cy="2252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5"/>
          <a:stretch/>
        </p:blipFill>
        <p:spPr>
          <a:xfrm>
            <a:off x="5796000" y="326880"/>
            <a:ext cx="2438280" cy="1468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"/>
          <p:cNvPicPr/>
          <p:nvPr/>
        </p:nvPicPr>
        <p:blipFill>
          <a:blip r:embed="rId6"/>
          <a:stretch/>
        </p:blipFill>
        <p:spPr>
          <a:xfrm>
            <a:off x="6372360" y="1952640"/>
            <a:ext cx="238104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"/>
          <p:cNvPicPr/>
          <p:nvPr/>
        </p:nvPicPr>
        <p:blipFill>
          <a:blip r:embed="rId7"/>
          <a:stretch/>
        </p:blipFill>
        <p:spPr>
          <a:xfrm>
            <a:off x="6046920" y="3594240"/>
            <a:ext cx="2342880" cy="1552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3"/>
          <p:cNvSpPr/>
          <p:nvPr/>
        </p:nvSpPr>
        <p:spPr>
          <a:xfrm>
            <a:off x="352440" y="5126040"/>
            <a:ext cx="8653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е животные это животные, которые живут рядом с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ят большую польз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виньи человек получает мясо и ко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ва и коза дают человеку молоко, мясо, кожу и шер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и шерсть – сырье для изготовления одежды и обу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5040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908000" y="5589720"/>
            <a:ext cx="63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и перевозят различные тяже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человеку передвиг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265720" cy="460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png-images.ru/wp-content/uploads/2015/02/chicken_PNG2146.png"/>
          <p:cNvPicPr/>
          <p:nvPr/>
        </p:nvPicPr>
        <p:blipFill>
          <a:blip r:embed="rId2"/>
          <a:stretch/>
        </p:blipFill>
        <p:spPr>
          <a:xfrm>
            <a:off x="539640" y="134136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agrarnik.com/images/243/20/utka107_fmt.png"/>
          <p:cNvPicPr/>
          <p:nvPr/>
        </p:nvPicPr>
        <p:blipFill>
          <a:blip r:embed="rId3"/>
          <a:stretch/>
        </p:blipFill>
        <p:spPr>
          <a:xfrm>
            <a:off x="3276720" y="981000"/>
            <a:ext cx="1663560" cy="388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6089760" y="620640"/>
            <a:ext cx="2585880" cy="1733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5"/>
          <a:stretch/>
        </p:blipFill>
        <p:spPr>
          <a:xfrm>
            <a:off x="6089760" y="2838600"/>
            <a:ext cx="2703240" cy="1757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"/>
          <p:cNvPicPr/>
          <p:nvPr/>
        </p:nvPicPr>
        <p:blipFill>
          <a:blip r:embed="rId6"/>
          <a:stretch/>
        </p:blipFill>
        <p:spPr>
          <a:xfrm>
            <a:off x="6089760" y="4941720"/>
            <a:ext cx="2703240" cy="154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ecofermer-shop.ru/public/images/product/31260a2bd36bb54ca3733b2a9448d075.jpg"/>
          <p:cNvPicPr/>
          <p:nvPr/>
        </p:nvPicPr>
        <p:blipFill>
          <a:blip r:embed="rId7"/>
          <a:stretch/>
        </p:blipFill>
        <p:spPr>
          <a:xfrm>
            <a:off x="6157800" y="2960640"/>
            <a:ext cx="2517840" cy="149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nauka21vek.ru/wp-content/uploads/2011/11/1392.jpg"/>
          <p:cNvPicPr/>
          <p:nvPr/>
        </p:nvPicPr>
        <p:blipFill>
          <a:blip r:embed="rId8"/>
          <a:stretch/>
        </p:blipFill>
        <p:spPr>
          <a:xfrm>
            <a:off x="6157800" y="739800"/>
            <a:ext cx="2479680" cy="1495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89640" y="5429160"/>
            <a:ext cx="558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 и гусь дают человеку яй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о и пе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http://www.1000dosok.ru/s/29-11-3886606.jpg"/>
          <p:cNvPicPr/>
          <p:nvPr/>
        </p:nvPicPr>
        <p:blipFill>
          <a:blip r:embed="rId9"/>
          <a:stretch/>
        </p:blipFill>
        <p:spPr>
          <a:xfrm>
            <a:off x="6221520" y="5035680"/>
            <a:ext cx="24541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4365720" cy="3252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96072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522320" y="765000"/>
            <a:ext cx="44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сторожит дом, «служи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дырем для слепых лю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ет» в поли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173880" y="5445000"/>
            <a:ext cx="42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ловит мышей, прино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ь при общении с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olcha.ru/uploads/posts/2014-07/1405338726_feeding-pet.jpg"/>
          <p:cNvPicPr/>
          <p:nvPr/>
        </p:nvPicPr>
        <p:blipFill>
          <a:blip r:embed="rId1"/>
          <a:stretch/>
        </p:blipFill>
        <p:spPr>
          <a:xfrm>
            <a:off x="179280" y="3240000"/>
            <a:ext cx="3589560" cy="316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animal.ru/i/upload/133734043614.jpg"/>
          <p:cNvPicPr/>
          <p:nvPr/>
        </p:nvPicPr>
        <p:blipFill>
          <a:blip r:embed="rId2"/>
          <a:stretch/>
        </p:blipFill>
        <p:spPr>
          <a:xfrm>
            <a:off x="4443480" y="192240"/>
            <a:ext cx="416088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skorayavet.ru/img/125.jpg"/>
          <p:cNvPicPr/>
          <p:nvPr/>
        </p:nvPicPr>
        <p:blipFill>
          <a:blip r:embed="rId3"/>
          <a:stretch/>
        </p:blipFill>
        <p:spPr>
          <a:xfrm>
            <a:off x="4427640" y="3573360"/>
            <a:ext cx="4019400" cy="2880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-19080" y="376200"/>
            <a:ext cx="428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ухаживает за домашними животными. Он их кормит, моет, лечит, предоставляет им к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домашние животные становятся его преданными друз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behang.nl/userfiles/foto%20database/kinder%20kamer/shutterstock_77683078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3645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6920" y="1676520"/>
            <a:ext cx="437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0_7cfbe_d2f60da2_L.png"/>
          <p:cNvPicPr/>
          <p:nvPr/>
        </p:nvPicPr>
        <p:blipFill>
          <a:blip r:embed="rId1"/>
          <a:stretch/>
        </p:blipFill>
        <p:spPr>
          <a:xfrm>
            <a:off x="1339920" y="907920"/>
            <a:ext cx="646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vseprophoto.ru/cliparts/animals/animals1/05.JPG"/>
          <p:cNvPicPr/>
          <p:nvPr/>
        </p:nvPicPr>
        <p:blipFill>
          <a:blip r:embed="rId1"/>
          <a:stretch/>
        </p:blipFill>
        <p:spPr>
          <a:xfrm>
            <a:off x="2050920" y="704880"/>
            <a:ext cx="55674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039.radikal.ru/1105/c0/8d0eec6273a9.jpg"/>
          <p:cNvPicPr/>
          <p:nvPr/>
        </p:nvPicPr>
        <p:blipFill>
          <a:blip r:embed="rId1"/>
          <a:stretch/>
        </p:blipFill>
        <p:spPr>
          <a:xfrm>
            <a:off x="1576440" y="806400"/>
            <a:ext cx="67579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tat16.privet.ru/lr/090dfcca0efe3513d5844c1d9364b659"/>
          <p:cNvPicPr/>
          <p:nvPr/>
        </p:nvPicPr>
        <p:blipFill>
          <a:blip r:embed="rId1"/>
          <a:stretch/>
        </p:blipFill>
        <p:spPr>
          <a:xfrm>
            <a:off x="2340000" y="620640"/>
            <a:ext cx="504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bload.de/img/chicken_png_tavuk_18ajj4p.png"/>
          <p:cNvPicPr/>
          <p:nvPr/>
        </p:nvPicPr>
        <p:blipFill>
          <a:blip r:embed="rId1"/>
          <a:srcRect l="4601" t="15453" r="43338" b="14862"/>
          <a:stretch/>
        </p:blipFill>
        <p:spPr>
          <a:xfrm>
            <a:off x="1979640" y="1052640"/>
            <a:ext cx="49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boombob.ru/img/picture/Jul/04/5d84a3bd21d4528f4c56c1d6d65c87cd/10.jpg"/>
          <p:cNvPicPr/>
          <p:nvPr/>
        </p:nvPicPr>
        <p:blipFill>
          <a:blip r:embed="rId1"/>
          <a:stretch/>
        </p:blipFill>
        <p:spPr>
          <a:xfrm>
            <a:off x="2340000" y="981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meat-expert.ru/forum/uploads/monthly_07_2012/post-8415-0-47330800-1342512599_thumb.png"/>
          <p:cNvPicPr/>
          <p:nvPr/>
        </p:nvPicPr>
        <p:blipFill>
          <a:blip r:embed="rId1"/>
          <a:stretch/>
        </p:blipFill>
        <p:spPr>
          <a:xfrm>
            <a:off x="1908000" y="620640"/>
            <a:ext cx="57596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Рисунок1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5:28:20Z</dcterms:created>
  <dc:creator>1</dc:creator>
  <dc:description/>
  <dc:language>en-US</dc:language>
  <cp:lastModifiedBy> </cp:lastModifiedBy>
  <dcterms:modified xsi:type="dcterms:W3CDTF">2019-12-14T16:10:43Z</dcterms:modified>
  <cp:revision>62</cp:revision>
  <dc:subject/>
  <dc:title>Слайд 1</dc:title>
</cp:coreProperties>
</file>