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8F23-3FE2-447E-94F9-E33AFFB97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E0A8-8229-4A69-B096-E1769D94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E81D-A20D-4DB4-AF19-CA8C8A9A2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E188-FABA-4FD8-ABF8-2C36E97FB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78FD-B35D-432C-8451-E836035A1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8D90-E261-4B8B-8A3E-18B98D7B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4AFC2-EA75-4366-BE79-50E36D52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BAB7-5DF8-475A-BC46-467161DA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7589-8038-4C04-B6BF-58BB33F7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A7DD-FEB3-4319-A1E7-8385B573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79FE-EDD5-42ED-9FF5-80BFFF08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4174-4C1A-4722-AE2B-5CE85569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512F-1114-4376-B31A-98E46636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474C-D21F-4E96-A278-06DA36FA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97D56-84F9-4B19-A43F-1384DD79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E8BC-5FE2-4148-8054-CD6805B08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2D549-2317-491C-A972-E0F693F0B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11E1-DF66-4523-B096-99278319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1716-742C-459A-B8FD-B07543AC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6DFD-FB94-4A9E-9D45-465AB764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AF4B-77D5-4858-B6C6-D5BBDBDE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B94B-4B29-4500-A894-CCDC21EE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5D15-3681-40AF-8902-6F602CA4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B034-BE6E-4C72-8E0B-665270CB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3C39-3FF5-4054-9962-A1068C630A73}" type="datetime">
              <a:rPr b="0" lang="en-US" sz="1200" spc="-1" strike="noStrike">
                <a:solidFill>
                  <a:srgbClr val="ffffff"/>
                </a:solidFill>
                <a:latin typeface="Tahom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3B3F-C912-4D19-93CA-33AFD7200BE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Stylistic SF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DBEA-CC16-483A-A393-367F420D510D}" type="datetime">
              <a:rPr b="0" lang="en-US" sz="1200" spc="-1" strike="noStrike">
                <a:solidFill>
                  <a:srgbClr val="ffffff"/>
                </a:solidFill>
                <a:latin typeface="Stylistic SF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Stylistic SF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tylistic SF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Stylistic S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32D1-E3C6-4CCB-AED3-C7AB5EDD9EF2}" type="slidenum">
              <a:rPr b="0" lang="en-US" sz="1200" spc="-1" strike="noStrike">
                <a:solidFill>
                  <a:srgbClr val="ffffff"/>
                </a:solidFill>
                <a:latin typeface="Stylistic SF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63640" y="837720"/>
            <a:ext cx="6694560" cy="276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ДОМАШНИЕ   ЖИВОТНЫЕ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10920" y="4508640"/>
            <a:ext cx="6046920" cy="144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езентацию выполнила Коновалова Надежда Ивановна  воспитатель СП – Детский сад «Берёзка» ГБОУ СОШ  «ОЦ» с. Августов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75B6-06B2-4499-BD19-4F872BBF5BF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РОЛИ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Рисунок 6" descr="089.jpg"/>
          <p:cNvPicPr/>
          <p:nvPr/>
        </p:nvPicPr>
        <p:blipFill>
          <a:blip r:embed="rId1"/>
          <a:stretch/>
        </p:blipFill>
        <p:spPr>
          <a:xfrm>
            <a:off x="395280" y="1628640"/>
            <a:ext cx="8353440" cy="50403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63D7-A079-4567-B3D3-772CC4A06080}" type="datetime">
              <a:rPr b="0" lang="en-US" sz="1200" spc="-1" strike="noStrike">
                <a:solidFill>
                  <a:srgbClr val="ffffff"/>
                </a:solidFill>
                <a:latin typeface="Tahom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A27F-7EF3-4773-A874-6278FDBC91E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ТО  ЛИШНИЙ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Рисунок 6" descr="9.jpg"/>
          <p:cNvPicPr/>
          <p:nvPr/>
        </p:nvPicPr>
        <p:blipFill>
          <a:blip r:embed="rId1"/>
          <a:stretch/>
        </p:blipFill>
        <p:spPr>
          <a:xfrm>
            <a:off x="250920" y="3933720"/>
            <a:ext cx="3097080" cy="251964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7" descr="abd9e7583604.jpg"/>
          <p:cNvPicPr/>
          <p:nvPr/>
        </p:nvPicPr>
        <p:blipFill>
          <a:blip r:embed="rId2"/>
          <a:stretch/>
        </p:blipFill>
        <p:spPr>
          <a:xfrm>
            <a:off x="6012000" y="3933720"/>
            <a:ext cx="2592360" cy="25434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8" descr="887727_70831-650x650.jpg"/>
          <p:cNvPicPr/>
          <p:nvPr/>
        </p:nvPicPr>
        <p:blipFill>
          <a:blip r:embed="rId3"/>
          <a:stretch/>
        </p:blipFill>
        <p:spPr>
          <a:xfrm>
            <a:off x="395280" y="1628640"/>
            <a:ext cx="2952720" cy="201636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9" descr="507477b73ca8763454b78f77adbdd960.jpg"/>
          <p:cNvPicPr/>
          <p:nvPr/>
        </p:nvPicPr>
        <p:blipFill>
          <a:blip r:embed="rId4"/>
          <a:stretch/>
        </p:blipFill>
        <p:spPr>
          <a:xfrm>
            <a:off x="5940360" y="1557360"/>
            <a:ext cx="2664000" cy="223200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0" descr="domashnie-zhivotnyie-Koza.jpg"/>
          <p:cNvPicPr/>
          <p:nvPr/>
        </p:nvPicPr>
        <p:blipFill>
          <a:blip r:embed="rId5"/>
          <a:stretch/>
        </p:blipFill>
        <p:spPr>
          <a:xfrm>
            <a:off x="3564000" y="2924280"/>
            <a:ext cx="2232000" cy="37447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5363-C0A9-4396-ABB3-59C00C24849F}" type="datetime">
              <a:rPr b="0" lang="en-US" sz="1200" spc="-1" strike="noStrike">
                <a:solidFill>
                  <a:srgbClr val="ffffff"/>
                </a:solidFill>
                <a:latin typeface="Tahom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5387-74F9-4D86-8A76-EBE3623C7D2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ЧТО   ЛИШНЕЕ 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Рисунок 6" descr="68016765.jpg"/>
          <p:cNvPicPr/>
          <p:nvPr/>
        </p:nvPicPr>
        <p:blipFill>
          <a:blip r:embed="rId1"/>
          <a:stretch/>
        </p:blipFill>
        <p:spPr>
          <a:xfrm>
            <a:off x="395280" y="4005360"/>
            <a:ext cx="3097080" cy="247176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7" descr="1341410591_1294325975_5.jpg"/>
          <p:cNvPicPr/>
          <p:nvPr/>
        </p:nvPicPr>
        <p:blipFill>
          <a:blip r:embed="rId2"/>
          <a:stretch/>
        </p:blipFill>
        <p:spPr>
          <a:xfrm>
            <a:off x="3708360" y="2637000"/>
            <a:ext cx="2158920" cy="403200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8" descr="Fruit_Strawberry_341547.jpg"/>
          <p:cNvPicPr/>
          <p:nvPr/>
        </p:nvPicPr>
        <p:blipFill>
          <a:blip r:embed="rId3"/>
          <a:stretch/>
        </p:blipFill>
        <p:spPr>
          <a:xfrm>
            <a:off x="6156360" y="4005360"/>
            <a:ext cx="2736720" cy="255888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9" descr="лук.jpg"/>
          <p:cNvPicPr/>
          <p:nvPr/>
        </p:nvPicPr>
        <p:blipFill>
          <a:blip r:embed="rId4"/>
          <a:stretch/>
        </p:blipFill>
        <p:spPr>
          <a:xfrm>
            <a:off x="395280" y="1413000"/>
            <a:ext cx="3097080" cy="244764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10" descr="0499d886918a979eb28b769f4a0de.jpg"/>
          <p:cNvPicPr/>
          <p:nvPr/>
        </p:nvPicPr>
        <p:blipFill>
          <a:blip r:embed="rId5"/>
          <a:stretch/>
        </p:blipFill>
        <p:spPr>
          <a:xfrm>
            <a:off x="6156360" y="1484280"/>
            <a:ext cx="2663640" cy="22320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ЧТО   ЛИШНЕЕ  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5330-1F04-46C7-80FB-5958CCC8CE9F}" type="datetime">
              <a:rPr b="0" lang="en-US" sz="1200" spc="-1" strike="noStrike">
                <a:solidFill>
                  <a:srgbClr val="ffffff"/>
                </a:solidFill>
                <a:latin typeface="Tahom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EABE-1E2F-440A-A88E-B9677C3DA0D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Рисунок 5" descr="9 (2).jpg"/>
          <p:cNvPicPr/>
          <p:nvPr/>
        </p:nvPicPr>
        <p:blipFill>
          <a:blip r:embed="rId1"/>
          <a:stretch/>
        </p:blipFill>
        <p:spPr>
          <a:xfrm>
            <a:off x="250920" y="4005360"/>
            <a:ext cx="3168720" cy="270324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6" descr="depositphotos_2451494-Multi-coloured-paprika.jpg"/>
          <p:cNvPicPr/>
          <p:nvPr/>
        </p:nvPicPr>
        <p:blipFill>
          <a:blip r:embed="rId2"/>
          <a:stretch/>
        </p:blipFill>
        <p:spPr>
          <a:xfrm>
            <a:off x="5940360" y="4005360"/>
            <a:ext cx="2952720" cy="266364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7" descr="menual115_0.jpg"/>
          <p:cNvPicPr/>
          <p:nvPr/>
        </p:nvPicPr>
        <p:blipFill>
          <a:blip r:embed="rId3"/>
          <a:stretch/>
        </p:blipFill>
        <p:spPr>
          <a:xfrm>
            <a:off x="324000" y="1413000"/>
            <a:ext cx="3168360" cy="230328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8" descr="6.jpg"/>
          <p:cNvPicPr/>
          <p:nvPr/>
        </p:nvPicPr>
        <p:blipFill>
          <a:blip r:embed="rId4"/>
          <a:stretch/>
        </p:blipFill>
        <p:spPr>
          <a:xfrm>
            <a:off x="6012000" y="1341360"/>
            <a:ext cx="2881080" cy="237492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9" descr="536836_vishnya_listok_fon_8328x6788_(www.GdeFon.ru).jpg"/>
          <p:cNvPicPr/>
          <p:nvPr/>
        </p:nvPicPr>
        <p:blipFill>
          <a:blip r:embed="rId5"/>
          <a:stretch/>
        </p:blipFill>
        <p:spPr>
          <a:xfrm>
            <a:off x="3635280" y="4076640"/>
            <a:ext cx="2160720" cy="259236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0" descr="pear-74.png"/>
          <p:cNvPicPr/>
          <p:nvPr/>
        </p:nvPicPr>
        <p:blipFill>
          <a:blip r:embed="rId6"/>
          <a:stretch/>
        </p:blipFill>
        <p:spPr>
          <a:xfrm>
            <a:off x="3780000" y="1341360"/>
            <a:ext cx="2087280" cy="24480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016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 rot="20626800">
            <a:off x="914400" y="1039320"/>
            <a:ext cx="8229600" cy="3083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МОЛОДЦЫ!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Содержимое 6" descr="86795_html_m43ed83bf.jpg"/>
          <p:cNvPicPr/>
          <p:nvPr/>
        </p:nvPicPr>
        <p:blipFill>
          <a:blip r:embed="rId1"/>
          <a:stretch/>
        </p:blipFill>
        <p:spPr>
          <a:xfrm>
            <a:off x="395280" y="260280"/>
            <a:ext cx="8280360" cy="6337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86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C9EF-8D87-4C76-8E59-4C8B3CFE8F41}" type="datetime">
              <a:rPr b="0" lang="en-US" sz="1200" spc="-1" strike="noStrike">
                <a:solidFill>
                  <a:srgbClr val="ffffff"/>
                </a:solidFill>
                <a:latin typeface="Tahom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8514-1450-4599-BE61-3F6701732F9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C695-1C11-4BF4-A1C7-A714E425D00A}" type="datetime">
              <a:rPr b="0" lang="en-US" sz="1200" spc="-1" strike="noStrike">
                <a:solidFill>
                  <a:srgbClr val="ffffff"/>
                </a:solidFill>
                <a:latin typeface="Tahom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43DE-8AB9-4BD6-A5E2-DAAB8537B96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ОШ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Рисунок 6" descr="384c5083f97385bb2730ddc44dfec366.jpg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511164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C71C-DED8-407A-9E88-A2F7DAB97A3D}" type="datetime">
              <a:rPr b="0" lang="en-US" sz="1200" spc="-1" strike="noStrike">
                <a:solidFill>
                  <a:srgbClr val="ffffff"/>
                </a:solidFill>
                <a:latin typeface="Tahom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2E68-8A62-4E31-9076-928C3A20A35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ОРО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Рисунок 6" descr="9.jpg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50259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D1D6-3477-4B9A-A384-937A746F0796}" type="datetime">
              <a:rPr b="0" lang="en-US" sz="1200" spc="-1" strike="noStrike">
                <a:solidFill>
                  <a:srgbClr val="ffffff"/>
                </a:solidFill>
                <a:latin typeface="Tahom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4D98-662C-42D8-B8BE-5E556CD4012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ЛОШАД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Рисунок 6" descr="887727_70831-650x650.jpg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50403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91C0-9358-47FE-9D03-42F651BE6843}" type="datetime">
              <a:rPr b="0" lang="en-US" sz="1200" spc="-1" strike="noStrike">
                <a:solidFill>
                  <a:srgbClr val="ffffff"/>
                </a:solidFill>
                <a:latin typeface="Tahom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6818-5C9F-46F4-9BE4-4191D3F4CDB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ВИНЬ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Рисунок 6" descr="507477b73ca8763454b78f77adbdd960.jpg"/>
          <p:cNvPicPr/>
          <p:nvPr/>
        </p:nvPicPr>
        <p:blipFill>
          <a:blip r:embed="rId1"/>
          <a:stretch/>
        </p:blipFill>
        <p:spPr>
          <a:xfrm>
            <a:off x="468360" y="1557360"/>
            <a:ext cx="8351640" cy="511164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585E-0646-40FD-87B6-4EDF56614042}" type="datetime">
              <a:rPr b="0" lang="en-US" sz="1200" spc="-1" strike="noStrike">
                <a:solidFill>
                  <a:srgbClr val="ffffff"/>
                </a:solidFill>
                <a:latin typeface="Tahom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1410-55E1-45E3-8EE4-4DEA9E8961D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ОЗ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Рисунок 6" descr="domashnie-zhivotnyie-Koza.jp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50403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320C-F3C6-461A-BE99-84021645B90F}" type="datetime">
              <a:rPr b="0" lang="en-US" sz="1200" spc="-1" strike="noStrike">
                <a:solidFill>
                  <a:srgbClr val="ffffff"/>
                </a:solidFill>
                <a:latin typeface="Tahom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B61D-140F-4F5D-A8C0-3C6C004F6C1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ОБА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Рисунок 6" descr="dsfoJ0-JLpQ.jpg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504684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B860-0F65-4631-9E76-8168F8D005A5}" type="datetime">
              <a:rPr b="0" lang="en-US" sz="1200" spc="-1" strike="noStrike">
                <a:solidFill>
                  <a:srgbClr val="ffffff"/>
                </a:solidFill>
                <a:latin typeface="Tahom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4CA3-0872-4307-890E-500B63D8E2B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ВЦ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Рисунок 6" descr="Картинки_животных_для_детей_домашние_животные_Овца.jpg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50403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08:33:10Z</dcterms:created>
  <dc:creator/>
  <dc:description/>
  <cp:keywords>бесплатные шаблоны</cp:keywords>
  <dc:language>en-US</dc:language>
  <cp:lastModifiedBy>Надежда</cp:lastModifiedBy>
  <dcterms:modified xsi:type="dcterms:W3CDTF">2016-12-25T20:03:32Z</dcterms:modified>
  <cp:revision>12</cp:revision>
  <dc:subject/>
  <dc:title>3D Popping Graphics: Fresh Spring Template</dc:title>
</cp:coreProperties>
</file>