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550-FCB2-4D51-B9C3-514B9B65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FD5-53AE-4DA6-9C33-3A005AE8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2FF-6534-47D7-9B5F-09BAA912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629-3980-428F-99DA-B50367B3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DC40-511E-4099-BC72-55605A23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8413-E0FA-4388-8AF6-0236F52B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2CE6-42A4-4826-9076-217238DB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0F90-0E9E-4AD8-A665-046CFC66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B441-9C3A-4B75-B482-E7661E8C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ECD3-0BDC-477E-892A-2AE3972E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62B-5254-49D9-BFB7-D9BCCF9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5E7-6349-4EEF-A4E0-8B89A5F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AB8F-097F-423E-8072-CDA179E1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83A9-711C-41BA-BECD-83BC765F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B4F5-69D7-4648-A71C-BEF466A9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2F0A-4EB9-4067-AFBF-16E8D508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EC09-8858-4EC1-AF66-7DC14F51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5D8-1C25-4EE6-B3B2-FFBFCDCC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4E4-8A29-4B23-BE2B-B17A255C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2B1-1912-4A19-AE43-AE19B885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CC5-DF8D-4859-8FEA-0C06DA7A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287-8D4E-4BC3-A03C-7BB728A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84E-CC45-41EA-8D71-121CD203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036-510B-4996-9A66-DEE88E8E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45BD-4DEF-408C-83C0-606EF86C0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FB6A-826E-406B-85CE-96AD18B28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4d"/>
                </a:solidFill>
                <a:latin typeface="Times New Roman"/>
              </a:rPr>
              <a:t>КАКИЕ   ДЕРЕВЬ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40080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4d"/>
                </a:solidFill>
                <a:latin typeface="Times New Roman"/>
              </a:rPr>
              <a:t>РАСТУТ В ЛЕС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а Коновалова Надежда Ивановна Воспитатель СП – Детский Сад «Берёзка»  ГБОУ СОШ  «ОЦ»с. Август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85-610x3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i (1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i (10).jpg"/>
          <p:cNvPicPr/>
          <p:nvPr/>
        </p:nvPicPr>
        <p:blipFill>
          <a:blip r:embed="rId2"/>
          <a:stretch/>
        </p:blipFill>
        <p:spPr>
          <a:xfrm>
            <a:off x="0" y="2924280"/>
            <a:ext cx="4427640" cy="3933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i (9).jpg"/>
          <p:cNvPicPr/>
          <p:nvPr/>
        </p:nvPicPr>
        <p:blipFill>
          <a:blip r:embed="rId3"/>
          <a:stretch/>
        </p:blipFill>
        <p:spPr>
          <a:xfrm>
            <a:off x="4427640" y="2924280"/>
            <a:ext cx="4716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БЕРЕГИСЬ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МИКРОБОВ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Содержимое 3" descr="105219834_w640_h640_cid915390_pid28156056-e2dde385.jpg"/>
          <p:cNvPicPr/>
          <p:nvPr/>
        </p:nvPicPr>
        <p:blipFill>
          <a:blip r:embed="rId1"/>
          <a:stretch/>
        </p:blipFill>
        <p:spPr>
          <a:xfrm>
            <a:off x="2514600" y="2924280"/>
            <a:ext cx="4073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i (3)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4d"/>
                </a:solidFill>
                <a:latin typeface="Times New Roman"/>
              </a:rPr>
              <a:t>ЁЛКА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3" descr="ygnz09IcYY0.jpg"/>
          <p:cNvPicPr/>
          <p:nvPr/>
        </p:nvPicPr>
        <p:blipFill>
          <a:blip r:embed="rId1"/>
          <a:stretch/>
        </p:blipFill>
        <p:spPr>
          <a:xfrm>
            <a:off x="611280" y="1700280"/>
            <a:ext cx="792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i (5)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" descr="i (11).jpg"/>
          <p:cNvPicPr/>
          <p:nvPr/>
        </p:nvPicPr>
        <p:blipFill>
          <a:blip r:embed="rId1"/>
          <a:stretch/>
        </p:blipFill>
        <p:spPr>
          <a:xfrm>
            <a:off x="0" y="2500200"/>
            <a:ext cx="9144000" cy="4357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4d"/>
                </a:solidFill>
                <a:latin typeface="Times New Roman"/>
              </a:rPr>
              <a:t>    </a:t>
            </a:r>
            <a:r>
              <a:rPr b="1" lang="ru-RU" sz="6000" spc="-1" strike="noStrike">
                <a:solidFill>
                  <a:srgbClr val="00664d"/>
                </a:solidFill>
                <a:latin typeface="Times New Roman"/>
              </a:rPr>
              <a:t>БЕРЁЗ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i (8)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700165-940308-original.jpg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4d"/>
                </a:solidFill>
                <a:latin typeface="Times New Roman"/>
              </a:rPr>
              <a:t>ОС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1125360"/>
            <a:ext cx="6656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4d"/>
                </a:solidFill>
                <a:latin typeface="Times New Roman"/>
              </a:rPr>
              <a:t>               </a:t>
            </a:r>
            <a:r>
              <a:rPr b="1" lang="ru-RU" sz="6000" spc="-1" strike="noStrike">
                <a:solidFill>
                  <a:srgbClr val="00664d"/>
                </a:solidFill>
                <a:latin typeface="Times New Roman"/>
              </a:rPr>
              <a:t>ЛЕС –                    ИСТОЧНИК   ЗДОРОВЬЯ !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4d"/>
                </a:solidFill>
                <a:latin typeface="Times New Roman"/>
              </a:rPr>
              <a:t>ДАВАЙТЕ  ЕГО  БЕРЕЧЬ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871280" y="19890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МИКРОБЫ-ВРАГИ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НАШЕМУ ЗДОРОВЬ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Надежда</cp:lastModifiedBy>
  <dcterms:modified xsi:type="dcterms:W3CDTF">2017-01-07T19:34:04Z</dcterms:modified>
  <cp:revision>10</cp:revision>
  <dc:subject/>
  <dc:title>фон облака</dc:title>
</cp:coreProperties>
</file>