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jpeg" ContentType="image/jpeg"/>
  <Override PartName="/ppt/media/image7.jpeg" ContentType="image/jpeg"/>
  <Override PartName="/ppt/media/image10.wmf" ContentType="image/x-wmf"/>
  <Override PartName="/ppt/media/image11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46422"/>
                </a:solidFill>
                <a:latin typeface="Segoe Script"/>
              </a:rPr>
              <a:t>Click to move the slide</a:t>
            </a:r>
            <a:endParaRPr b="0" lang="en-US" sz="4400" spc="-1" strike="noStrike">
              <a:solidFill>
                <a:srgbClr val="546422"/>
              </a:solidFill>
              <a:latin typeface="Segoe Scrip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1DE18-F84A-43E5-B1EB-A6D4D4169A0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231F2-6B7E-419C-B899-E0DCCB4E618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BFB00-1C57-4508-9C6A-CA912544B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46422"/>
              </a:solidFill>
              <a:latin typeface="Segoe Scrip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DF4F9-368D-482A-81F8-EDAA9547B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46422"/>
              </a:solidFill>
              <a:latin typeface="Segoe Scrip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04A43-E845-40B7-BA78-799C91520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46422"/>
              </a:solidFill>
              <a:latin typeface="Segoe Scrip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DD43F-7450-457F-BB38-49CF4F9CB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46422"/>
              </a:solidFill>
              <a:latin typeface="Segoe Scrip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CA0FC-C9A5-4C8D-9E01-7BC964347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46422"/>
              </a:solidFill>
              <a:latin typeface="Segoe Scrip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AB9E3-BBA9-4D27-B6C7-E24C905C3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46422"/>
              </a:solidFill>
              <a:latin typeface="Segoe Scrip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68191-257F-46C8-BD1C-E406A1F47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46422"/>
              </a:solidFill>
              <a:latin typeface="Segoe Scrip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3F1F2-D273-42FF-A7FF-BB0B10D44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7EDB8-B5BE-4F0A-948A-9B1515C83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46422"/>
              </a:solidFill>
              <a:latin typeface="Segoe Scrip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A3C9A-270D-4AF7-9605-D3DAAD1CD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46422"/>
              </a:solidFill>
              <a:latin typeface="Segoe Scrip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B36C5-29DF-4EE0-B4D6-C7B166E0D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46422"/>
              </a:solidFill>
              <a:latin typeface="Segoe Scrip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95A65-BC3F-4F2A-B060-942D3433B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46422"/>
                </a:solidFill>
                <a:latin typeface="Segoe Script"/>
              </a:rPr>
              <a:t>Click to edit the title text format</a:t>
            </a:r>
            <a:endParaRPr b="0" lang="en-US" sz="4400" spc="-1" strike="noStrike">
              <a:solidFill>
                <a:srgbClr val="546422"/>
              </a:solidFill>
              <a:latin typeface="Segoe Scrip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d23"/>
                </a:solidFill>
                <a:latin typeface="Segoe UI"/>
              </a:rPr>
              <a:t>Click to edit the outline text format</a:t>
            </a: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d23"/>
                </a:solidFill>
                <a:latin typeface="Segoe UI"/>
              </a:rPr>
              <a:t>Second Outline Level</a:t>
            </a: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d23"/>
                </a:solidFill>
                <a:latin typeface="Segoe UI"/>
              </a:rPr>
              <a:t>Third Outline Level</a:t>
            </a: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d23"/>
                </a:solidFill>
                <a:latin typeface="Segoe UI"/>
              </a:rPr>
              <a:t>Fourth Outline Level</a:t>
            </a: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d23"/>
                </a:solidFill>
                <a:latin typeface="Segoe UI"/>
              </a:rPr>
              <a:t>Fifth Outline Level</a:t>
            </a: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d23"/>
                </a:solidFill>
                <a:latin typeface="Segoe UI"/>
              </a:rPr>
              <a:t>Sixth Outline Level</a:t>
            </a: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d23"/>
                </a:solidFill>
                <a:latin typeface="Segoe UI"/>
              </a:rPr>
              <a:t>Seventh Outline Level</a:t>
            </a: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Segoe U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7578E-3D6C-464E-BE1C-24092CCB9CBE}" type="slidenum">
              <a:rPr b="0" lang="en-US" sz="1200" spc="-1" strike="noStrike">
                <a:solidFill>
                  <a:srgbClr val="898989"/>
                </a:solidFill>
                <a:latin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wmf"/><Relationship Id="rId7" Type="http://schemas.openxmlformats.org/officeDocument/2006/relationships/image" Target="../media/image11.wmf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Выноска-облако 4"/>
          <p:cNvSpPr/>
          <p:nvPr/>
        </p:nvSpPr>
        <p:spPr>
          <a:xfrm>
            <a:off x="826920" y="1125360"/>
            <a:ext cx="7000920" cy="2071800"/>
          </a:xfrm>
          <a:prstGeom prst="cloudCallout">
            <a:avLst>
              <a:gd name="adj1" fmla="val 53199"/>
              <a:gd name="adj2" fmla="val 19120"/>
            </a:avLst>
          </a:prstGeom>
          <a:solidFill>
            <a:srgbClr val="ff0066"/>
          </a:soli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79640" y="1557360"/>
            <a:ext cx="468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«МОЁ ХОББИ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5516640"/>
            <a:ext cx="720108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боту выполнили ученики 4 класс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уководитель: Хромова Л.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24000" y="836640"/>
            <a:ext cx="8496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Цель работы: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знакомить детей с разнообразными интересными способами проведения досуг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адачи исследования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Расширение круга интересов учащихся,  знакомство с занятиями и увлечениями ребят вне школ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 Развитие познавательного интереса младших школьников  к различным сферам культуры, искусства, спор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Воспитание в ребятах дружеских чувств, взаимопонимания, интереса друг к друг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24000" y="1125360"/>
            <a:ext cx="835164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бъект исследования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– увлечения современного челове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едмет исследования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– хобби учеников 3 класса школы с. Лазарев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1196640"/>
            <a:ext cx="8229600" cy="331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Хобби – это увлечение, любимое занятие для себя, на досуге.</a:t>
            </a:r>
            <a:endParaRPr b="0" lang="en-US" sz="4400" spc="-1" strike="noStrike">
              <a:solidFill>
                <a:srgbClr val="546422"/>
              </a:solidFill>
              <a:latin typeface="Segoe Script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6006240" y="364500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олковый словарь Ожег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179280" y="3860640"/>
            <a:ext cx="1425600" cy="17877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2050920" y="3645000"/>
            <a:ext cx="3305160" cy="27432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179280" y="189000"/>
            <a:ext cx="2521080" cy="2087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5"/>
          <a:stretch/>
        </p:blipFill>
        <p:spPr>
          <a:xfrm>
            <a:off x="2916360" y="395280"/>
            <a:ext cx="2808000" cy="1809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6"/>
          <a:stretch/>
        </p:blipFill>
        <p:spPr>
          <a:xfrm>
            <a:off x="6084720" y="4292640"/>
            <a:ext cx="2399040" cy="19051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7"/>
          <a:stretch/>
        </p:blipFill>
        <p:spPr>
          <a:xfrm>
            <a:off x="6659640" y="260280"/>
            <a:ext cx="2214360" cy="1800360"/>
          </a:xfrm>
          <a:prstGeom prst="rect">
            <a:avLst/>
          </a:prstGeom>
          <a:ln w="0">
            <a:noFill/>
          </a:ln>
        </p:spPr>
      </p:pic>
    </p:spTree>
  </p:cSld>
  <p:transition spd="med">
    <p:cover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AutoShape 5"/>
          <p:cNvSpPr/>
          <p:nvPr/>
        </p:nvSpPr>
        <p:spPr>
          <a:xfrm>
            <a:off x="6154560" y="1628640"/>
            <a:ext cx="2989440" cy="2087640"/>
          </a:xfrm>
          <a:prstGeom prst="irregularSeal2">
            <a:avLst/>
          </a:prstGeom>
          <a:noFill/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6"/>
          <p:cNvSpPr/>
          <p:nvPr/>
        </p:nvSpPr>
        <p:spPr>
          <a:xfrm>
            <a:off x="2987640" y="1268280"/>
            <a:ext cx="3456000" cy="1729080"/>
          </a:xfrm>
          <a:prstGeom prst="irregularSeal2">
            <a:avLst/>
          </a:prstGeom>
          <a:noFill/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7"/>
          <p:cNvSpPr/>
          <p:nvPr/>
        </p:nvSpPr>
        <p:spPr>
          <a:xfrm>
            <a:off x="0" y="3213000"/>
            <a:ext cx="2700360" cy="2089080"/>
          </a:xfrm>
          <a:prstGeom prst="irregularSeal2">
            <a:avLst/>
          </a:prstGeom>
          <a:noFill/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8"/>
          <p:cNvSpPr/>
          <p:nvPr/>
        </p:nvSpPr>
        <p:spPr>
          <a:xfrm>
            <a:off x="5580000" y="3933720"/>
            <a:ext cx="2521080" cy="1944720"/>
          </a:xfrm>
          <a:prstGeom prst="irregularSeal2">
            <a:avLst/>
          </a:prstGeom>
          <a:noFill/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9"/>
          <p:cNvSpPr/>
          <p:nvPr/>
        </p:nvSpPr>
        <p:spPr>
          <a:xfrm>
            <a:off x="0" y="1341360"/>
            <a:ext cx="3097080" cy="2016360"/>
          </a:xfrm>
          <a:prstGeom prst="irregularSeal2">
            <a:avLst/>
          </a:prstGeom>
          <a:noFill/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0"/>
          <p:cNvSpPr/>
          <p:nvPr/>
        </p:nvSpPr>
        <p:spPr>
          <a:xfrm>
            <a:off x="6443640" y="2349360"/>
            <a:ext cx="223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тан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«Туризм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2"/>
          <p:cNvSpPr/>
          <p:nvPr/>
        </p:nvSpPr>
        <p:spPr>
          <a:xfrm>
            <a:off x="3419640" y="1773360"/>
            <a:ext cx="237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тан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«Танцевальная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3"/>
          <p:cNvSpPr/>
          <p:nvPr/>
        </p:nvSpPr>
        <p:spPr>
          <a:xfrm>
            <a:off x="250920" y="1916280"/>
            <a:ext cx="2376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танц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«Золотые ручки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4"/>
          <p:cNvSpPr/>
          <p:nvPr/>
        </p:nvSpPr>
        <p:spPr>
          <a:xfrm>
            <a:off x="6012000" y="4508640"/>
            <a:ext cx="1553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тан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«Книжная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50920" y="3933720"/>
            <a:ext cx="194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танция «Филателия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684360" y="333360"/>
            <a:ext cx="755964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"Моё  хобби"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2" name="AutoShape 8"/>
          <p:cNvSpPr/>
          <p:nvPr/>
        </p:nvSpPr>
        <p:spPr>
          <a:xfrm>
            <a:off x="3132000" y="3141720"/>
            <a:ext cx="2521080" cy="1944720"/>
          </a:xfrm>
          <a:prstGeom prst="irregularSeal2">
            <a:avLst/>
          </a:prstGeom>
          <a:noFill/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19640" y="3716280"/>
            <a:ext cx="187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танция «Живопись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192560" y="40244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8"/>
          <p:cNvSpPr/>
          <p:nvPr/>
        </p:nvSpPr>
        <p:spPr>
          <a:xfrm>
            <a:off x="1692360" y="4913280"/>
            <a:ext cx="2520720" cy="1944720"/>
          </a:xfrm>
          <a:prstGeom prst="irregularSeal2">
            <a:avLst/>
          </a:prstGeom>
          <a:noFill/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979640" y="5589720"/>
            <a:ext cx="180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танция «Игрушки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24000" y="907920"/>
            <a:ext cx="84978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аким образом, интересное увлечение дарит человеку множество  позитива. Поэтому надо отыскать занятие, которое подарит положительные эмоции и позволит развивать творческие способности.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WordArt 4"/>
          <p:cNvSpPr txBox="1"/>
          <p:nvPr/>
        </p:nvSpPr>
        <p:spPr>
          <a:xfrm>
            <a:off x="1258920" y="2060640"/>
            <a:ext cx="6842160" cy="227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Удачи!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med"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0T15:22:40Z</dcterms:created>
  <dc:creator/>
  <dc:description/>
  <cp:keywords/>
  <dc:language>en-US</dc:language>
  <cp:lastModifiedBy/>
  <dcterms:modified xsi:type="dcterms:W3CDTF">2016-04-28T13:42:19Z</dcterms:modified>
  <cp:revision>16</cp:revision>
  <dc:subject/>
  <dc:title>Слайд 1</dc:title>
</cp:coreProperties>
</file>