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46B-E51E-4861-9105-EA7521C8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235-4ADD-4A77-9CA8-D1FD4C00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63B-5F44-4505-ACB0-86472B37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622-4F01-4879-A05E-1E891610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A70-B34E-480E-8007-09A5771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969-609D-4966-818F-3870A66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487-8DCF-4036-86BD-8D19604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D13-84EC-4F2E-9FFB-E8FA9D24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622-670D-46E3-8156-0CDC671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1FD-8480-4E71-AAF5-FFD4C74F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158-B29D-4C75-93D2-87EECF2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5C7-1376-4DD9-A362-40339DA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E673-B382-4D19-815F-F94FE7BA6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236520"/>
            <a:ext cx="8559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аспорт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Вид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знавательно – исследовательск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детско – родитель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Участник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Воспитатели, родители, дети младшего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Продолжительность проект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Краткосрочный (2недел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Образовательная область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знаватель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Интеграция образовательны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оциально – коммуникатив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Речев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Художественно – эстетическ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Физическ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J:\для проекта\kisspng-portable-network-graphics-clip-art-psd-computer-fi-cosas-para-photoscape-imÁgenes-para-photoscape-5b655aaa318da4.328782421533369002203.jpg"/>
          <p:cNvPicPr/>
          <p:nvPr/>
        </p:nvPicPr>
        <p:blipFill>
          <a:blip r:embed="rId2"/>
          <a:stretch/>
        </p:blipFill>
        <p:spPr>
          <a:xfrm>
            <a:off x="7753320" y="5346720"/>
            <a:ext cx="14511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для проекта\kisspng-lionhead-rabbit-domestic-rabbit-american-fuzzy-lop-rabbit-png-amp-rabbit-png-transparent-images-p-5b88b91d4a9516.5266491915356869413055.jpg"/>
          <p:cNvPicPr/>
          <p:nvPr/>
        </p:nvPicPr>
        <p:blipFill>
          <a:blip r:embed="rId2"/>
          <a:stretch/>
        </p:blipFill>
        <p:spPr>
          <a:xfrm>
            <a:off x="7808760" y="5327640"/>
            <a:ext cx="1468440" cy="1536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600360" cy="2374920"/>
          </a:xfrm>
          <a:prstGeom prst="rect">
            <a:avLst/>
          </a:prstGeom>
          <a:ln w="38160">
            <a:solidFill>
              <a:srgbClr val="246614"/>
            </a:solidFill>
            <a:miter/>
          </a:ln>
        </p:spPr>
      </p:pic>
      <p:pic>
        <p:nvPicPr>
          <p:cNvPr id="96" name="Рисунок 4" descr=""/>
          <p:cNvPicPr/>
          <p:nvPr/>
        </p:nvPicPr>
        <p:blipFill>
          <a:blip r:embed="rId4"/>
          <a:srcRect l="0" t="-308" r="0" b="0"/>
          <a:stretch/>
        </p:blipFill>
        <p:spPr>
          <a:xfrm>
            <a:off x="3995640" y="3527280"/>
            <a:ext cx="3816360" cy="2463840"/>
          </a:xfrm>
          <a:prstGeom prst="rect">
            <a:avLst/>
          </a:prstGeom>
          <a:ln w="38160">
            <a:solidFill>
              <a:srgbClr val="246614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5148360" y="620640"/>
            <a:ext cx="339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Вот наш терем – тере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Он не н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не вы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55640" y="352728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Всех зверей встречаем – чаем угоща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358920" y="536400"/>
            <a:ext cx="842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ходе работы над нашим проектом дети нашли ответы на все свои вопросы. Ребята познакомились с лесными жителями нашего края волком, лисой, зайцем, медведем. Узнали о паводках животных, где они обитают, как зимуют, чем питаются, как называются их дома и т.д.  Внимательно слушали рассказы и сказки, стихи и потешки о диких животных. Точно определяли походку, повадки, следы диких животных, правильно подобрали картинки «Дикие животные и их детеныши». Во время организованной образовательной деятельности ребята проявляли познавательный интерес и с большим любопытством принимались за д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7643880" y="5456160"/>
            <a:ext cx="16225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82440" y="-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J:\для проекта\kisspng-lionhead-rabbit-domestic-rabbit-american-fuzzy-lop-rabbit-png-amp-rabbit-png-transparent-images-p-5b88b91d4a9516.5266491915356869413055.jpg"/>
          <p:cNvPicPr/>
          <p:nvPr/>
        </p:nvPicPr>
        <p:blipFill>
          <a:blip r:embed="rId2"/>
          <a:stretch/>
        </p:blipFill>
        <p:spPr>
          <a:xfrm>
            <a:off x="7808760" y="5327640"/>
            <a:ext cx="1468440" cy="1536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39640" y="476280"/>
            <a:ext cx="7848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Georgia"/>
              </a:rPr>
              <a:t>Акт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ологическое образование ребенка необходимо начинать со знакомства с объектам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ложить первые ориентиры в мире животных, как живых существ обеспечить первоначальное понимание связи их в природе – всё это главные задачи перед  педагогом. Дети с большим интересом познают мир животных, лесные жители становятся неотъемлемой частью детства наших детей. Лишь только познакомившись с дикими животными нашего края, ребята могут определить повадки, особенности их поведения, проявить любознательность, любовь к жив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ходя из актуальности проекта мы выделили проблему – недостаточное знание детей о диких животных нашего края и среде их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7516800" y="5315040"/>
            <a:ext cx="1803240" cy="1562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24000" y="260280"/>
            <a:ext cx="8496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Гип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спитание интереса к лесным жителям нашего края должно начинаться с раннего возраста непосредственно во взаимодействии с семьёй, носить комплексный характер, осуществляться в повседневной жизни и во время организованной образовательной деятельности. В противном случае, знания детей останутся путанными, отрывочными, неполными, а чувство любви к  животному миру – слаборазви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24000" y="25509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Цель проекта</a:t>
            </a:r>
            <a:r>
              <a:rPr b="0" lang="ru-RU" sz="1800" spc="-1" strike="noStrike">
                <a:solidFill>
                  <a:srgbClr val="c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основ экологической культуры, представлений о диких животных нашего региона, осознанно-правильного отношения к представителям живот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14280" y="3767040"/>
            <a:ext cx="85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6614"/>
                </a:solidFill>
                <a:latin typeface="Georgia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ть познавательный интерес и представления о животном мире наших лесов у детей младше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истематизировать  знания детей о внешнем виде животных, их повадках, среде об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огащать  словарь новыми, ранее неизвестными сло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42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J:\для проекта\kisspng-lionhead-rabbit-domestic-rabbit-american-fuzzy-lop-rabbit-png-amp-rabbit-png-transparent-images-p-5b88b91d4a9516.5266491915356869413055.jpg"/>
          <p:cNvPicPr/>
          <p:nvPr/>
        </p:nvPicPr>
        <p:blipFill>
          <a:blip r:embed="rId2"/>
          <a:stretch/>
        </p:blipFill>
        <p:spPr>
          <a:xfrm>
            <a:off x="7808760" y="5327640"/>
            <a:ext cx="1468440" cy="1536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58920" y="306360"/>
            <a:ext cx="8426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6614"/>
                </a:solidFill>
                <a:latin typeface="Georgia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вать  у детей познавательный интерес к жизни животных  края, в котором мы живё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глублять знание детей о животном мире посредствам художественн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вать  коммуникативные  навыки и связную  речь через игровую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буждать детей навыкам художественного исполнения различных образов в инсценировках и иг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6614"/>
                </a:solidFill>
                <a:latin typeface="Georgia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ывать   бережное отношение к живот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ывать   любознательность, любовь к родной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ывать дружеские отношения в детск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ывать эстетические чувства и эмоциональную отзывчивость у детей младшего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J:\для проекта\4b85953564ec9239aed406857b23e8c2.jpg"/>
          <p:cNvPicPr/>
          <p:nvPr/>
        </p:nvPicPr>
        <p:blipFill>
          <a:blip r:embed="rId2"/>
          <a:stretch/>
        </p:blipFill>
        <p:spPr>
          <a:xfrm>
            <a:off x="7443720" y="5608800"/>
            <a:ext cx="1846440" cy="12729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39640" y="47628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Механизм реализации проекта через различные виды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навательно – исследовательск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гро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вигатель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зыкаль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образитель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риятие художественной литературы и фолькл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506520" y="3616200"/>
            <a:ext cx="806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Формы работы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ОД, дидактические игры, подвижные игры, пальчиковые игры, речевые игры, сюжетно ролевые игры, показ театра, настольные игры, продуктивная деятельность, чтение художественной литературы, рассматривание иллюстрированных альбомов, музыкально-ритмические движения, просмотр мультфильмов и презентац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24000" y="336600"/>
            <a:ext cx="82087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Мы узн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то такие дикие животные, среда их оби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знаем новые стихотворения о диких 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Мы научим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знавать и называть живот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ражать животным при помощи мимики и же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овать  следы диких  животных с использованием разной техники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Мы увеличим словарный зап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есные жители, плутовка, косой, косолап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ктивизируем слова: пушистый, хитрая, рыж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46614"/>
                </a:solidFill>
                <a:uFillTx/>
                <a:latin typeface="Georgia"/>
              </a:rPr>
              <a:t>Мы изготов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стольно-печатные игры: лото «Дикие животные», «Мамы и детки», «Животный мир края»; шапочки, маски для подвижных игр, ма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Дикие животные родного края», альбомы «Дикие животные нашего края», «Зимующие птицы наших лесов», выставку рисунков (семейное творчество) «Лесные жители нашего кр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516800" y="5315040"/>
            <a:ext cx="1803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250920" y="243000"/>
            <a:ext cx="864216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Georgia"/>
                <a:ea typeface="Times New Roman"/>
              </a:rPr>
              <a:t>Этап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6614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I. Информационно-накопительны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пределение уровня знаний маленьких детей о диких животных наших лесов и их среде об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Изучение заинтересованности родителей в участии и реализации 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и анализ литературы для взрослых и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II.</a:t>
            </a:r>
            <a:r>
              <a:rPr b="0" i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Организационно –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вместная деятельность с детьми: «Следы зверей на снег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дуктивная деятельность (использование Лего конструктор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здание макета «Лесные жите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формление альбомов:  «Дикие животные нашего края», «Зимующие птицы наших лесов», пополнение книжного уголка иллюстрированными книжками  (сказки, фольклорные произведения, стихи о лесных животны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вижные игры, имитирующие повадки диких животных (с привлечением родите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учивание коротких стишков и потеше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каз сказок различных театра (настольного, кукольного, теневого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сматривание картинок из серии “Птицы”, “Дикие животные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смотр познавательных мультфильмов, презентаций: «Как зимуют звери», «Чей хвост», «Чьи  следы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пытно-экспериментальная деятельность – «Заячья шуб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альчиковые игры: «Дятел”, “Сидит белочка в тележке”, «Дикие животные «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евая прогулка в «Сказочный уголок леса», «Птичью столовую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317080" y="5923080"/>
            <a:ext cx="914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468360" y="692280"/>
            <a:ext cx="79912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полнение развивающей среды игрушками – животными, шапочками для подвижных иг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музыкальных произведений и детских пес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Консультации для родителей: «Воспитание любви к родному краю начинается с семьи», «Рекомендации по подбору художественной литературы о животных нашего края согласно возрастным особенностям дет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астие родителей в  совместной игровой деятельности, в  творческой выставке рисунков «Лесные жители нашего края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46614"/>
                </a:solidFill>
                <a:latin typeface="Georgia"/>
                <a:ea typeface="Times New Roman"/>
              </a:rPr>
              <a:t>III. Презентационно - заверш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ставка продукта совместной деятельности родителей и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Новогодний праздник «Возле ёлочки зелёной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Фотоотч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J:\для проекта\kisspng-red-fox-portable-network-graphics-clip-art-image-8fox-534x7-4-6kb-animal-clipart-pinterest-5ca73c97c62d83.2459780215544638958118.jpg"/>
          <p:cNvPicPr/>
          <p:nvPr/>
        </p:nvPicPr>
        <p:blipFill>
          <a:blip r:embed="rId2"/>
          <a:stretch/>
        </p:blipFill>
        <p:spPr>
          <a:xfrm>
            <a:off x="7639200" y="5553000"/>
            <a:ext cx="16380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547640" y="40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Фото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J:\для проекта\для проекта\фото для проекта\IMG_20191202_071359.jpg"/>
          <p:cNvPicPr/>
          <p:nvPr/>
        </p:nvPicPr>
        <p:blipFill>
          <a:blip r:embed="rId2"/>
          <a:stretch/>
        </p:blipFill>
        <p:spPr>
          <a:xfrm>
            <a:off x="2124000" y="3835440"/>
            <a:ext cx="3260880" cy="24289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8" name="Picture 3" descr="J:\для проекта\для проекта\фото для проекта\IMG_20191202_071427.jpg"/>
          <p:cNvPicPr/>
          <p:nvPr/>
        </p:nvPicPr>
        <p:blipFill>
          <a:blip r:embed="rId3"/>
          <a:stretch/>
        </p:blipFill>
        <p:spPr>
          <a:xfrm>
            <a:off x="755640" y="1197000"/>
            <a:ext cx="3564000" cy="23572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5867280" y="4292640"/>
            <a:ext cx="3025800" cy="226836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5076720" y="1628640"/>
            <a:ext cx="3527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ОД Художественно – 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изобразительная деятельность  - рисова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46614"/>
                </a:solidFill>
                <a:latin typeface="Georgia"/>
              </a:rPr>
              <a:t>« Кто в лесу живё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3T15:48:46Z</dcterms:created>
  <dc:creator>Admin</dc:creator>
  <dc:description/>
  <dc:language>en-US</dc:language>
  <cp:lastModifiedBy>Windows User</cp:lastModifiedBy>
  <dcterms:modified xsi:type="dcterms:W3CDTF">2019-12-14T19:57:20Z</dcterms:modified>
  <cp:revision>38</cp:revision>
  <dc:subject/>
  <dc:title>Презентация PowerPoint</dc:title>
</cp:coreProperties>
</file>