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E40-7B26-4346-89CE-43407979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D3D-F728-4F9C-ADA1-AD85653F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DE3-10D6-4701-8BC3-9C1B7D8F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A0C-9D91-4FE0-B3E5-3D23A6DC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929-E23B-4F55-AF49-0746F0BD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C78-EEB9-4087-81A1-0CDF397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86F-1FC3-4E08-8785-B704034D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695-5A31-42BE-9F41-556F0014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6CC-055B-4BDF-B4E1-DE34EB8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862-0AEB-4004-BB08-FEB5BC5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766-45BD-4480-97DE-B10C8DD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24F-8B3E-493D-B30B-81B659B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AF71-57FA-4A24-84B3-87E4AC30D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19240"/>
            <a:ext cx="11417400" cy="7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ДОУ детский сад №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сельского района СП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2280" y="844560"/>
            <a:ext cx="11417400" cy="60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Познаем  мир с Фикс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руппа «Юные математики» №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щеразвивающей направл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тей млад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воспита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йнова А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3324240" y="3164040"/>
            <a:ext cx="5611680" cy="2741400"/>
          </a:xfrm>
          <a:prstGeom prst="rect">
            <a:avLst/>
          </a:prstGeom>
          <a:ln w="0">
            <a:noFill/>
          </a:ln>
        </p:spPr>
      </p:pic>
      <p:pic>
        <p:nvPicPr>
          <p:cNvPr id="44" name="fiksiki_-_kto_takie_fiksiki_(zaycev.net).mp3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-573120" y="4614840"/>
            <a:ext cx="2367000" cy="3079800"/>
          </a:xfrm>
          <a:prstGeom prst="rect">
            <a:avLst/>
          </a:prstGeom>
          <a:ln w="0">
            <a:noFill/>
          </a:ln>
        </p:spPr>
      </p:pic>
      <p:sp>
        <p:nvSpPr>
          <p:cNvPr id="71" name="Овальная выноска 1"/>
          <p:cNvSpPr/>
          <p:nvPr/>
        </p:nvSpPr>
        <p:spPr>
          <a:xfrm>
            <a:off x="1525680" y="4572000"/>
            <a:ext cx="2708280" cy="1955880"/>
          </a:xfrm>
          <a:prstGeom prst="wedgeEllipseCallout">
            <a:avLst>
              <a:gd name="adj1" fmla="val -73106"/>
              <a:gd name="adj2" fmla="val 46000"/>
            </a:avLst>
          </a:prstGeom>
          <a:solidFill>
            <a:srgbClr val="dae3f3"/>
          </a:solidFill>
          <a:ln w="2844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я о свойствах в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111320" y="542880"/>
            <a:ext cx="99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деятельность                                   «Опыты с вод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6" descr="IMG_1335.JPG"/>
          <p:cNvPicPr/>
          <p:nvPr/>
        </p:nvPicPr>
        <p:blipFill>
          <a:blip r:embed="rId3"/>
          <a:stretch/>
        </p:blipFill>
        <p:spPr>
          <a:xfrm>
            <a:off x="1033560" y="372960"/>
            <a:ext cx="3101760" cy="4137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IMG_1343.JPG"/>
          <p:cNvPicPr/>
          <p:nvPr/>
        </p:nvPicPr>
        <p:blipFill>
          <a:blip r:embed="rId4"/>
          <a:stretch/>
        </p:blipFill>
        <p:spPr>
          <a:xfrm>
            <a:off x="7461360" y="17413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IMG_1348.JPG"/>
          <p:cNvPicPr/>
          <p:nvPr/>
        </p:nvPicPr>
        <p:blipFill>
          <a:blip r:embed="rId5"/>
          <a:stretch/>
        </p:blipFill>
        <p:spPr>
          <a:xfrm>
            <a:off x="4343400" y="1380960"/>
            <a:ext cx="3041640" cy="495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520560" y="542880"/>
            <a:ext cx="111841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по художественно-эстетическому развитию  коллаж «Опыты с Фиксик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созданию коллектив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s://pp.userapi.com/c855420/v855420466/b941b/wwbto8UXW0s.jpg"/>
          <p:cNvPicPr/>
          <p:nvPr/>
        </p:nvPicPr>
        <p:blipFill>
          <a:blip r:embed="rId2"/>
          <a:stretch/>
        </p:blipFill>
        <p:spPr>
          <a:xfrm>
            <a:off x="1744560" y="1592280"/>
            <a:ext cx="6586560" cy="49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1690560" y="1917720"/>
            <a:ext cx="8825040" cy="4251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3"/>
          <a:stretch/>
        </p:blipFill>
        <p:spPr>
          <a:xfrm>
            <a:off x="2700360" y="609480"/>
            <a:ext cx="67723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-638280" y="4164120"/>
            <a:ext cx="2933640" cy="3817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1111320" y="542880"/>
            <a:ext cx="99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104840" y="577800"/>
            <a:ext cx="1038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способностей детей, посредством опытно-эксперименталь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представления детей об окружающем мире, путем вовлечения в игровые ситуации со знакомыми мультипликационными героя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представления детей о свойствах воздуха, вод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эксперимент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делать простейшие выводы, умозаключение при проведении опы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9" descr=""/>
          <p:cNvPicPr/>
          <p:nvPr/>
        </p:nvPicPr>
        <p:blipFill>
          <a:blip r:embed="rId3"/>
          <a:stretch/>
        </p:blipFill>
        <p:spPr>
          <a:xfrm>
            <a:off x="10296360" y="3833640"/>
            <a:ext cx="161316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ая прямоугольная выноска 3"/>
          <p:cNvSpPr/>
          <p:nvPr/>
        </p:nvSpPr>
        <p:spPr>
          <a:xfrm>
            <a:off x="3033720" y="5106960"/>
            <a:ext cx="4492440" cy="941400"/>
          </a:xfrm>
          <a:prstGeom prst="wedgeRoundRectCallout">
            <a:avLst>
              <a:gd name="adj1" fmla="val -60120"/>
              <a:gd name="adj2" fmla="val 66398"/>
              <a:gd name="adj3" fmla="val 16667"/>
            </a:avLst>
          </a:prstGeom>
          <a:solidFill>
            <a:srgbClr val="f2f2f2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ь: 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особствовать развитию основных двигательных навы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731880" y="210960"/>
            <a:ext cx="10747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деятельность по физической культ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вкие и быстры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презентация август\неделя здоровья\IMG_20190814_092341.jpg"/>
          <p:cNvPicPr/>
          <p:nvPr/>
        </p:nvPicPr>
        <p:blipFill>
          <a:blip r:embed="rId2"/>
          <a:stretch/>
        </p:blipFill>
        <p:spPr>
          <a:xfrm>
            <a:off x="2482920" y="1244520"/>
            <a:ext cx="4832280" cy="36831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IMG_1069.JPG"/>
          <p:cNvPicPr/>
          <p:nvPr/>
        </p:nvPicPr>
        <p:blipFill>
          <a:blip r:embed="rId3"/>
          <a:stretch/>
        </p:blipFill>
        <p:spPr>
          <a:xfrm>
            <a:off x="7526160" y="1238400"/>
            <a:ext cx="3608640" cy="48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10756800" y="4294080"/>
            <a:ext cx="1435320" cy="256392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2"/>
          <p:cNvSpPr/>
          <p:nvPr/>
        </p:nvSpPr>
        <p:spPr>
          <a:xfrm flipH="1">
            <a:off x="7161120" y="5318280"/>
            <a:ext cx="3670560" cy="1109520"/>
          </a:xfrm>
          <a:prstGeom prst="wedgeRoundRectCallout">
            <a:avLst>
              <a:gd name="adj1" fmla="val -66634"/>
              <a:gd name="adj2" fmla="val 77481"/>
              <a:gd name="adj3" fmla="val 16667"/>
            </a:avLst>
          </a:prstGeom>
          <a:solidFill>
            <a:srgbClr val="dae3f3"/>
          </a:solidFill>
          <a:ln w="2844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я детей о воздух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60240" y="352440"/>
            <a:ext cx="1059372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деятельность «Изучаем возд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8" descr="IMG_1062.JPG"/>
          <p:cNvPicPr/>
          <p:nvPr/>
        </p:nvPicPr>
        <p:blipFill>
          <a:blip r:embed="rId3"/>
          <a:stretch/>
        </p:blipFill>
        <p:spPr>
          <a:xfrm>
            <a:off x="5748480" y="1574640"/>
            <a:ext cx="4997160" cy="3651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IMG_20190812_103951.jpg"/>
          <p:cNvPicPr/>
          <p:nvPr/>
        </p:nvPicPr>
        <p:blipFill>
          <a:blip r:embed="rId4"/>
          <a:stretch/>
        </p:blipFill>
        <p:spPr>
          <a:xfrm>
            <a:off x="447840" y="2138400"/>
            <a:ext cx="5013000" cy="36860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054440" y="157464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«Поймай возд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6459480" y="1039680"/>
            <a:ext cx="397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«Что тяжелее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3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3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3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IMG_20190812_104535.jpg"/>
          <p:cNvPicPr/>
          <p:nvPr/>
        </p:nvPicPr>
        <p:blipFill>
          <a:blip r:embed="rId2"/>
          <a:stretch/>
        </p:blipFill>
        <p:spPr>
          <a:xfrm>
            <a:off x="520560" y="1982880"/>
            <a:ext cx="5848560" cy="35859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IMG_20190812_110944.jpg"/>
          <p:cNvPicPr/>
          <p:nvPr/>
        </p:nvPicPr>
        <p:blipFill>
          <a:blip r:embed="rId3"/>
          <a:stretch/>
        </p:blipFill>
        <p:spPr>
          <a:xfrm>
            <a:off x="6470640" y="1111320"/>
            <a:ext cx="5191200" cy="3397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843120" y="105552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«Как воздух работает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IMG_1058.JPG"/>
          <p:cNvPicPr/>
          <p:nvPr/>
        </p:nvPicPr>
        <p:blipFill>
          <a:blip r:embed="rId2"/>
          <a:stretch/>
        </p:blipFill>
        <p:spPr>
          <a:xfrm>
            <a:off x="1730520" y="352440"/>
            <a:ext cx="8975520" cy="606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IMG_20190813_120234.jpg"/>
          <p:cNvPicPr/>
          <p:nvPr/>
        </p:nvPicPr>
        <p:blipFill>
          <a:blip r:embed="rId2"/>
          <a:stretch/>
        </p:blipFill>
        <p:spPr>
          <a:xfrm>
            <a:off x="1843200" y="1344600"/>
            <a:ext cx="8907480" cy="5073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1434960" y="317520"/>
            <a:ext cx="96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«Сила возду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экспериментиров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IMG_20190813_120307.jpg"/>
          <p:cNvPicPr/>
          <p:nvPr/>
        </p:nvPicPr>
        <p:blipFill>
          <a:blip r:embed="rId2"/>
          <a:stretch/>
        </p:blipFill>
        <p:spPr>
          <a:xfrm>
            <a:off x="1068480" y="787320"/>
            <a:ext cx="10072440" cy="529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bestpngimg.com/wp-content/uploads/2017/09/18-hammer-png-image-picture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145960" y="5808600"/>
            <a:ext cx="104616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IMG_20190813_120335.jpg"/>
          <p:cNvPicPr/>
          <p:nvPr/>
        </p:nvPicPr>
        <p:blipFill>
          <a:blip r:embed="rId2"/>
          <a:stretch/>
        </p:blipFill>
        <p:spPr>
          <a:xfrm>
            <a:off x="738360" y="787320"/>
            <a:ext cx="10699560" cy="517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clipartmania.ru/uploads/gallery/main/428/screwdriver-12.png"/>
          <p:cNvPicPr/>
          <p:nvPr/>
        </p:nvPicPr>
        <p:blipFill>
          <a:blip r:embed="rId3"/>
          <a:stretch/>
        </p:blipFill>
        <p:spPr>
          <a:xfrm rot="9880800">
            <a:off x="144360" y="6168240"/>
            <a:ext cx="119880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7:27:40Z</dcterms:created>
  <dc:creator>Microsoft Office</dc:creator>
  <dc:description/>
  <dc:language>en-US</dc:language>
  <cp:lastModifiedBy>Aysel</cp:lastModifiedBy>
  <dcterms:modified xsi:type="dcterms:W3CDTF">2019-12-13T23:47:13Z</dcterms:modified>
  <cp:revision>96</cp:revision>
  <dc:subject/>
  <dc:title>Презентация PowerPoint</dc:title>
</cp:coreProperties>
</file>