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chimes.wav" ContentType="audio/x-wav"/>
  <Override PartName="/ppt/media/hammer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D030-8135-4E5F-B016-16464CF52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B255-3C3F-440A-94E3-151031D5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8DE7-A691-41DA-A3CA-F6F954A7B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43F9-9783-4107-B075-06D0E0009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7ED9-C0AA-453C-9D8B-B2FDE36C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E789-9516-4CAD-9E89-5D193931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E906-E886-4F52-B9C4-B7A1452B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AB42-D277-490C-AF1E-10A753CC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F8AF-DEFB-4BD9-9731-E231696A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05C8-9DE8-4062-A830-5C9E7F61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4BB9-14F1-4080-9DAC-B07F4744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B9D7-7C03-4047-8973-A54651B2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E0B5-A206-4964-8033-1348F68811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audio" Target="../media/hammer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audio" Target="../media/hammer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audio" Target="../media/hammer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hammer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www.google.ru/search?q=&#1087;&#1088;&#1080;&#1088;&#1086;&#1076;&#1072;+&#1074;+&#1084;&#1091;&#1083;&#1100;&#1090;&#1080;&#1082;&#1072;&#1093;&amp;newwindow" TargetMode="External"/><Relationship Id="rId3" Type="http://schemas.openxmlformats.org/officeDocument/2006/relationships/hyperlink" Target="https://www.google.ru/search?q=&#1087;&#1088;&#1080;&#1088;&#1086;&#1076;&#1072;+&#1074;+&#1084;&#1091;&#1083;&#1100;&#1090;&#1080;&#1082;&#1072;&#1093;&amp;newwindow" TargetMode="External"/><Relationship Id="rId4" Type="http://schemas.openxmlformats.org/officeDocument/2006/relationships/hyperlink" Target="https://www.google.ru/search?q=&#1087;&#1088;&#1080;&#1088;&#1086;&#1076;&#1072;+&#1074;+&#1084;&#1091;&#1083;&#1100;&#1090;&#1080;&#1082;&#1072;&#1093;&amp;newwindow" TargetMode="External"/><Relationship Id="rId5" Type="http://schemas.openxmlformats.org/officeDocument/2006/relationships/hyperlink" Target="https://www.google.ru/search?q=&#1087;&#1088;&#1080;&#1088;&#1086;&#1076;&#1072;+&#1074;+&#1084;&#1091;&#1083;&#1100;&#1090;&#1080;&#1082;&#1072;&#1093;&amp;newwindow" TargetMode="External"/><Relationship Id="rId6" Type="http://schemas.openxmlformats.org/officeDocument/2006/relationships/hyperlink" Target="https://www.google.ru/search?q=&#1087;&#1088;&#1080;&#1088;&#1086;&#1076;&#1072;+&#1074;+&#1084;&#1091;&#1083;&#1100;&#1090;&#1080;&#1082;&#1072;&#1093;&amp;newwindow" TargetMode="External"/><Relationship Id="rId7" Type="http://schemas.openxmlformats.org/officeDocument/2006/relationships/hyperlink" Target="https://www.google.ru/search?q=&#1087;&#1088;&#1080;&#1088;&#1086;&#1076;&#1072;+&#1074;+&#1084;&#1091;&#1083;&#1100;&#1090;&#1080;&#1082;&#1072;&#1093;&amp;newwindow" TargetMode="External"/><Relationship Id="rId8" Type="http://schemas.openxmlformats.org/officeDocument/2006/relationships/hyperlink" Target="https://www.google.ru/search?q=&#1087;&#1088;&#1080;&#1088;&#1086;&#1076;&#1072;+&#1074;+&#1084;&#1091;&#1083;&#1100;&#1090;&#1080;&#1082;&#1072;&#1093;&amp;newwindow" TargetMode="External"/><Relationship Id="rId9" Type="http://schemas.openxmlformats.org/officeDocument/2006/relationships/hyperlink" Target="https://www.google.ru/search?q=&#1087;&#1088;&#1080;&#1088;&#1086;&#1076;&#1072;+&#1074;+&#1084;&#1091;&#1083;&#1100;&#1090;&#1080;&#1082;&#1072;&#1093;&amp;newwindow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audio" Target="../media/hammer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audio" Target="../media/hammer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hammer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hammer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audio" Target="../media/hammer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hammer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audio" Target="../media/hammer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hammer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396360" cy="7101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9"/>
          <p:cNvSpPr/>
          <p:nvPr/>
        </p:nvSpPr>
        <p:spPr>
          <a:xfrm>
            <a:off x="1476360" y="155736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нажёр по русскому языку для 3 кла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3132000" y="198900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Том и Джерр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2340000" y="270828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делительный твёрдый зн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дом"/>
          <p:cNvPicPr/>
          <p:nvPr/>
        </p:nvPicPr>
        <p:blipFill>
          <a:blip r:embed="rId1"/>
          <a:stretch/>
        </p:blipFill>
        <p:spPr>
          <a:xfrm>
            <a:off x="0" y="0"/>
            <a:ext cx="9505800" cy="7130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qqqqqqqq"/>
          <p:cNvPicPr/>
          <p:nvPr/>
        </p:nvPicPr>
        <p:blipFill>
          <a:blip r:embed="rId2"/>
          <a:stretch/>
        </p:blipFill>
        <p:spPr>
          <a:xfrm>
            <a:off x="0" y="3225960"/>
            <a:ext cx="3816360" cy="3632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джерри 1a"/>
          <p:cNvPicPr/>
          <p:nvPr/>
        </p:nvPicPr>
        <p:blipFill>
          <a:blip r:embed="rId3"/>
          <a:stretch/>
        </p:blipFill>
        <p:spPr>
          <a:xfrm>
            <a:off x="2195640" y="3429000"/>
            <a:ext cx="2342880" cy="19526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1187280" y="0"/>
            <a:ext cx="430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брат  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5292720" y="4869000"/>
            <a:ext cx="86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7885080" y="4869000"/>
            <a:ext cx="72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47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Motion origin="layout" path="M -1.66667E-006 -5.31669E-007 L -0.25208 -0.70897 E">
                                      <p:cBhvr>
                                        <p:cTn id="150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07407E-006 L 0.58073 -0.32084 E">
                                      <p:cBhvr>
                                        <p:cTn id="152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5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57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дом"/>
          <p:cNvPicPr/>
          <p:nvPr/>
        </p:nvPicPr>
        <p:blipFill>
          <a:blip r:embed="rId1"/>
          <a:stretch/>
        </p:blipFill>
        <p:spPr>
          <a:xfrm>
            <a:off x="0" y="0"/>
            <a:ext cx="9505800" cy="7130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qqqqqqqq"/>
          <p:cNvPicPr/>
          <p:nvPr/>
        </p:nvPicPr>
        <p:blipFill>
          <a:blip r:embed="rId2"/>
          <a:stretch/>
        </p:blipFill>
        <p:spPr>
          <a:xfrm>
            <a:off x="0" y="3225960"/>
            <a:ext cx="3816360" cy="3632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джерри 1a"/>
          <p:cNvPicPr/>
          <p:nvPr/>
        </p:nvPicPr>
        <p:blipFill>
          <a:blip r:embed="rId3"/>
          <a:stretch/>
        </p:blipFill>
        <p:spPr>
          <a:xfrm>
            <a:off x="2195640" y="3429000"/>
            <a:ext cx="2342880" cy="19526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395280" y="0"/>
            <a:ext cx="63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воскресен  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5292720" y="4869000"/>
            <a:ext cx="86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7885080" y="4869000"/>
            <a:ext cx="72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66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Motion origin="layout" path="M -1.66667E-006 -5.31669E-007 L -0.09462 -0.70897 E">
                                      <p:cBhvr>
                                        <p:cTn id="169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07407E-006 L 0.58073 -0.32084 E">
                                      <p:cBhvr>
                                        <p:cTn id="171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4" dur="2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76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дом"/>
          <p:cNvPicPr/>
          <p:nvPr/>
        </p:nvPicPr>
        <p:blipFill>
          <a:blip r:embed="rId1"/>
          <a:stretch/>
        </p:blipFill>
        <p:spPr>
          <a:xfrm>
            <a:off x="0" y="0"/>
            <a:ext cx="9505800" cy="7130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qqqqqqqq"/>
          <p:cNvPicPr/>
          <p:nvPr/>
        </p:nvPicPr>
        <p:blipFill>
          <a:blip r:embed="rId2"/>
          <a:stretch/>
        </p:blipFill>
        <p:spPr>
          <a:xfrm>
            <a:off x="0" y="3225960"/>
            <a:ext cx="3816360" cy="3632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джерри 1a"/>
          <p:cNvPicPr/>
          <p:nvPr/>
        </p:nvPicPr>
        <p:blipFill>
          <a:blip r:embed="rId3"/>
          <a:stretch/>
        </p:blipFill>
        <p:spPr>
          <a:xfrm>
            <a:off x="2195640" y="3429000"/>
            <a:ext cx="2342880" cy="19526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1258920" y="0"/>
            <a:ext cx="432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солен  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5292720" y="4869000"/>
            <a:ext cx="86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7885080" y="4869000"/>
            <a:ext cx="72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85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Motion origin="layout" path="M 0.00781 -0.0104 L -0.18906 -0.70897 E">
                                      <p:cBhvr>
                                        <p:cTn id="188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07407E-006 L 0.58073 -0.32084 E">
                                      <p:cBhvr>
                                        <p:cTn id="190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3" dur="2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95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198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дом"/>
          <p:cNvPicPr/>
          <p:nvPr/>
        </p:nvPicPr>
        <p:blipFill>
          <a:blip r:embed="rId1"/>
          <a:stretch/>
        </p:blipFill>
        <p:spPr>
          <a:xfrm>
            <a:off x="0" y="0"/>
            <a:ext cx="9505800" cy="7130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qqqqqqqq"/>
          <p:cNvPicPr/>
          <p:nvPr/>
        </p:nvPicPr>
        <p:blipFill>
          <a:blip r:embed="rId2"/>
          <a:stretch/>
        </p:blipFill>
        <p:spPr>
          <a:xfrm>
            <a:off x="0" y="3225960"/>
            <a:ext cx="3816360" cy="3632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джерри 1a"/>
          <p:cNvPicPr/>
          <p:nvPr/>
        </p:nvPicPr>
        <p:blipFill>
          <a:blip r:embed="rId3"/>
          <a:stretch/>
        </p:blipFill>
        <p:spPr>
          <a:xfrm>
            <a:off x="2195640" y="3429000"/>
            <a:ext cx="2342880" cy="19526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755640" y="0"/>
            <a:ext cx="583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об  ё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5292720" y="4869000"/>
            <a:ext cx="86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7885080" y="4869000"/>
            <a:ext cx="72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04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animEffect filter="strips(downLeft)" transition="out">
                                      <p:cBhvr additive="repl">
                                        <p:cTn id="20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10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Motion origin="layout" path="M 3.88889E-006 -5.31669E-007 L -0.68525 -0.70897 E">
                                      <p:cBhvr>
                                        <p:cTn id="213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07407E-006 L 0.58073 -0.32084 E">
                                      <p:cBhvr>
                                        <p:cTn id="215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8" dur="2000" fill="hold"/>
                                        <p:tgtEl>
                                          <p:spTgt spid="115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396360" cy="7101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0"/>
          <p:cNvSpPr/>
          <p:nvPr/>
        </p:nvSpPr>
        <p:spPr>
          <a:xfrm>
            <a:off x="2751120" y="179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239220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971640" y="1936800"/>
            <a:ext cx="884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s://www.google.ru/search?q=том+и+джерри+фото-Т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жер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1042920" y="2997360"/>
            <a:ext cx="78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google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природа+в+мультиках&amp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window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1042920" y="249228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s://www.google.ru/search?q=том+и+джерри+фото-ф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дом"/>
          <p:cNvPicPr/>
          <p:nvPr/>
        </p:nvPicPr>
        <p:blipFill>
          <a:blip r:embed="rId1"/>
          <a:stretch/>
        </p:blipFill>
        <p:spPr>
          <a:xfrm>
            <a:off x="0" y="0"/>
            <a:ext cx="9505800" cy="7130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qqqqqqqq"/>
          <p:cNvPicPr/>
          <p:nvPr/>
        </p:nvPicPr>
        <p:blipFill>
          <a:blip r:embed="rId2"/>
          <a:stretch/>
        </p:blipFill>
        <p:spPr>
          <a:xfrm>
            <a:off x="0" y="3225960"/>
            <a:ext cx="3816360" cy="3632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джерри 1a"/>
          <p:cNvPicPr/>
          <p:nvPr/>
        </p:nvPicPr>
        <p:blipFill>
          <a:blip r:embed="rId3"/>
          <a:stretch/>
        </p:blipFill>
        <p:spPr>
          <a:xfrm>
            <a:off x="2195640" y="3429000"/>
            <a:ext cx="2342880" cy="1952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1187280" y="0"/>
            <a:ext cx="430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без  ян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5292720" y="4869000"/>
            <a:ext cx="86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7885080" y="4869000"/>
            <a:ext cx="72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Motion origin="layout" path="M -0.00798 0.02104 L -0.25208 -0.70897 E">
                                      <p:cBhvr>
                                        <p:cTn id="6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07407E-006 L 0.58073 -0.32084 E">
                                      <p:cBhvr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16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дом"/>
          <p:cNvPicPr/>
          <p:nvPr/>
        </p:nvPicPr>
        <p:blipFill>
          <a:blip r:embed="rId1"/>
          <a:stretch/>
        </p:blipFill>
        <p:spPr>
          <a:xfrm>
            <a:off x="0" y="0"/>
            <a:ext cx="9505800" cy="7130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qqqqqqqq"/>
          <p:cNvPicPr/>
          <p:nvPr/>
        </p:nvPicPr>
        <p:blipFill>
          <a:blip r:embed="rId2"/>
          <a:stretch/>
        </p:blipFill>
        <p:spPr>
          <a:xfrm>
            <a:off x="0" y="3225960"/>
            <a:ext cx="3816360" cy="3632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джерри 1a"/>
          <p:cNvPicPr/>
          <p:nvPr/>
        </p:nvPicPr>
        <p:blipFill>
          <a:blip r:embed="rId3"/>
          <a:stretch/>
        </p:blipFill>
        <p:spPr>
          <a:xfrm>
            <a:off x="2195640" y="3429000"/>
            <a:ext cx="2342880" cy="1952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1187280" y="0"/>
            <a:ext cx="430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счаст  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5292720" y="4869000"/>
            <a:ext cx="86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7885080" y="4869000"/>
            <a:ext cx="72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22" nodeType="clickEffect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Motion origin="layout" path="M -1.66667E-006 -5.31669E-007 L -0.22048 -0.70897 E">
                                      <p:cBhvr>
                                        <p:cTn id="25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07407E-006 L 0.58073 -0.32084 E">
                                      <p:cBhvr>
                                        <p:cTn id="27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дом"/>
          <p:cNvPicPr/>
          <p:nvPr/>
        </p:nvPicPr>
        <p:blipFill>
          <a:blip r:embed="rId1"/>
          <a:stretch/>
        </p:blipFill>
        <p:spPr>
          <a:xfrm>
            <a:off x="0" y="0"/>
            <a:ext cx="9505800" cy="7130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qqqqqqqq"/>
          <p:cNvPicPr/>
          <p:nvPr/>
        </p:nvPicPr>
        <p:blipFill>
          <a:blip r:embed="rId2"/>
          <a:stretch/>
        </p:blipFill>
        <p:spPr>
          <a:xfrm>
            <a:off x="0" y="3225960"/>
            <a:ext cx="3816360" cy="3632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джерри 1a"/>
          <p:cNvPicPr/>
          <p:nvPr/>
        </p:nvPicPr>
        <p:blipFill>
          <a:blip r:embed="rId3"/>
          <a:stretch/>
        </p:blipFill>
        <p:spPr>
          <a:xfrm>
            <a:off x="2195640" y="3429000"/>
            <a:ext cx="2342880" cy="19526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1187280" y="0"/>
            <a:ext cx="430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в  ез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5292720" y="4869000"/>
            <a:ext cx="86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7885080" y="4869000"/>
            <a:ext cx="72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animEffect filter="strips(downLeft)" transition="out">
                                      <p:cBhvr additive="repl">
                                        <p:cTn id="4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47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Motion origin="layout" path="M 3.88889E-006 -5.31669E-007 L -0.68525 -0.70897 E">
                                      <p:cBhvr>
                                        <p:cTn id="50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07407E-006 L 0.58073 -0.32084 E">
                                      <p:cBhvr>
                                        <p:cTn id="52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61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дом"/>
          <p:cNvPicPr/>
          <p:nvPr/>
        </p:nvPicPr>
        <p:blipFill>
          <a:blip r:embed="rId1"/>
          <a:stretch/>
        </p:blipFill>
        <p:spPr>
          <a:xfrm>
            <a:off x="0" y="0"/>
            <a:ext cx="9505800" cy="7130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qqqqqqqq"/>
          <p:cNvPicPr/>
          <p:nvPr/>
        </p:nvPicPr>
        <p:blipFill>
          <a:blip r:embed="rId2"/>
          <a:stretch/>
        </p:blipFill>
        <p:spPr>
          <a:xfrm>
            <a:off x="0" y="3225960"/>
            <a:ext cx="3816360" cy="3632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джерри 1a"/>
          <p:cNvPicPr/>
          <p:nvPr/>
        </p:nvPicPr>
        <p:blipFill>
          <a:blip r:embed="rId3"/>
          <a:stretch/>
        </p:blipFill>
        <p:spPr>
          <a:xfrm>
            <a:off x="2195640" y="3429000"/>
            <a:ext cx="2342880" cy="19526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1187280" y="0"/>
            <a:ext cx="430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с  ём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5292720" y="4869000"/>
            <a:ext cx="86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7885080" y="4869000"/>
            <a:ext cx="72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animEffect filter="strips(downLeft)" transition="out">
                                      <p:cBhvr additive="repl">
                                        <p:cTn id="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64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Motion origin="layout" path="M 3.88889E-006 -5.31669E-007 L -0.68525 -0.70897 E">
                                      <p:cBhvr>
                                        <p:cTn id="67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07407E-006 L 0.58073 -0.32084 E">
                                      <p:cBhvr>
                                        <p:cTn id="69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2000" fill="hold"/>
                                        <p:tgtEl>
                                          <p:spTgt spid="67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дом"/>
          <p:cNvPicPr/>
          <p:nvPr/>
        </p:nvPicPr>
        <p:blipFill>
          <a:blip r:embed="rId1"/>
          <a:stretch/>
        </p:blipFill>
        <p:spPr>
          <a:xfrm>
            <a:off x="0" y="0"/>
            <a:ext cx="9505800" cy="7130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qqqqqqqq"/>
          <p:cNvPicPr/>
          <p:nvPr/>
        </p:nvPicPr>
        <p:blipFill>
          <a:blip r:embed="rId2"/>
          <a:stretch/>
        </p:blipFill>
        <p:spPr>
          <a:xfrm>
            <a:off x="0" y="3225960"/>
            <a:ext cx="3816360" cy="3632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джерри 1a"/>
          <p:cNvPicPr/>
          <p:nvPr/>
        </p:nvPicPr>
        <p:blipFill>
          <a:blip r:embed="rId3"/>
          <a:stretch/>
        </p:blipFill>
        <p:spPr>
          <a:xfrm>
            <a:off x="2195640" y="3429000"/>
            <a:ext cx="2342880" cy="19526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1187280" y="0"/>
            <a:ext cx="430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мурав  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5292720" y="4869000"/>
            <a:ext cx="86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7885080" y="4869000"/>
            <a:ext cx="72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Motion origin="layout" path="M -1.66667E-006 -5.31669E-007 L -0.19687 -0.70897 E">
                                      <p:cBhvr>
                                        <p:cTn id="78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07407E-006 L 0.58073 -0.32084 E">
                                      <p:cBhvr>
                                        <p:cTn id="80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85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дом"/>
          <p:cNvPicPr/>
          <p:nvPr/>
        </p:nvPicPr>
        <p:blipFill>
          <a:blip r:embed="rId1"/>
          <a:stretch/>
        </p:blipFill>
        <p:spPr>
          <a:xfrm>
            <a:off x="0" y="0"/>
            <a:ext cx="9505800" cy="7130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qqqqqqqq"/>
          <p:cNvPicPr/>
          <p:nvPr/>
        </p:nvPicPr>
        <p:blipFill>
          <a:blip r:embed="rId2"/>
          <a:stretch/>
        </p:blipFill>
        <p:spPr>
          <a:xfrm>
            <a:off x="0" y="3225960"/>
            <a:ext cx="3816360" cy="3632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джерри 1a"/>
          <p:cNvPicPr/>
          <p:nvPr/>
        </p:nvPicPr>
        <p:blipFill>
          <a:blip r:embed="rId3"/>
          <a:stretch/>
        </p:blipFill>
        <p:spPr>
          <a:xfrm>
            <a:off x="2195640" y="3429000"/>
            <a:ext cx="2342880" cy="19526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1187280" y="0"/>
            <a:ext cx="430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под  ез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5292720" y="4869000"/>
            <a:ext cx="86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7885080" y="4869000"/>
            <a:ext cx="72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94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animEffect filter="strips(downLeft)" transition="out">
                                      <p:cBhvr additive="repl">
                                        <p:cTn id="9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Motion origin="layout" path="M 3.88889E-006 -0.0104 L -0.58282 -0.70897 E">
                                      <p:cBhvr>
                                        <p:cTn id="103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07407E-006 L 0.58073 -0.32084 E">
                                      <p:cBhvr>
                                        <p:cTn id="105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79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дом"/>
          <p:cNvPicPr/>
          <p:nvPr/>
        </p:nvPicPr>
        <p:blipFill>
          <a:blip r:embed="rId1"/>
          <a:stretch/>
        </p:blipFill>
        <p:spPr>
          <a:xfrm>
            <a:off x="0" y="0"/>
            <a:ext cx="9505800" cy="7130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qqqqqqqq"/>
          <p:cNvPicPr/>
          <p:nvPr/>
        </p:nvPicPr>
        <p:blipFill>
          <a:blip r:embed="rId2"/>
          <a:stretch/>
        </p:blipFill>
        <p:spPr>
          <a:xfrm>
            <a:off x="0" y="3225960"/>
            <a:ext cx="3816360" cy="3632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джерри 1a"/>
          <p:cNvPicPr/>
          <p:nvPr/>
        </p:nvPicPr>
        <p:blipFill>
          <a:blip r:embed="rId3"/>
          <a:stretch/>
        </p:blipFill>
        <p:spPr>
          <a:xfrm>
            <a:off x="2195640" y="3429000"/>
            <a:ext cx="2342880" cy="19526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1187280" y="0"/>
            <a:ext cx="430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олад  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5292720" y="4869000"/>
            <a:ext cx="86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7885080" y="4869000"/>
            <a:ext cx="72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Motion origin="layout" path="M -1.66667E-006 -5.31669E-007 L -0.23628 -0.70897 E">
                                      <p:cBhvr>
                                        <p:cTn id="11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07407E-006 L 0.58073 -0.32084 E">
                                      <p:cBhvr>
                                        <p:cTn id="116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9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21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124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дом"/>
          <p:cNvPicPr/>
          <p:nvPr/>
        </p:nvPicPr>
        <p:blipFill>
          <a:blip r:embed="rId1"/>
          <a:stretch/>
        </p:blipFill>
        <p:spPr>
          <a:xfrm>
            <a:off x="0" y="0"/>
            <a:ext cx="9505800" cy="7130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qqqqqqqq"/>
          <p:cNvPicPr/>
          <p:nvPr/>
        </p:nvPicPr>
        <p:blipFill>
          <a:blip r:embed="rId2"/>
          <a:stretch/>
        </p:blipFill>
        <p:spPr>
          <a:xfrm>
            <a:off x="0" y="3225960"/>
            <a:ext cx="3816360" cy="3632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джерри 1a"/>
          <p:cNvPicPr/>
          <p:nvPr/>
        </p:nvPicPr>
        <p:blipFill>
          <a:blip r:embed="rId3"/>
          <a:stretch/>
        </p:blipFill>
        <p:spPr>
          <a:xfrm>
            <a:off x="2195640" y="3429000"/>
            <a:ext cx="2342880" cy="19526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755640" y="0"/>
            <a:ext cx="583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об  явлен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5292720" y="4869000"/>
            <a:ext cx="86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7885080" y="4869000"/>
            <a:ext cx="72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30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animEffect filter="strips(downLeft)" transition="out">
                                      <p:cBhvr additive="repl">
                                        <p:cTn id="1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Motion origin="layout" path="M 3.88889E-006 -5.31669E-007 L -0.68525 -0.70897 E">
                                      <p:cBhvr>
                                        <p:cTn id="139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07407E-006 L 0.58073 -0.32084 E">
                                      <p:cBhvr>
                                        <p:cTn id="141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2000" fill="hold"/>
                                        <p:tgtEl>
                                          <p:spTgt spid="91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2T17:41:03Z</dcterms:created>
  <dc:creator>sveta</dc:creator>
  <dc:description/>
  <dc:language>en-US</dc:language>
  <cp:lastModifiedBy>Администратор</cp:lastModifiedBy>
  <dcterms:modified xsi:type="dcterms:W3CDTF">2019-12-14T19:37:03Z</dcterms:modified>
  <cp:revision>8</cp:revision>
  <dc:subject/>
  <dc:title>Слайд 1</dc:title>
</cp:coreProperties>
</file>