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01B-D786-4B33-86BE-E2C59473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4BD-1959-4791-812B-C72A1D60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B5C-C30A-44C4-A1BD-E6DF553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999-A4AB-473B-80F4-36D899C3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57CE-399F-492C-97D5-0FA372C8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F2F-72FB-4CE4-A99F-22E688C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2802-6128-4B34-A9A1-10BD932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D64-F46C-4106-9F3A-6F268BC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B92D-6FB6-4DE6-B2A4-3138CE48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3D3-AD26-42DB-AEA0-113E7AD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F477-3868-4429-8B3F-5234BCB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846-5EBC-4A25-A69A-C5285A8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32D-64C5-45E1-AABC-8822A17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96B1-C596-4F9A-A319-CBDEA7F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6ED-34C4-4100-9602-33C446C1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67E-432B-4575-A060-B480BBA1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107-9D63-4ECA-9CC1-D9E8DC53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F4EC-787B-4126-98D6-DE3970FF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7463-EE84-46DE-B9FA-531D1B87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4996-0045-48CD-8BF8-DD64880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D272-F3BF-45BA-9CD7-CE9B9D56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9CC3-9C8E-4D53-81F5-F087F23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F62-BFB4-46EA-8A2B-F67DE1FF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0CC6-277E-407A-BA7E-7762442A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D087-892A-46ED-83AD-08AF0CA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AFB0-6B74-44EB-885E-5D67B1D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62A4-B557-4306-8C4E-5846EBD5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F025-3396-4710-8DA6-C5BD0C93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77D6-F511-47C8-93E3-C12CB12B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C2E7-A7FD-4E51-98CA-3D7CE780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7A9E-94BB-4DE6-84E9-A7FDBB03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FBCD-2FF2-4338-BFCB-CE7C591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9C5D-1E11-444E-B852-225473F6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246-F8A2-4F5B-B70A-D708286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D82CE-0E21-4C1E-97A4-F9F5D91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E111-AD29-4C9D-BD90-A400C89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488A-E147-4CFF-9C1D-1BFF724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D532-0013-4301-B47E-AF95422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277D-AC6A-4C9E-92AE-A159456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99C5-AF21-498F-9E17-71F8A69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2576-840E-4B3A-8F5F-C1C8C299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F01B-C30F-452C-B70C-36D50FD7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BAE4-9C49-4F63-8E1A-268E77FC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F19D-B32A-42FD-B53A-0F623A13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FF7-941E-4AE8-AEA3-10813DA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86E3-0A26-4B6E-B67E-76F33382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366A-AC85-4E80-9FB2-26CCA4F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8FBA-D973-4079-AF4A-9519524E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8B4C-ED6C-45E4-A5A3-C1C1A63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3BBD-FA33-41D2-8F30-50FB285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7537-B20D-4222-8A40-9C89C90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B1DA-DAF5-45BA-AD9E-C40C948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5469-8793-4A29-BF5D-CBC247A6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9DFA-8647-48D4-8576-D9CE4B3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0874-9568-4DD4-A718-1636C213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7CF-3C0B-47E2-AF03-DA6A121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8A01-645D-412E-9D2D-D5227E4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97BB-76BA-4181-BD62-AF5D34D1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8FEC4-1A77-4AD7-975A-F54C93E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6AB0-2DC0-4D0A-AC07-D16DEBF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2D44-D39C-48C1-A815-138A164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20A4-B2FE-40F0-90E4-379B8D4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A4CB-DB2F-4596-ABA0-B2C6959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8E12-B5C1-4DC5-8FFD-5CBFC98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A301-426A-49E7-B123-1DB6D81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9298-CA6C-45CE-8DE2-E08137E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007-1045-407A-A587-E3B46E6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7DE5-8BE2-4EE1-9629-1E9C6927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ABE1-0696-43C2-99CF-3E805A77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22616-1784-4DD6-8BA8-C4305974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956D0-2EC7-4580-8F90-30D16D9F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F430-80CC-4375-B129-C35C716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1B099-ED56-40DD-9C3F-DB9CD0E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F255-69B8-4D3F-B6E0-40F2ED8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4863-0FDD-4D53-AC1E-2ECAEFA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5202-0730-4763-92FB-A4929FA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5220-CD59-4398-9753-D6EB410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4A2-E695-4C43-A67D-6569F2F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AF911-88CF-4D18-B340-938673E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B678-CF97-4525-89B7-BAEB1B7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1A96-D253-43E7-A853-01F8483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8F24-2989-4CAD-8C86-CDFC46A2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B5444-0D94-4164-9549-52FEB4E2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886-732B-4821-A37F-E0BE68B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B05-AC40-48F7-AE4B-0F63011D66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429-6E62-490C-AD16-2B2493DBCA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1FC-D969-425A-A699-F9CC1E3A07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A0B-749E-47BD-8124-D70E76FD19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F7B-7556-495B-B495-BADD79EB42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EF7-B843-406C-BB91-94814BCB0A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EE2-5CE0-4173-9AEA-2EDC52556A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Техники формирующего оцени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2" descr="http://img.artlebedev.ru/everything/illustrations/ogurcov/images/12-uchenik2.jpg"/>
          <p:cNvPicPr/>
          <p:nvPr/>
        </p:nvPicPr>
        <p:blipFill>
          <a:blip r:embed="rId1"/>
          <a:stretch/>
        </p:blipFill>
        <p:spPr>
          <a:xfrm>
            <a:off x="5000760" y="3000240"/>
            <a:ext cx="3916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119664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оставление обратной связи может быть в устной или письменной форм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хвала должна быть четкой, а не обобщенной, конкретно описывать то, что достойно похвал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оставленная обратная связь более эффективна, если она сосредоточена на задании (включает в себя задание), а не человеке (включает в себя эго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вествовательные комментарии помогают ученикам понять, как развива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пределение областей для улучшения и озвучивание возможных стратегий для развития являются более действенными, нежели предоставление полного решения (например, исправление работы учителями), так как ученики должны думать самостояте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ОБРАТНАЯ СВЯЗЬ МЕЖДУ УЧАСТНИКАМИ УЧЕБНОГО ПРОЦЕССА</a:t>
            </a:r>
            <a:br>
              <a:rPr sz="3200"/>
            </a:br>
            <a:r>
              <a:rPr b="0" i="1" lang="ru-RU" sz="44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озможности для совершенствования должны быть предоставлены ученикам на раннем этапе их усилий по развитию своей деятельност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ебезопасно при всем классе озвучивать персональную обратную связь, тогда как предоставление общей обратной связи, затрагивающей весь класс, является значимы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шибки могут быть рассмотрены как важные возможности для дальнейшего обуч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Если усилия учеников отмечены, более вероятно, что они поверят в возможность улучшения своего обучения. Если они считают, что успех зависит от врожденных способностей, они могут сдаться, чтобы избежать провал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1857240"/>
            <a:ext cx="7408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В группах  оцените  работы учащихся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2400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Что стоит прокомментировать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Что не следует комментировать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Каковы сильные стороны работы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Каковы слабые стороны работы? Имеют ли они значение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Что послужило причиной тому, что выполненная работа имеет недостаток? Как Вы можете это понять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•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Как работа может быть улучшена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 </a:t>
            </a: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Составьте письменный комментарий к работе ученика  (или что Вы скажете ему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Обсудите следующие вопрос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50560" y="259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 algn="ctr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Учителю необходимо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Регулярно напоминать ученикам о целях и критериях оценки работ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Планировать время на самооценивание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Представлять цели урока, критерии оценки на стендах, доске и т.п. с тем,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чтобы учащиеся четко видели свое направление к цел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Во избежание конфликта между учащимися при использовании приема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взаимооценивания учителю необходимо быть особенно внимательным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Он должен напоминать учащимся о том, что проверяется подготовленная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работа, а не учащийся или группа учащихс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Не рекомендуется часто использовать методы взаимооценивани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82520" indent="-18252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00000" y="1500120"/>
            <a:ext cx="740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Сигналы рукой. Светофор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Уточняющие вопросы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Трехминутное (одноминутное) эсс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Проверка ошибочности пониман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Индивидуальные беседы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Дневники  по самооценке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Обобщение в одном предложении (слове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Словесная оценка  (устная обратная связь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Письменные комментарии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Самооценивание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Две звезды и желание (взаимооценивание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Техники формирующего оцени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ценка деятельности каждой группы учител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ценка деятельности некоторых учащихся учител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оценивание , взаимооценивание, совместное оценивание групповой работ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цениванию подлежит как результат работы, так и сам процес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ценивание групповой работы не должно сводиться к обязательному выставлению отмет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Оценивание при групповой форме работы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73e87"/>
                </a:solidFill>
                <a:uFillTx/>
                <a:latin typeface="Candara"/>
              </a:rPr>
              <a:t>Сотрудничество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(распределение и выполнение обязанностей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73e87"/>
                </a:solidFill>
                <a:uFillTx/>
                <a:latin typeface="Candara"/>
              </a:rPr>
              <a:t>Поведение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(не мешать работе других групп, не отвлекаться от выполнения задания, не кричать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73e87"/>
                </a:solidFill>
                <a:uFillTx/>
                <a:latin typeface="Candara"/>
              </a:rPr>
              <a:t>Раскрытие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материала, задания, тем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73e87"/>
                </a:solidFill>
                <a:uFillTx/>
                <a:latin typeface="Candara"/>
              </a:rPr>
              <a:t>Умение слушать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езентации других групп, задавать вопросы, делать дополн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ценивание работы групп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аствует в распределении обязанностей в группе и выполняет свои обязан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лагает иде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ктивно участвует в обсуждении групп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могает участникам групп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нимательно слушает и задает вопрос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меет вести обсужд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ботает в группе, сосредоточившись на поставленном учебном зада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Итоговая отметка отражает индивидуальные учебные достижения ученика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Оценивание деятельности отдельного учащегос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итель пишет краткий комментарий после проверки работы учащегос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итель озвучивает оценки учащихся за урок и дает рекомендации для улучшения практик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ащиеся оценивают работу друг друг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итель и учащиеся совместно разрабатывают критерии успешности на урок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итель совместно с учениками разрабатывает цели урок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На уроке осуществляется обратная связь с ученикам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еники должны научиться самооценк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Возможность и умения учащихся анализировать собственную работу (рефлексия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Внедряется культура совместного обсуждения в класс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Учитель поддерживает  </a:t>
            </a:r>
            <a:r>
              <a:rPr b="1" lang="kk-KZ" sz="2200" spc="-1" strike="noStrike">
                <a:solidFill>
                  <a:srgbClr val="c00000"/>
                </a:solidFill>
                <a:latin typeface="Candara"/>
              </a:rPr>
              <a:t>уверенность</a:t>
            </a:r>
            <a:r>
              <a:rPr b="1" lang="kk-KZ" sz="2200" spc="-1" strike="noStrike">
                <a:solidFill>
                  <a:srgbClr val="073e87"/>
                </a:solidFill>
                <a:latin typeface="Candara"/>
              </a:rPr>
              <a:t>  учеников в том, что каждый из них способен улучшить свои результат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00000"/>
                </a:solidFill>
                <a:latin typeface="Candara"/>
              </a:rPr>
              <a:t>Какова деятельность учителя и ученика </a:t>
            </a:r>
            <a:br>
              <a:rPr sz="2800"/>
            </a:br>
            <a:r>
              <a:rPr b="1" lang="kk-KZ" sz="2800" spc="-1" strike="noStrike">
                <a:solidFill>
                  <a:srgbClr val="c00000"/>
                </a:solidFill>
                <a:latin typeface="Candara"/>
              </a:rPr>
              <a:t>при формирующем оценивании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571400"/>
            <a:ext cx="87854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Разделите  все предложенные понятия на 2 группы: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«ОТ» </a:t>
            </a: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какого оценивания мы уходим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и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«К»</a:t>
            </a:r>
            <a:r>
              <a:rPr b="1" lang="ru-RU" sz="3600" spc="-1" strike="noStrike">
                <a:solidFill>
                  <a:srgbClr val="073e87"/>
                </a:solidFill>
                <a:latin typeface="Bookman Old Style"/>
              </a:rPr>
              <a:t>  какому стремимся в условиях новой системы оценив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3640" y="155700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Знание и понимание учащимися целей обучен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Эффективная обратная связь с ученикам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Активное участие учащихся в процессе собственного познан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Знание и понимание учащимися критериев оцениван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Возможность и умения учащихся анализировать собственную работу (рефлексия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73e87"/>
                </a:solidFill>
                <a:latin typeface="Candara"/>
              </a:rPr>
              <a:t>Корректировка подходов к преподаванию с учетом результатов оценива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00000"/>
                </a:solidFill>
                <a:latin typeface="Candara"/>
              </a:rPr>
              <a:t>Что же необходимо для формирующего оценивания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Проверим себ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1143000"/>
          <a:ext cx="8929800" cy="5288040"/>
        </p:xfrm>
        <a:graphic>
          <a:graphicData uri="http://schemas.openxmlformats.org/drawingml/2006/table">
            <a:tbl>
              <a:tblPr/>
              <a:tblGrid>
                <a:gridCol w="4202280"/>
                <a:gridCol w="472752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исьменные работы, закрытый экзаме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крытый экзамен, проект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преподавателем, тьютор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при участии обучающих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плицитные (</a:t>
                      </a:r>
                      <a:r>
                        <a:rPr b="1" i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явные</a:t>
                      </a: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сплицитные (</a:t>
                      </a:r>
                      <a:r>
                        <a:rPr b="1" i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вные</a:t>
                      </a: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курен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трудничеств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результа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процес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бные результат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знан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умений, способностей, компетенци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ирование памя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понимания, интерпретации, применения, анализа, синте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кур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ивание моду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овое, суммарное оцени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рмирующее, развивающее оценива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оритетность оценк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оритетность уч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85840" y="1285560"/>
            <a:ext cx="8400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Диагностическо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Где учащиеся находятся относительно целей обучения в начале обуч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Формирующее (ОдО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рректировка  деятельности учителя и учащихся для улучшения результатов обуч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уммативное (ОО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нстатирование уровня усвоения знаний, сформированности умений и компетентност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Виды оценив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3"/>
          <p:cNvSpPr/>
          <p:nvPr/>
        </p:nvSpPr>
        <p:spPr>
          <a:xfrm>
            <a:off x="1973160" y="1003320"/>
            <a:ext cx="5329440" cy="1154160"/>
          </a:xfrm>
          <a:prstGeom prst="rect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Оценивание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826920" y="2492280"/>
            <a:ext cx="3097440" cy="1008000"/>
          </a:xfrm>
          <a:prstGeom prst="rect">
            <a:avLst/>
          </a:prstGeom>
          <a:solidFill>
            <a:srgbClr val="dae6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Формирующе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(текущее) оценивание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Прямоугольник 5"/>
          <p:cNvSpPr/>
          <p:nvPr/>
        </p:nvSpPr>
        <p:spPr>
          <a:xfrm>
            <a:off x="5219640" y="2492280"/>
            <a:ext cx="3168720" cy="936720"/>
          </a:xfrm>
          <a:prstGeom prst="rect">
            <a:avLst/>
          </a:prstGeom>
          <a:solidFill>
            <a:srgbClr val="dae6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Суммативное (итоговое) оценивани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Скругленный прямоугольник 8"/>
          <p:cNvSpPr/>
          <p:nvPr/>
        </p:nvSpPr>
        <p:spPr>
          <a:xfrm>
            <a:off x="250920" y="3716280"/>
            <a:ext cx="4033800" cy="2881440"/>
          </a:xfrm>
          <a:prstGeom prst="roundRect">
            <a:avLst>
              <a:gd name="adj" fmla="val 16667"/>
            </a:avLst>
          </a:prstGeom>
          <a:solidFill>
            <a:srgbClr val="def6e4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Bookman Old Style"/>
              </a:rPr>
              <a:t>Определение текущего уровня усвоения знаний и навыков в процессе повседневной работы в класс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Скругленный прямоугольник 9"/>
          <p:cNvSpPr/>
          <p:nvPr/>
        </p:nvSpPr>
        <p:spPr>
          <a:xfrm>
            <a:off x="4859280" y="3716280"/>
            <a:ext cx="3960720" cy="2952720"/>
          </a:xfrm>
          <a:prstGeom prst="roundRect">
            <a:avLst>
              <a:gd name="adj" fmla="val 16667"/>
            </a:avLst>
          </a:prstGeom>
          <a:solidFill>
            <a:srgbClr val="def6e4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2e65"/>
                </a:solidFill>
                <a:latin typeface="Bookman Old Style"/>
              </a:rPr>
              <a:t>Определение уровня сформированности знаний и учебных навыков при завершении изучения блока учебной информаци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348" name="Прямая со стрелкой 15"/>
          <p:cNvCxnSpPr/>
          <p:nvPr/>
        </p:nvCxnSpPr>
        <p:spPr>
          <a:xfrm flipH="1">
            <a:off x="2770920" y="2133360"/>
            <a:ext cx="1080" cy="36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49" name="Прямая со стрелкой 20"/>
          <p:cNvCxnSpPr/>
          <p:nvPr/>
        </p:nvCxnSpPr>
        <p:spPr>
          <a:xfrm flipH="1">
            <a:off x="6659280" y="2133360"/>
            <a:ext cx="2160" cy="36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50" name="Прямая со стрелкой 28"/>
          <p:cNvCxnSpPr/>
          <p:nvPr/>
        </p:nvCxnSpPr>
        <p:spPr>
          <a:xfrm flipH="1">
            <a:off x="2482560" y="3502080"/>
            <a:ext cx="2160" cy="21672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51" name="Прямая со стрелкой 33"/>
          <p:cNvCxnSpPr/>
          <p:nvPr/>
        </p:nvCxnSpPr>
        <p:spPr>
          <a:xfrm flipH="1">
            <a:off x="6946560" y="3428640"/>
            <a:ext cx="216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Объект 3" descr=""/>
          <p:cNvPicPr/>
          <p:nvPr/>
        </p:nvPicPr>
        <p:blipFill>
          <a:blip r:embed="rId1"/>
          <a:stretch/>
        </p:blipFill>
        <p:spPr>
          <a:xfrm>
            <a:off x="176040" y="2206800"/>
            <a:ext cx="8791920" cy="43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Формирующее оценив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5280" y="1071720"/>
            <a:ext cx="864072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Ученическое самооценивание </a:t>
            </a:r>
            <a:r>
              <a:rPr b="1" lang="ru-RU" sz="2200" spc="-1" strike="noStrike">
                <a:solidFill>
                  <a:srgbClr val="002060"/>
                </a:solidFill>
                <a:latin typeface="Bookman Old Style"/>
              </a:rPr>
              <a:t>- необходимая часть обучения, поскольку оно подкрепляет усилия 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Bookman Old Style"/>
              </a:rPr>
              <a:t>достижения учеников. Самооценивание ускоряет процессы общения между учениками, поскольк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Bookman Old Style"/>
              </a:rPr>
              <a:t>ученики лучше узнают области, в которых у них могут возникнуть трудности и могут лучш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Bookman Old Style"/>
              </a:rPr>
              <a:t>сформулировать свои потребности (Kulm, 1994)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Самооценивание может происходить в нескольких формах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исьменные сообщ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бсуждения (всем классом или в малых группах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Журнал рефлекс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Контрольный лист самооцени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Интервью, которое дает ученик учител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Рубр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Самооценив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44020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357200"/>
            <a:ext cx="74642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Bookman Old Style"/>
              </a:rPr>
              <a:t>Разработайте критерии  по самооценке учащегося  в ходе групповой работы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8" name="Picture 2" descr="http://www.nwhope.org/group_session_800_clr.png"/>
          <p:cNvPicPr/>
          <p:nvPr/>
        </p:nvPicPr>
        <p:blipFill>
          <a:blip r:embed="rId1"/>
          <a:stretch/>
        </p:blipFill>
        <p:spPr>
          <a:xfrm>
            <a:off x="3654360" y="3284640"/>
            <a:ext cx="5546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3" descr=""/>
          <p:cNvPicPr/>
          <p:nvPr/>
        </p:nvPicPr>
        <p:blipFill>
          <a:blip r:embed="rId1"/>
          <a:srcRect l="17146" t="17392" r="11380" b="17047"/>
          <a:stretch/>
        </p:blipFill>
        <p:spPr>
          <a:xfrm>
            <a:off x="324000" y="380880"/>
            <a:ext cx="8496000" cy="420048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"/>
          <p:cNvPicPr/>
          <p:nvPr/>
        </p:nvPicPr>
        <p:blipFill>
          <a:blip r:embed="rId2"/>
          <a:srcRect l="17788" t="37913" r="24841" b="34154"/>
          <a:stretch/>
        </p:blipFill>
        <p:spPr>
          <a:xfrm>
            <a:off x="320760" y="4581360"/>
            <a:ext cx="6122880" cy="19418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5" descr=""/>
          <p:cNvPicPr/>
          <p:nvPr/>
        </p:nvPicPr>
        <p:blipFill>
          <a:blip r:embed="rId3"/>
          <a:srcRect l="46315" t="43046" r="36539" b="33297"/>
          <a:stretch/>
        </p:blipFill>
        <p:spPr>
          <a:xfrm>
            <a:off x="7529400" y="4527720"/>
            <a:ext cx="1224000" cy="1120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6" descr=""/>
          <p:cNvPicPr/>
          <p:nvPr/>
        </p:nvPicPr>
        <p:blipFill>
          <a:blip r:embed="rId4"/>
          <a:srcRect l="17146" t="64429" r="55290" b="18189"/>
          <a:stretch/>
        </p:blipFill>
        <p:spPr>
          <a:xfrm>
            <a:off x="6237360" y="5648400"/>
            <a:ext cx="258264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5:49:13Z</dcterms:created>
  <dc:creator>Марина</dc:creator>
  <dc:description/>
  <dc:language>en-US</dc:language>
  <cp:lastModifiedBy>Рыболов Мишаня</cp:lastModifiedBy>
  <dcterms:modified xsi:type="dcterms:W3CDTF">2019-12-08T09:13:20Z</dcterms:modified>
  <cp:revision>41</cp:revision>
  <dc:subject/>
  <dc:title>Техники формативного оценивания</dc:title>
</cp:coreProperties>
</file>