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27F4-6CB4-40A3-8614-A469B9BC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60E2-DD8D-431E-A2B0-CF3DEF9B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D28F-9926-4A50-847C-83227435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5467-58A8-4E9E-882C-EF29E4D4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798F-8837-4FF8-8393-417E8CC3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15E9-26EC-486C-BCFB-00453A7B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1DBF-9EEE-4157-AAC0-8ADF1FEE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37F8-5EFD-4E2E-86D6-F4FFB5AB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5DF6-6D47-4F71-8C5A-03FADF85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BF0D-9AD0-41AE-A561-E8FD6C9A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8164-B620-4341-B120-6F90FADF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AEB7-9DEE-4798-8837-8570DD5D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E33D-0F57-41B6-853E-6D098939EB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Управляющая кнопка: настраиваемая 7">
            <a:hlinkClick r:id="" action="ppaction://hlinkshowjump?jump=nextslide"/>
          </p:cNvPr>
          <p:cNvSpPr/>
          <p:nvPr/>
        </p:nvSpPr>
        <p:spPr>
          <a:xfrm>
            <a:off x="7956720" y="6093000"/>
            <a:ext cx="825480" cy="466560"/>
          </a:xfrm>
          <a:custGeom>
            <a:avLst/>
            <a:gdLst>
              <a:gd name="textAreaLeft" fmla="*/ 30240 w 825480"/>
              <a:gd name="textAreaRight" fmla="*/ 795240 w 82548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38204" h="21600">
                <a:moveTo>
                  <a:pt x="0" y="0"/>
                </a:moveTo>
                <a:lnTo>
                  <a:pt x="38204" y="0"/>
                </a:lnTo>
                <a:lnTo>
                  <a:pt x="38204" y="21600"/>
                </a:lnTo>
                <a:lnTo>
                  <a:pt x="0" y="21600"/>
                </a:lnTo>
                <a:close/>
              </a:path>
              <a:path fill="lightenLess" w="38204" h="21600">
                <a:moveTo>
                  <a:pt x="0" y="0"/>
                </a:moveTo>
                <a:lnTo>
                  <a:pt x="38204" y="0"/>
                </a:lnTo>
                <a:lnTo>
                  <a:pt x="36804" y="1400"/>
                </a:lnTo>
                <a:lnTo>
                  <a:pt x="1400" y="1400"/>
                </a:lnTo>
                <a:close/>
              </a:path>
              <a:path fill="darken" w="38204" h="21600">
                <a:moveTo>
                  <a:pt x="38204" y="0"/>
                </a:moveTo>
                <a:lnTo>
                  <a:pt x="38204" y="21600"/>
                </a:lnTo>
                <a:lnTo>
                  <a:pt x="36804" y="20200"/>
                </a:lnTo>
                <a:lnTo>
                  <a:pt x="36804" y="1400"/>
                </a:lnTo>
                <a:close/>
              </a:path>
              <a:path fill="darkenLess" w="38204" h="21600">
                <a:moveTo>
                  <a:pt x="382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4" y="20200"/>
                </a:lnTo>
                <a:close/>
              </a:path>
              <a:path fill="lighten" w="382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24000" y="648828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Овод Светлана Фёд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Овал 1"/>
          <p:cNvSpPr/>
          <p:nvPr/>
        </p:nvSpPr>
        <p:spPr>
          <a:xfrm>
            <a:off x="1042920" y="5300640"/>
            <a:ext cx="914400" cy="9144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2"/>
          <p:cNvSpPr/>
          <p:nvPr/>
        </p:nvSpPr>
        <p:spPr>
          <a:xfrm>
            <a:off x="3132000" y="5300640"/>
            <a:ext cx="914400" cy="9144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3"/>
          <p:cNvSpPr/>
          <p:nvPr/>
        </p:nvSpPr>
        <p:spPr>
          <a:xfrm>
            <a:off x="5076720" y="5229360"/>
            <a:ext cx="914400" cy="9144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4"/>
          <p:cNvSpPr/>
          <p:nvPr/>
        </p:nvSpPr>
        <p:spPr>
          <a:xfrm>
            <a:off x="7093080" y="5229360"/>
            <a:ext cx="914400" cy="9144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5"/>
          <p:cNvSpPr/>
          <p:nvPr/>
        </p:nvSpPr>
        <p:spPr>
          <a:xfrm>
            <a:off x="539640" y="1268280"/>
            <a:ext cx="5040360" cy="3168720"/>
          </a:xfrm>
          <a:prstGeom prst="rect">
            <a:avLst/>
          </a:prstGeom>
          <a:blipFill rotWithShape="0">
            <a:blip r:embed="rId5"/>
            <a:srcRect/>
            <a:stretch/>
          </a:blipFill>
          <a:ln w="763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5796000" y="1510920"/>
            <a:ext cx="3097080" cy="179748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снег темнеет, тае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 орешник расцветае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 серёжки у осин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 плывут по речке льдин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ес очнулся ото сна 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начит, к нам пришла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1" i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весн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1692360" y="47844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ОЕ ЭТО ВРЕМЯ Г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317080" y="404640"/>
            <a:ext cx="539640" cy="40500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8774" h="21600">
                <a:moveTo>
                  <a:pt x="0" y="0"/>
                </a:moveTo>
                <a:lnTo>
                  <a:pt x="28774" y="0"/>
                </a:lnTo>
                <a:lnTo>
                  <a:pt x="28774" y="21600"/>
                </a:lnTo>
                <a:lnTo>
                  <a:pt x="0" y="21600"/>
                </a:lnTo>
                <a:close/>
              </a:path>
              <a:path fill="lightenLess" w="28774" h="21600">
                <a:moveTo>
                  <a:pt x="0" y="0"/>
                </a:moveTo>
                <a:lnTo>
                  <a:pt x="28774" y="0"/>
                </a:lnTo>
                <a:lnTo>
                  <a:pt x="27374" y="1400"/>
                </a:lnTo>
                <a:lnTo>
                  <a:pt x="1400" y="1400"/>
                </a:lnTo>
                <a:close/>
              </a:path>
              <a:path fill="darken" w="28774" h="21600">
                <a:moveTo>
                  <a:pt x="28774" y="0"/>
                </a:moveTo>
                <a:lnTo>
                  <a:pt x="28774" y="21600"/>
                </a:lnTo>
                <a:lnTo>
                  <a:pt x="27374" y="20200"/>
                </a:lnTo>
                <a:lnTo>
                  <a:pt x="27374" y="1400"/>
                </a:lnTo>
                <a:close/>
              </a:path>
              <a:path fill="darkenLess" w="28774" h="21600">
                <a:moveTo>
                  <a:pt x="28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4" y="20200"/>
                </a:lnTo>
                <a:close/>
              </a:path>
              <a:path fill="lighten" w="28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4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Овал 1"/>
          <p:cNvSpPr/>
          <p:nvPr/>
        </p:nvSpPr>
        <p:spPr>
          <a:xfrm>
            <a:off x="7380360" y="5300640"/>
            <a:ext cx="914400" cy="9144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2"/>
          <p:cNvSpPr/>
          <p:nvPr/>
        </p:nvSpPr>
        <p:spPr>
          <a:xfrm>
            <a:off x="826920" y="5373720"/>
            <a:ext cx="914400" cy="9144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3"/>
          <p:cNvSpPr/>
          <p:nvPr/>
        </p:nvSpPr>
        <p:spPr>
          <a:xfrm>
            <a:off x="3059280" y="5373720"/>
            <a:ext cx="914400" cy="9144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4"/>
          <p:cNvSpPr/>
          <p:nvPr/>
        </p:nvSpPr>
        <p:spPr>
          <a:xfrm>
            <a:off x="5292720" y="5300640"/>
            <a:ext cx="914400" cy="9144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395280" y="1268280"/>
            <a:ext cx="4897440" cy="3097440"/>
          </a:xfrm>
          <a:prstGeom prst="rect">
            <a:avLst/>
          </a:prstGeom>
          <a:blipFill rotWithShape="0">
            <a:blip r:embed="rId5"/>
            <a:srcRect/>
            <a:stretch/>
          </a:blipFill>
          <a:ln w="763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5651640" y="2008440"/>
            <a:ext cx="3241440" cy="106740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еленеет всё, цветё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реет сочный, сладкий пл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олнце льёт потоки свет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то время года ... (лет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7"/>
          <p:cNvSpPr/>
          <p:nvPr/>
        </p:nvSpPr>
        <p:spPr>
          <a:xfrm>
            <a:off x="1042920" y="333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ОЕ ЭТО ВРЕМЯ Г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8317080" y="404640"/>
            <a:ext cx="539640" cy="40500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8774" h="21600">
                <a:moveTo>
                  <a:pt x="0" y="0"/>
                </a:moveTo>
                <a:lnTo>
                  <a:pt x="28774" y="0"/>
                </a:lnTo>
                <a:lnTo>
                  <a:pt x="28774" y="21600"/>
                </a:lnTo>
                <a:lnTo>
                  <a:pt x="0" y="21600"/>
                </a:lnTo>
                <a:close/>
              </a:path>
              <a:path fill="lightenLess" w="28774" h="21600">
                <a:moveTo>
                  <a:pt x="0" y="0"/>
                </a:moveTo>
                <a:lnTo>
                  <a:pt x="28774" y="0"/>
                </a:lnTo>
                <a:lnTo>
                  <a:pt x="27374" y="1400"/>
                </a:lnTo>
                <a:lnTo>
                  <a:pt x="1400" y="1400"/>
                </a:lnTo>
                <a:close/>
              </a:path>
              <a:path fill="darken" w="28774" h="21600">
                <a:moveTo>
                  <a:pt x="28774" y="0"/>
                </a:moveTo>
                <a:lnTo>
                  <a:pt x="28774" y="21600"/>
                </a:lnTo>
                <a:lnTo>
                  <a:pt x="27374" y="20200"/>
                </a:lnTo>
                <a:lnTo>
                  <a:pt x="27374" y="1400"/>
                </a:lnTo>
                <a:close/>
              </a:path>
              <a:path fill="darkenLess" w="28774" h="21600">
                <a:moveTo>
                  <a:pt x="28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4" y="20200"/>
                </a:lnTo>
                <a:close/>
              </a:path>
              <a:path fill="lighten" w="28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4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Овал 1"/>
          <p:cNvSpPr/>
          <p:nvPr/>
        </p:nvSpPr>
        <p:spPr>
          <a:xfrm>
            <a:off x="2916360" y="5229360"/>
            <a:ext cx="914400" cy="9144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2"/>
          <p:cNvSpPr/>
          <p:nvPr/>
        </p:nvSpPr>
        <p:spPr>
          <a:xfrm>
            <a:off x="611280" y="5229360"/>
            <a:ext cx="914400" cy="9144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"/>
          <p:cNvSpPr/>
          <p:nvPr/>
        </p:nvSpPr>
        <p:spPr>
          <a:xfrm>
            <a:off x="4932360" y="5229360"/>
            <a:ext cx="914400" cy="9144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4"/>
          <p:cNvSpPr/>
          <p:nvPr/>
        </p:nvSpPr>
        <p:spPr>
          <a:xfrm>
            <a:off x="7093080" y="5229360"/>
            <a:ext cx="914400" cy="9144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395280" y="1268280"/>
            <a:ext cx="4897440" cy="3024360"/>
          </a:xfrm>
          <a:prstGeom prst="rect">
            <a:avLst/>
          </a:prstGeom>
          <a:blipFill rotWithShape="0">
            <a:blip r:embed="rId5"/>
            <a:srcRect/>
            <a:stretch/>
          </a:blipFill>
          <a:ln w="763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580000" y="1632600"/>
            <a:ext cx="3313080" cy="155412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лащ золотистый она надевае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ёплое лето она провожа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тиц отправляет в дальние стран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ам оставляет дожди и тума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1" i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Осен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7"/>
          <p:cNvSpPr/>
          <p:nvPr/>
        </p:nvSpPr>
        <p:spPr>
          <a:xfrm>
            <a:off x="1042920" y="333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ОЕ ЭТО ВРЕМЯ Г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8317080" y="404640"/>
            <a:ext cx="539640" cy="40500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8774" h="21600">
                <a:moveTo>
                  <a:pt x="0" y="0"/>
                </a:moveTo>
                <a:lnTo>
                  <a:pt x="28774" y="0"/>
                </a:lnTo>
                <a:lnTo>
                  <a:pt x="28774" y="21600"/>
                </a:lnTo>
                <a:lnTo>
                  <a:pt x="0" y="21600"/>
                </a:lnTo>
                <a:close/>
              </a:path>
              <a:path fill="lightenLess" w="28774" h="21600">
                <a:moveTo>
                  <a:pt x="0" y="0"/>
                </a:moveTo>
                <a:lnTo>
                  <a:pt x="28774" y="0"/>
                </a:lnTo>
                <a:lnTo>
                  <a:pt x="27374" y="1400"/>
                </a:lnTo>
                <a:lnTo>
                  <a:pt x="1400" y="1400"/>
                </a:lnTo>
                <a:close/>
              </a:path>
              <a:path fill="darken" w="28774" h="21600">
                <a:moveTo>
                  <a:pt x="28774" y="0"/>
                </a:moveTo>
                <a:lnTo>
                  <a:pt x="28774" y="21600"/>
                </a:lnTo>
                <a:lnTo>
                  <a:pt x="27374" y="20200"/>
                </a:lnTo>
                <a:lnTo>
                  <a:pt x="27374" y="1400"/>
                </a:lnTo>
                <a:close/>
              </a:path>
              <a:path fill="darkenLess" w="28774" h="21600">
                <a:moveTo>
                  <a:pt x="28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4" y="20200"/>
                </a:lnTo>
                <a:close/>
              </a:path>
              <a:path fill="lighten" w="28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4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Овал 1"/>
          <p:cNvSpPr/>
          <p:nvPr/>
        </p:nvSpPr>
        <p:spPr>
          <a:xfrm>
            <a:off x="5219640" y="5300640"/>
            <a:ext cx="914400" cy="9144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2"/>
          <p:cNvSpPr/>
          <p:nvPr/>
        </p:nvSpPr>
        <p:spPr>
          <a:xfrm>
            <a:off x="3132000" y="5300640"/>
            <a:ext cx="914400" cy="9144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3"/>
          <p:cNvSpPr/>
          <p:nvPr/>
        </p:nvSpPr>
        <p:spPr>
          <a:xfrm>
            <a:off x="755640" y="5300640"/>
            <a:ext cx="914400" cy="9144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4"/>
          <p:cNvSpPr/>
          <p:nvPr/>
        </p:nvSpPr>
        <p:spPr>
          <a:xfrm>
            <a:off x="7164360" y="5300640"/>
            <a:ext cx="914400" cy="9144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395280" y="1197000"/>
            <a:ext cx="5113440" cy="3311640"/>
          </a:xfrm>
          <a:prstGeom prst="rect">
            <a:avLst/>
          </a:prstGeom>
          <a:blipFill rotWithShape="0">
            <a:blip r:embed="rId5"/>
            <a:srcRect/>
            <a:stretch/>
          </a:blipFill>
          <a:ln w="763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796000" y="1588320"/>
            <a:ext cx="3097080" cy="228420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оролева ледя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чится в ледяной карет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 её сопровожда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еверный холодный вете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 за ней бегут вдогон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ьюга колкая, позём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 несутся, словно зме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еребристые мет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i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Зим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Управляющая кнопка: домой 7">
            <a:hlinkClick r:id="" action="ppaction://hlinkshowjump?jump=firstslide"/>
          </p:cNvPr>
          <p:cNvSpPr/>
          <p:nvPr/>
        </p:nvSpPr>
        <p:spPr>
          <a:xfrm>
            <a:off x="8317080" y="6165720"/>
            <a:ext cx="610920" cy="405000"/>
          </a:xfrm>
          <a:custGeom>
            <a:avLst/>
            <a:gdLst>
              <a:gd name="textAreaLeft" fmla="*/ 25920 w 610920"/>
              <a:gd name="textAreaRight" fmla="*/ 585000 w 61092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2573" h="21600">
                <a:moveTo>
                  <a:pt x="0" y="0"/>
                </a:moveTo>
                <a:lnTo>
                  <a:pt x="32573" y="0"/>
                </a:lnTo>
                <a:lnTo>
                  <a:pt x="32573" y="21600"/>
                </a:lnTo>
                <a:lnTo>
                  <a:pt x="0" y="21600"/>
                </a:lnTo>
                <a:close/>
              </a:path>
              <a:path fill="lightenLess" w="32573" h="21600">
                <a:moveTo>
                  <a:pt x="0" y="0"/>
                </a:moveTo>
                <a:lnTo>
                  <a:pt x="32573" y="0"/>
                </a:lnTo>
                <a:lnTo>
                  <a:pt x="31173" y="1400"/>
                </a:lnTo>
                <a:lnTo>
                  <a:pt x="1400" y="1400"/>
                </a:lnTo>
                <a:close/>
              </a:path>
              <a:path fill="darken" w="32573" h="21600">
                <a:moveTo>
                  <a:pt x="32573" y="0"/>
                </a:moveTo>
                <a:lnTo>
                  <a:pt x="32573" y="21600"/>
                </a:lnTo>
                <a:lnTo>
                  <a:pt x="31173" y="20200"/>
                </a:lnTo>
                <a:lnTo>
                  <a:pt x="31173" y="1400"/>
                </a:lnTo>
                <a:close/>
              </a:path>
              <a:path fill="darkenLess" w="32573" h="21600">
                <a:moveTo>
                  <a:pt x="325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3" y="20200"/>
                </a:lnTo>
                <a:close/>
              </a:path>
              <a:path fill="lighten" w="325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3" h="21600">
                <a:moveTo>
                  <a:pt x="16286" y="3837"/>
                </a:moveTo>
                <a:lnTo>
                  <a:pt x="18863" y="6448"/>
                </a:lnTo>
                <a:lnTo>
                  <a:pt x="18863" y="4707"/>
                </a:lnTo>
                <a:lnTo>
                  <a:pt x="20638" y="4707"/>
                </a:lnTo>
                <a:lnTo>
                  <a:pt x="20638" y="8224"/>
                </a:lnTo>
                <a:lnTo>
                  <a:pt x="23249" y="10800"/>
                </a:lnTo>
                <a:lnTo>
                  <a:pt x="21596" y="10800"/>
                </a:lnTo>
                <a:lnTo>
                  <a:pt x="21596" y="17989"/>
                </a:lnTo>
                <a:lnTo>
                  <a:pt x="10977" y="17989"/>
                </a:lnTo>
                <a:lnTo>
                  <a:pt x="10977" y="10800"/>
                </a:lnTo>
                <a:lnTo>
                  <a:pt x="9323" y="10800"/>
                </a:lnTo>
                <a:close/>
              </a:path>
              <a:path fill="darkenLess" w="32573" h="21600">
                <a:moveTo>
                  <a:pt x="18863" y="6448"/>
                </a:moveTo>
                <a:lnTo>
                  <a:pt x="18863" y="4707"/>
                </a:lnTo>
                <a:lnTo>
                  <a:pt x="20638" y="4707"/>
                </a:lnTo>
                <a:lnTo>
                  <a:pt x="20638" y="8224"/>
                </a:lnTo>
                <a:close/>
              </a:path>
              <a:path fill="darkenLess" w="32573" h="21600">
                <a:moveTo>
                  <a:pt x="15364" y="14299"/>
                </a:moveTo>
                <a:lnTo>
                  <a:pt x="17209" y="14299"/>
                </a:lnTo>
                <a:lnTo>
                  <a:pt x="17209" y="17989"/>
                </a:lnTo>
                <a:lnTo>
                  <a:pt x="21596" y="17989"/>
                </a:lnTo>
                <a:lnTo>
                  <a:pt x="21596" y="10800"/>
                </a:lnTo>
                <a:lnTo>
                  <a:pt x="10977" y="10800"/>
                </a:lnTo>
                <a:lnTo>
                  <a:pt x="10977" y="17989"/>
                </a:lnTo>
                <a:lnTo>
                  <a:pt x="15364" y="17989"/>
                </a:lnTo>
                <a:close/>
              </a:path>
            </a:pathLst>
          </a:cu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8"/>
          <p:cNvSpPr/>
          <p:nvPr/>
        </p:nvSpPr>
        <p:spPr>
          <a:xfrm>
            <a:off x="1042920" y="333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ОЕ ЭТО ВРЕМЯ Г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30T13:49:08Z</dcterms:created>
  <dc:creator>Sveta</dc:creator>
  <dc:description/>
  <dc:language>en-US</dc:language>
  <cp:lastModifiedBy>Sveta</cp:lastModifiedBy>
  <dcterms:modified xsi:type="dcterms:W3CDTF">2019-12-15T11:31:58Z</dcterms:modified>
  <cp:revision>12</cp:revision>
  <dc:subject/>
  <dc:title>Слайд 1</dc:title>
</cp:coreProperties>
</file>