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4D34-22AE-4F6C-8752-D25198E7A0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586F-90C9-4929-BB0F-460852BB21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756-585E-4812-A052-EF540412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7AE-4310-421B-980D-F23360F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3B2-0E9E-41DA-BEAD-F587527E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4A3-53F0-46E8-BBA1-9A76DD3E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74A-4AEC-4B9D-8BAF-0AF15F01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7D5-CA0E-4626-AFAA-BDD9F988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0D9-09E1-4EA5-AE67-DE688CC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A83-67AB-41B8-A999-CF47585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09D-06FB-4827-A9FD-075A46A2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88F-83C2-45F6-9E8E-495144E6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C10-CB60-4EBB-B9A3-5675E58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8CD-39A6-476C-BA26-9CFFA82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F53E-2655-4194-9DED-21AAB1A47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://www.eltgames.com/ESL-jobs-GrEl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755640" y="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образовательные технолог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с электронными образовательными ресурсами на уроках англий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s://img.tyt.by/n/brushko/01/5/smart_klass_28052015_tutby_brush_phsl_img_07.jpg"/>
          <p:cNvPicPr/>
          <p:nvPr/>
        </p:nvPicPr>
        <p:blipFill>
          <a:blip r:embed="rId1"/>
          <a:stretch/>
        </p:blipFill>
        <p:spPr>
          <a:xfrm>
            <a:off x="468360" y="385272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68360" y="549360"/>
            <a:ext cx="59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чителя занять во время урока всех учащихся есть критерий достоинства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117360"/>
            <a:ext cx="54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нглоязычными сайтами заключается в развитии умений обучающихся ориентироваться в структуре их работы, восприятия аутентичного материала, овладение языковой и речевой компетенциями через тренировку в использовании лексического, грамматического, фонетического материала в основных видах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321600" y="2637000"/>
            <a:ext cx="2341440" cy="21301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5857920" y="260280"/>
            <a:ext cx="2857320" cy="13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tretch/>
        </p:blipFill>
        <p:spPr>
          <a:xfrm>
            <a:off x="2484360" y="4767120"/>
            <a:ext cx="223848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189000"/>
            <a:ext cx="8318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зависимости от задач урока выбирается методическое назначение образовательных электронных ресур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учаю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о-поисковые;                  • демонстрацио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делирующие;                                         • тренажё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онтролирующие;                                      • учебно-игровые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s://arhivurokov.ru/videouroki/html/2015/02/18/98704144/img4.jpg"/>
          <p:cNvPicPr/>
          <p:nvPr/>
        </p:nvPicPr>
        <p:blipFill>
          <a:blip r:embed="rId1"/>
          <a:stretch/>
        </p:blipFill>
        <p:spPr>
          <a:xfrm>
            <a:off x="324000" y="2349360"/>
            <a:ext cx="86184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50920" y="1173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спользование современных технических средств обучения иностранным языкам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Восполнить отсутствие иноязычной среды на всех этапах обучения иностранн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Повышать мотивацию учащихся к обучению иностранн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Полнее реализовать важный дидактический принцип н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Создать лучшие условия для программирования и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Осуществлять обучение с учетом индивидуальных типологических возможностей каждого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Обеспечивать ускоренное формирование и развитие навыков слухового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Выполнять многие активные виды упражнений со всеми учащимися одновременно, включая гов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Максимально использовать аналитические и имитационные способности учащихся, полнее мобилизовать их внутренни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chugunova727.ucoz.ru/risunok1.png"/>
          <p:cNvPicPr/>
          <p:nvPr/>
        </p:nvPicPr>
        <p:blipFill>
          <a:blip r:embed="rId1"/>
          <a:stretch/>
        </p:blipFill>
        <p:spPr>
          <a:xfrm>
            <a:off x="324000" y="260280"/>
            <a:ext cx="824544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68360" y="-60357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-ресурсы, применяемые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) Тексты для аудирования, размещенные на сайта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learnenglish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 позволяет создать на уроке необходимые условия для тренировки обучающихся в аудирования текстов. Также для работы на уроках и факультативах (элективах) используем сай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ww.elllo.or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и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) Флэш-игры, флэш-мультфильмы, предлагаемые сайто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englishteachers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 помогают создавать на уроке игровую атмосферу и в то же время являются источником аутентич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)        Для восполнения «пробелов в знаниях» обучающихся сайт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/www.eltgames.co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едлагает различные типы тренировочных упражнений, которые можно использовать на различных ступенях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76200" y="33336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-ресурсы, применяемые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) Тексты для аудирования, размещенные на сайта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learnenglish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 позволяет создать на уроке необходимые условия для тренировки обучающихся в аудирования текстов. Также для работы на уроках и факультативах (элективах) используе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айт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elllo.org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и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) Флэш-игры, флэш-мультфильмы, предлагаемые сайто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englishteachers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 помогают создавать на уроке игровую атмосферу и в то же время являются источником аутентич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)        Для восполнения «пробелов в знаниях» обучающихся сайт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ltgames.com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едлагает различные типы тренировочных упражнений, которые можно использовать на различных ступенях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)        Видеоролики и сайты  описывающие реалии англоязычных стран, помогают в знакомстве с иноязычной культурой.  Например, Сайт о королеве Елизавете II и её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286080" y="4714920"/>
            <a:ext cx="3033720" cy="187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357120" y="4643280"/>
            <a:ext cx="2714760" cy="193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6500880" y="4643280"/>
            <a:ext cx="25002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57120" y="285840"/>
            <a:ext cx="5632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)        Видеоролики с детскими песенк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ww.toutube.co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используемые на начальном этапе помогают создать на уроке ситуацию игры и, в то же время способствуют более быстрому овладению фонетических, лексических, грамматических навыков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)        Всевозможные тесты для проверки уровня овладения тем или иным грамматическим материалом можно взять на сайтах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native-english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study.ru/online/tests/englis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britishcouncil.org/ru/russia-english-onlin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learnenglish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studyenglishtoday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studyenglishtoday.net/Tests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engmaster.ru/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) Презентации, созданные в программе Power Point на различные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7)  Использование электронных слова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s://img.sur.ly/thumbnails/620x343/w/wooordhunt.ru.png"/>
          <p:cNvPicPr/>
          <p:nvPr/>
        </p:nvPicPr>
        <p:blipFill>
          <a:blip r:embed="rId1"/>
          <a:stretch/>
        </p:blipFill>
        <p:spPr>
          <a:xfrm>
            <a:off x="5643720" y="3000240"/>
            <a:ext cx="3357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11280" y="404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электронных словарей заключается в объяснении грамматических явлений как традиционно, так и при помощи аутентичных диалогов, что не характерно для словарей на печатной основе. Своим ученика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оветуем использ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ordhunt.ru   http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voliv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Использование  порта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App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амостоятельной работы дома или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419640" y="2714760"/>
            <a:ext cx="570204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3:52:20Z</dcterms:created>
  <dc:creator>Сергей</dc:creator>
  <dc:description/>
  <dc:language>en-US</dc:language>
  <cp:lastModifiedBy>user</cp:lastModifiedBy>
  <dcterms:modified xsi:type="dcterms:W3CDTF">2019-12-15T16:21:17Z</dcterms:modified>
  <cp:revision>24</cp:revision>
  <dc:subject/>
  <dc:title>Презентация PowerPoint</dc:title>
</cp:coreProperties>
</file>