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52BA4-0E15-40CA-97E6-239F8B096A4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86F25-DFA4-4876-B13D-4B00A8CB03F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ED3C3-309F-4705-879E-903F82235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BA27E-A95C-4B9F-8DB0-81CD4CFD8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E1221-0E87-4324-B285-078B1CE4F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662C5-FB59-45EC-912A-D923F5B43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0761F-9885-4DD8-9189-05539479E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C16B6-2EB6-4D41-941A-C9C015AE9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5B66D-7316-466D-A751-B24BE9127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A641E-1B7C-425D-9ABC-28628F917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2D03B-32B2-4F93-84A7-FCFD42F35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CE9EF-505C-456C-B581-E5128AF9A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84532-2BDF-4BF4-8FEA-EB6C10AD8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5646F-920E-4337-A992-AC9B35C46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8940F-F41B-480B-843A-1BF4410D747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s://infourok.ru/go.html?href=http://www.eltgames.com/ESL-jobs-GrEl.htm" TargetMode="Externa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рямоугольник 1"/>
          <p:cNvSpPr/>
          <p:nvPr/>
        </p:nvSpPr>
        <p:spPr>
          <a:xfrm>
            <a:off x="755640" y="0"/>
            <a:ext cx="748836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ременные образовательные технологии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опыта работы с электронными образовательными ресурсами на уроках английского язы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https://img.tyt.by/n/brushko/01/5/smart_klass_28052015_tutby_brush_phsl_img_07.jpg"/>
          <p:cNvPicPr/>
          <p:nvPr/>
        </p:nvPicPr>
        <p:blipFill>
          <a:blip r:embed="rId1"/>
          <a:stretch/>
        </p:blipFill>
        <p:spPr>
          <a:xfrm>
            <a:off x="468360" y="3852720"/>
            <a:ext cx="3887640" cy="274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Box 2"/>
          <p:cNvSpPr/>
          <p:nvPr/>
        </p:nvSpPr>
        <p:spPr>
          <a:xfrm>
            <a:off x="468360" y="549360"/>
            <a:ext cx="5904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ие учителя занять во время урока всех учащихся есть критерий достоинства учител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.Д.Ушинск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Прямоугольник 1"/>
          <p:cNvSpPr/>
          <p:nvPr/>
        </p:nvSpPr>
        <p:spPr>
          <a:xfrm>
            <a:off x="324000" y="117360"/>
            <a:ext cx="5472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 работы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англоязычными сайтами заключается в развитии умений обучающихся ориентироваться в структуре их работы, восприятия аутентичного материала, овладение языковой и речевой компетенциями через тренировку в использовании лексического, грамматического, фонетического материала в основных видах речевой деятель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6321600" y="2637000"/>
            <a:ext cx="2341440" cy="2130120"/>
          </a:xfrm>
          <a:prstGeom prst="rect">
            <a:avLst/>
          </a:prstGeom>
          <a:ln w="0">
            <a:noFill/>
          </a:ln>
        </p:spPr>
      </p:pic>
      <p:sp>
        <p:nvSpPr>
          <p:cNvPr id="53" name="AutoShape 7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9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0" descr=""/>
          <p:cNvPicPr/>
          <p:nvPr/>
        </p:nvPicPr>
        <p:blipFill>
          <a:blip r:embed="rId2"/>
          <a:stretch/>
        </p:blipFill>
        <p:spPr>
          <a:xfrm>
            <a:off x="5857920" y="260280"/>
            <a:ext cx="2857320" cy="13240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1" descr=""/>
          <p:cNvPicPr/>
          <p:nvPr/>
        </p:nvPicPr>
        <p:blipFill>
          <a:blip r:embed="rId3"/>
          <a:stretch/>
        </p:blipFill>
        <p:spPr>
          <a:xfrm>
            <a:off x="2484360" y="4767120"/>
            <a:ext cx="2238480" cy="16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Прямоугольник 1"/>
          <p:cNvSpPr/>
          <p:nvPr/>
        </p:nvSpPr>
        <p:spPr>
          <a:xfrm>
            <a:off x="250920" y="189000"/>
            <a:ext cx="83185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В зависимости от задач урока выбирается методическое назначение образовательных электронных ресурсов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• 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обучающи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• 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информационно-поисковые;                  • демонстрационны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• 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моделирующие;                                         • тренажёр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• 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контролирующие;                                      • учебно-игровые и т. п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https://arhivurokov.ru/videouroki/html/2015/02/18/98704144/img4.jpg"/>
          <p:cNvPicPr/>
          <p:nvPr/>
        </p:nvPicPr>
        <p:blipFill>
          <a:blip r:embed="rId1"/>
          <a:stretch/>
        </p:blipFill>
        <p:spPr>
          <a:xfrm>
            <a:off x="324000" y="2349360"/>
            <a:ext cx="8618400" cy="436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Прямоугольник 1"/>
          <p:cNvSpPr/>
          <p:nvPr/>
        </p:nvSpPr>
        <p:spPr>
          <a:xfrm>
            <a:off x="250920" y="117360"/>
            <a:ext cx="864216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P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ациональное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использование современных технических средств обучения иностранным языкам позволяе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- Восполнить отсутствие иноязычной среды на всех этапах обучения иностранному язык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- Повышать мотивацию учащихся к обучению иностранного язы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- Полнее реализовать важный дидактический принцип нагляд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- Создать лучшие условия для программирования и контрол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- Осуществлять обучение с учетом индивидуальных типологических возможностей каждого учащего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- Обеспечивать ускоренное формирование и развитие навыков слухового самоконтрол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- Выполнять многие активные виды упражнений со всеми учащимися одновременно, включая говор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- Максимально использовать аналитические и имитационные способности учащихся, полнее мобилизовать их внутренние ресурс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http://chugunova727.ucoz.ru/risunok1.png"/>
          <p:cNvPicPr/>
          <p:nvPr/>
        </p:nvPicPr>
        <p:blipFill>
          <a:blip r:embed="rId1"/>
          <a:stretch/>
        </p:blipFill>
        <p:spPr>
          <a:xfrm>
            <a:off x="324000" y="260280"/>
            <a:ext cx="8245440" cy="605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Прямоугольник 1"/>
          <p:cNvSpPr/>
          <p:nvPr/>
        </p:nvSpPr>
        <p:spPr>
          <a:xfrm>
            <a:off x="468360" y="-6035760"/>
            <a:ext cx="8280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Интернет-ресурсы, применяемые на урок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1) Тексты для аудирования, размещенные на сайтах 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http://www.learnenglish.ru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  позволяет создать на уроке необходимые условия для тренировки обучающихся в аудирования текстов. Также для работы на уроках и факультативах (элективах) используем сайт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www.elllo.org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 и 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www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youtub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2) Флэш-игры, флэш-мультфильмы, предлагаемые сайтом 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http://www.englishteachers.ru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    помогают создавать на уроке игровую атмосферу и в то же время являются источником аутентичного материа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3)        Для восполнения «пробелов в знаниях» обучающихся сайт 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http:/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/www.eltgames.com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 предлагает различные типы тренировочных упражнений, которые можно использовать на различных ступенях обуч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2"/>
          <p:cNvSpPr/>
          <p:nvPr/>
        </p:nvSpPr>
        <p:spPr>
          <a:xfrm>
            <a:off x="376200" y="333360"/>
            <a:ext cx="835344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Интернет-ресурсы, применяемые на урок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1) Тексты для аудирования, размещенные на сайтах 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http://www.learnenglish.ru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  позволяет создать на уроке необходимые условия для тренировки обучающихся в аудирования текстов. Также для работы на уроках и факультативах (элективах) используем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сайт 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www.elllo.org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 и 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www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.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youtub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2) Флэш-игры, флэш-мультфильмы, предлагаемые сайтом 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http://www.englishteachers.ru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    помогают создавать на уроке игровую атмосферу и в то же время являются источником аутентичного материа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3)        Для восполнения «пробелов в знаниях» обучающихся сайт 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http://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eltgames.com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 предлагает различные типы тренировочных упражнений, которые можно использовать на различных ступенях обуч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4)        Видеоролики и сайты  описывающие реалии англоязычных стран, помогают в знакомстве с иноязычной культурой.  Например, Сайт о королеве Елизавете II и её семь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"/>
          <p:cNvPicPr/>
          <p:nvPr/>
        </p:nvPicPr>
        <p:blipFill>
          <a:blip r:embed="rId2"/>
          <a:stretch/>
        </p:blipFill>
        <p:spPr>
          <a:xfrm>
            <a:off x="3286080" y="4714920"/>
            <a:ext cx="3033720" cy="18763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" descr=""/>
          <p:cNvPicPr/>
          <p:nvPr/>
        </p:nvPicPr>
        <p:blipFill>
          <a:blip r:embed="rId3"/>
          <a:stretch/>
        </p:blipFill>
        <p:spPr>
          <a:xfrm>
            <a:off x="357120" y="4643280"/>
            <a:ext cx="2714760" cy="19386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"/>
          <p:cNvPicPr/>
          <p:nvPr/>
        </p:nvPicPr>
        <p:blipFill>
          <a:blip r:embed="rId4"/>
          <a:stretch/>
        </p:blipFill>
        <p:spPr>
          <a:xfrm>
            <a:off x="6500880" y="4643280"/>
            <a:ext cx="2500200" cy="20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Прямоугольник 1"/>
          <p:cNvSpPr/>
          <p:nvPr/>
        </p:nvSpPr>
        <p:spPr>
          <a:xfrm>
            <a:off x="357120" y="285840"/>
            <a:ext cx="563256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5)        Видеоролики с детскими песенками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www.toutube.com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, используемые на начальном этапе помогают создать на уроке ситуацию игры и, в то же время способствуют более быстрому овладению фонетических, лексических, грамматических навыков на урок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6)        Всевозможные тесты для проверки уровня овладения тем или иным грамматическим материалом можно взять на сайтах: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http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://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www.native-english.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http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://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www.study.ru/online/tests/english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http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://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www.britishcouncil.org/ru/russia-english-online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http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://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www.learnenglish.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http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://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www.studyenglishtoday.net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http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://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www.studyenglishtoday.net/Tests/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http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://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www.engmaster.ru/t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6) Презентации, созданные в программе Power Point на различные те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7)  Использование электронных словаре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6" descr="https://img.sur.ly/thumbnails/620x343/w/wooordhunt.ru.png"/>
          <p:cNvPicPr/>
          <p:nvPr/>
        </p:nvPicPr>
        <p:blipFill>
          <a:blip r:embed="rId1"/>
          <a:stretch/>
        </p:blipFill>
        <p:spPr>
          <a:xfrm>
            <a:off x="5643720" y="3000240"/>
            <a:ext cx="335736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Прямоугольник 1"/>
          <p:cNvSpPr/>
          <p:nvPr/>
        </p:nvSpPr>
        <p:spPr>
          <a:xfrm>
            <a:off x="611280" y="404640"/>
            <a:ext cx="78483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никальность электронных словарей заключается в объяснении грамматических явлений как традиционно, так и при помощи аутентичных диалогов, что не характерно для словарей на печатной основе. Своим ученикам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ы советуем использова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//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oordhunt.ru   https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//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gvolive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) Использование  портала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arningApps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ля самостоятельной работы дома или на урок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3419640" y="2714760"/>
            <a:ext cx="5702040" cy="382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1-12T13:52:20Z</dcterms:created>
  <dc:creator>Сергей</dc:creator>
  <dc:description/>
  <dc:language>en-US</dc:language>
  <cp:lastModifiedBy>user</cp:lastModifiedBy>
  <dcterms:modified xsi:type="dcterms:W3CDTF">2019-12-15T16:21:17Z</dcterms:modified>
  <cp:revision>24</cp:revision>
  <dc:subject/>
  <dc:title>Презентация PowerPoint</dc:title>
</cp:coreProperties>
</file>