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6635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50560" y="4210560"/>
            <a:ext cx="6635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056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5112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94440" y="160020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38320" y="160020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050560" y="421056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94440" y="421056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38320" y="421056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0560" y="1600200"/>
            <a:ext cx="66358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66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056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050560" y="1600200"/>
            <a:ext cx="66358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112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0560" y="4210560"/>
            <a:ext cx="6635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6635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0560" y="4210560"/>
            <a:ext cx="6635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056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112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4440" y="160020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38320" y="160020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0560" y="421056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94440" y="421056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38320" y="4210560"/>
            <a:ext cx="21366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66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05056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51120" y="421056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056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1120" y="1600200"/>
            <a:ext cx="32382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50560" y="4210560"/>
            <a:ext cx="6635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В работе\Футбол\FootbolSlide.jpg"/>
          <p:cNvPicPr/>
          <p:nvPr/>
        </p:nvPicPr>
        <p:blipFill>
          <a:blip r:embed="rId2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0560" y="1600200"/>
            <a:ext cx="66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7483680" y="65502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Ariston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В работе\Футбол\FootbolSlide.jpg"/>
          <p:cNvPicPr/>
          <p:nvPr/>
        </p:nvPicPr>
        <p:blipFill>
          <a:blip r:embed="rId2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7483680" y="65502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Ariston"/>
              </a:rPr>
              <a:t>ProPowerPoint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K:\ProPowerPoint\Шаблоны\В работе\Футбол\Footbo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0560" y="1600200"/>
            <a:ext cx="66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soccer365.ru/coaches/2048400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3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СТОРИЯ ФУТБО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140360" y="1773360"/>
            <a:ext cx="475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Calibri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Calibri"/>
              </a:rPr>
              <a:t>Молько Дмитр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Calibri"/>
              </a:rPr>
              <a:t>Проверила: учитель физической культуры Бедункович Марина Никола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ная России по футбо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50560" y="1197000"/>
            <a:ext cx="66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́рная Росси́и по футбо́лу — команда, представляющая Россию на международных соревнованиях по футболу. Управляется Российским футбольным союзом — главным руководящим футбольным органом страны. Российский футбольный союз является членом ФИФА с 1912 года, УЕФА — с 1954 года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звание  Российский Футбольный Союз  Главный тренер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Станислав Черче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1927080" y="386064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став сборной России по футболу входят 1)вратари : Игорь Акинфеев, Андрей Лунев, Владимир Габу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защитники :Игорь Смольников, Марио Фернандес, Фёдор Кудряшов, Сергей Игнашевич, Илья Кутеп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полузащитники: Алан Дзагоев, Юрий Жирков, Александр Головин, Александр Самедов, Денис Черышев, Александр Ерохин, Роман Зобнин, Юрий Газинский, Антон Миранчук, Далер Кузя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нападающие: Федор Смолов, Артем Дзюба, Алексей Миранч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- игра. Футбол - самая популярная игра в мире. Стало быть, футбол это жизнь в своем абсолютном проявлении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2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6192720" cy="376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123640" y="907560"/>
            <a:ext cx="66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рия футбо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ветить историю возникновения футбола, основных этапов его становления и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нать о родине футбола, первых матчах, постепенной эволюции правил игры, появлении судей, первых трансферных сделках, возникновении кубков и чемпионат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́л (от англ. foot — ступня,              ball — мяч) — командный вид спорта, в котором целью является забить мяч в ворота соперника ногами или другими частями тела (кроме рук) большее количество раз, чем команда сопер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0920" y="476280"/>
            <a:ext cx="66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е время футбол считался языческой забавой и не одобрялась церковью. Такое развлечение никак не могло быть безопасным – оно влекло за собой огромное количество травм и даже случаи со смертельным исход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30-е—1850-е гг. насчитывалось более 70 футбольных команд. Они могли представлять отдельные мужские клубы, пивные, целые деревни, иногда объединяли молодых людей одной професси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3093840" cy="2319480"/>
          </a:xfrm>
          <a:prstGeom prst="rect">
            <a:avLst/>
          </a:prstGeom>
          <a:ln w="0">
            <a:noFill/>
          </a:ln>
        </p:spPr>
      </p:pic>
      <p:pic>
        <p:nvPicPr>
          <p:cNvPr id="86" name="Объект 2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283200" cy="2305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2627280" y="450864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ФА в 2004 году официально признала, что именно китайский вариант футбола - самый древ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1" descr=""/>
          <p:cNvPicPr/>
          <p:nvPr/>
        </p:nvPicPr>
        <p:blipFill>
          <a:blip r:embed="rId3"/>
          <a:stretch/>
        </p:blipFill>
        <p:spPr>
          <a:xfrm>
            <a:off x="5724360" y="4219560"/>
            <a:ext cx="328320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официальный матч в истории состоялся в Глазго 30 ноября 1872 года на стадионе «Хемилтон Крешент», он положил начало великой традиции: с тех пор английские и шотландские футболисты встречаются каждый год, и только во время двух мировых войн эти игры не проводились. Если первое время арбитр и секунданты находились за пределами поля и могли вмешиваться в ход встречи только по просьбе спортсменов, то в 1890-е судья уже находился в гуще событий и мог останавливать игру в любой момент на свое усмотр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168360" cy="205236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2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2592360" cy="2047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93 году Джек Саутворф перешел из «Блэкберн Роверс» в «Эвертон» за 400 фунтов стерлингов. Считается, что это первый в истории футбола трансфер, когда за игрока были заплачены деньг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Объект 5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2371680" cy="1896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4716360" y="141300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мая 1904 года в Париже состоялось собрание, участниками которого стали представители пяти стран – Бельгии, Франции, Дании, Швейцарии и Нидерландов.              В ходе мероприятия они подписали соглашение о создании ФИФА, первым президентом которой избрал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ера Гере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2"/>
          <a:stretch/>
        </p:blipFill>
        <p:spPr>
          <a:xfrm>
            <a:off x="4859280" y="4059360"/>
            <a:ext cx="338472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4 году впервые была высказана идея проведения чемпионатов мира по футбол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вследствие скромных финансовых возможностей ФИФА, а также значительного расхождений в трактовке футбольных правил в различных странах, эта идея одобрения не получи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68360" y="1916280"/>
          <a:ext cx="6551640" cy="3097080"/>
        </p:xfrm>
        <a:graphic>
          <a:graphicData uri="http://schemas.openxmlformats.org/drawingml/2006/table">
            <a:tbl>
              <a:tblPr/>
              <a:tblGrid>
                <a:gridCol w="4692960"/>
                <a:gridCol w="185868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сорев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лимпийский турнир по футбо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Чемпионат 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Кубок европейских чемпи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Кубок обладателей куб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Кубок Либертадорес (Кубок освободителей Амери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Межконтинентальный ку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635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оды советской власти футболисты Советского Союза прошли большой путь развития. Создана своя советская тактика и свой отечественный стиль игры. Лев Яшин был первым советским игроком, получившим самую престижную награду «Золотой мяч», и до сих пор остается единственным голкипером, удостоившимся этой почетной спортивной прем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1558800" y="2565360"/>
            <a:ext cx="3880080" cy="266400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4788000" y="3546360"/>
            <a:ext cx="415584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бесспорного триумфа на трех мировых форумах – 1958, 1962 и 1970 годов – бразильская сборная навечно получила главный приз мировых чемпионатов – «Золотую богиню Нику».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5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293868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5076720" y="1700280"/>
            <a:ext cx="37432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мира по футболу 2018 в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2010 стало официально известно, что Россия станет страной-хозяйкой Чемпионата мира. Это 21-й по счёту Чемпионат мира, но в России он пройдёт впервые. Экс-министр спорта Российской Федерации Виталий Мутко отметил, что «поскольку чемпионат мира – мечта миллионов россиян, то создатели эмблемы воплотили в ней стремление к этой мечте и волшебств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Картинки по запросу чемпионат мира по футболу 2018 символ"/>
          <p:cNvPicPr/>
          <p:nvPr/>
        </p:nvPicPr>
        <p:blipFill>
          <a:blip r:embed="rId2"/>
          <a:stretch/>
        </p:blipFill>
        <p:spPr>
          <a:xfrm>
            <a:off x="2124000" y="3963960"/>
            <a:ext cx="2808360" cy="24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Картинки по запросу чемпионат мира по футболу 2018 логотип голубой"/>
          <p:cNvPicPr/>
          <p:nvPr/>
        </p:nvPicPr>
        <p:blipFill>
          <a:blip r:embed="rId3"/>
          <a:stretch/>
        </p:blipFill>
        <p:spPr>
          <a:xfrm>
            <a:off x="5292720" y="4151160"/>
            <a:ext cx="3382920" cy="223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1800" y="356760"/>
            <a:ext cx="64497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о имени Забивака стал официальным талисманом чемпио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50560" y="1600200"/>
            <a:ext cx="2233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Картинки по запросу чемпионат мира по футболу 2018 талисман"/>
          <p:cNvPicPr/>
          <p:nvPr/>
        </p:nvPicPr>
        <p:blipFill>
          <a:blip r:embed="rId1"/>
          <a:stretch/>
        </p:blipFill>
        <p:spPr>
          <a:xfrm>
            <a:off x="1763640" y="1341360"/>
            <a:ext cx="2908440" cy="2232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5148360" y="1628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дион в Моск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Картинки по запросу спартак арена"/>
          <p:cNvPicPr/>
          <p:nvPr/>
        </p:nvPicPr>
        <p:blipFill>
          <a:blip r:embed="rId2"/>
          <a:stretch/>
        </p:blipFill>
        <p:spPr>
          <a:xfrm>
            <a:off x="4605480" y="2781360"/>
            <a:ext cx="4359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0:30:31Z</dcterms:created>
  <dc:creator>Пользователь</dc:creator>
  <dc:description>http://propowerpoint.ru - Бесплатные шаблоны для презентаций. Полезные советы и уроки  PowerPoint .</dc:description>
  <dc:language>en-US</dc:language>
  <cp:lastModifiedBy>Светлана</cp:lastModifiedBy>
  <dcterms:modified xsi:type="dcterms:W3CDTF">2019-12-15T08:36:13Z</dcterms:modified>
  <cp:revision>28</cp:revision>
  <dc:subject/>
  <dc:title>ИСТОРИЯ ФУТБО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40000000000010243100207f8000400038000</vt:lpwstr>
  </property>
</Properties>
</file>