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8C4-04A1-49D9-B4CB-046BF6E8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2F0-8D59-4B16-AEE8-69DF573E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3B8-94ED-49E6-8E05-EF26F7B2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BD4-797A-459E-9177-BD92E34B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62F7-0821-4EF3-B9C1-B86F2B1F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4D1D-7A90-4ECE-9622-D7112219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81E4-A519-4924-B6C6-B5A5C61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6063-7DD8-4901-937F-4BE62509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EF20-5E46-41F5-91A2-356F3448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08E2-9C43-4E92-ADE2-F2AC0C84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1813-6066-41B6-9411-8389C10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8BA-65EA-4375-B59F-9442156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BD62-BF7F-4AF5-8D3A-11423CCD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7E91-05FD-43F3-95FA-49990530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C32B-C2BF-4B56-AA2D-C2D83FD6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DB81-8928-40FB-9A50-ED055209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6ECB-A518-485F-BCE8-2B830D5F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2D40-672B-4C42-B02F-2F81AAE5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01D7-6CFE-45FE-AF74-F223B921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06292-EBA5-4955-8FEC-E4EED064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C3F5-5B5B-400F-91B0-3D274582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B392-55EA-4A0D-BCB0-F31441DA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A75-6171-435B-8E95-DFED72E8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0ACA-E105-4740-8240-99D683BB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55EE-4C0C-42B2-A204-A6A37F6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8CB5E-3776-4E4E-9EFB-0BF6485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D8A1-A1BD-48AF-8012-2C64549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5B16-3AC6-460F-A03B-B81B87F7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C71E-EBE7-4C68-92CC-E6E734F3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B2B3-2065-4651-A0BF-4C9F8FA8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3ABC-0A91-404A-A66F-478EDFCC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CCF7-E0DA-416A-BD42-E80C3B7F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27DCB-348B-469B-B9C5-F20DBAC4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56C-361B-4CEF-B738-CD8ED715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1F643-26CC-40CE-B363-47D5E3FF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4C19-6F75-419B-A611-26625232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16D5-560C-496A-B09E-274A90BB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A98C-4CDE-4FAA-835C-0EF3FC1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3B3C-F269-42E2-9B7E-B0A6E6EE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01011-D2D9-414F-8A1F-5EE26E0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3AC3-0179-4111-8731-40F3B9C6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AD31-12B0-4504-B52D-A93D7B9B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F93A3-A3F5-4A9C-8271-D7B773C0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631-5F08-4E66-9ECC-7AA7FDBD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89B-4406-4EB2-B8AA-D044F000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C30-681A-4BF7-AE1D-A2CF9147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DE9-E511-4EC1-B642-D894BE4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80B-83E6-47BC-A79F-A81B9FFE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ff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5678-6DDA-4ACC-93E4-08A4E656140E}" type="slidenum">
              <a:rPr b="0" lang="ru-RU" sz="3200" spc="-1" strike="noStrike">
                <a:solidFill>
                  <a:srgbClr val="0a304a"/>
                </a:solidFill>
                <a:latin typeface="Trebuchet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ff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9957-EB8E-4147-BBC9-965829EC039F}" type="slidenum">
              <a:rPr b="0" lang="ru-RU" sz="3200" spc="-1" strike="noStrike">
                <a:solidFill>
                  <a:srgbClr val="0a304a"/>
                </a:solidFill>
                <a:latin typeface="Trebuchet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ff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TextBox 13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748C-5FAA-4494-8FA8-03DBBC0C0B05}" type="slidenum">
              <a:rPr b="0" lang="ru-RU" sz="3200" spc="-1" strike="noStrike">
                <a:solidFill>
                  <a:srgbClr val="0a304a"/>
                </a:solidFill>
                <a:latin typeface="Trebuchet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ff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0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4322-5E04-47D6-BEB4-B59B8AC30386}" type="slidenum">
              <a:rPr b="0" lang="ru-RU" sz="3200" spc="-1" strike="noStrike">
                <a:solidFill>
                  <a:srgbClr val="0a304a"/>
                </a:solidFill>
                <a:latin typeface="Trebuchet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49120" y="267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«ИДЕЯ ДЛЯ БИЗНЕСА: КАК ОТКРЫТЬ ЗАПРАВКУ- С НУЛЯ ИЛИ ПО ФРАНШИЗЕ?»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17680" y="3897000"/>
            <a:ext cx="660240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Учениц 10 класса «А»</a:t>
            </a:r>
            <a:endParaRPr b="0" lang="en-US" sz="26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МБОУ СОШ №45</a:t>
            </a:r>
            <a:endParaRPr b="0" lang="en-US" sz="26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Митяевой Мар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 Волковой Вероники</a:t>
            </a:r>
            <a:endParaRPr b="0" lang="en-US" sz="26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Учитель : Полещук Надежда                   Марковна</a:t>
            </a:r>
            <a:endParaRPr b="0" lang="en-US" sz="26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69800"/>
            <a:ext cx="6257880" cy="55080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Trebuchet MS"/>
              </a:rPr>
              <a:t>МИНИМАЛЬНЫЙ СОСТАВ :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360" y="1294920"/>
            <a:ext cx="86742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1)Резервуар для хранения топлива, V=15 м3 – 4 шт.</a:t>
            </a: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2)Аварийный резервуар для хранения топлива, V=15 м3 – 1 шт.</a:t>
            </a: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3)Ёмкость для системы ливнестока, V=10 м3 – 1 шт.</a:t>
            </a: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4)ТРК (заправочная колонка) с двумя рукавами – 2 шт.</a:t>
            </a: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2832120" cy="75564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ЕРСОНА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1080" y="1294920"/>
            <a:ext cx="86770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итывая то, что АЗС работает круглосуточно, работа будет организована в несколько смен. В каждой рабочей смене необходима деятельность следующего штата: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· кассир – 1 чел.;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· оператор ТРК – 2 чел.;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· охранник – 1 чел.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3880" y="141120"/>
            <a:ext cx="5326200" cy="47160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СТОИМОСТЬ ОТКРЫТИ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05040" y="843120"/>
          <a:ext cx="10971000" cy="5483160"/>
        </p:xfrm>
        <a:graphic>
          <a:graphicData uri="http://schemas.openxmlformats.org/drawingml/2006/table">
            <a:tbl>
              <a:tblPr/>
              <a:tblGrid>
                <a:gridCol w="788760"/>
                <a:gridCol w="1596960"/>
                <a:gridCol w="5451480"/>
                <a:gridCol w="3133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rowSpan="1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ходы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e4e4e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ренда земельного участк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0 млн. руб. в 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готовка проектно-сметной документации и оформление разрешительных документов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млн. руб.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роительные работы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млн. руб.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купка основного оборудования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5 млн. руб.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09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плата коммунальных услуг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120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9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работная плата персона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5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купка топли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плата пошлин, налогов и сборов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5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мортизационные отчисления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5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e4e4e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дажа топлива населению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чие доходы (мини-магазин, кафе и т.п.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7360" y="2544480"/>
            <a:ext cx="8534160" cy="1506600"/>
          </a:xfrm>
          <a:prstGeom prst="rect">
            <a:avLst/>
          </a:prstGeom>
          <a:solidFill>
            <a:srgbClr val="d9ffd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0120" y="595440"/>
            <a:ext cx="4781520" cy="76032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ОДЕРЖАНИЕ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93360" y="144612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1.Специфика бизнеса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2.Первые шаги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3.Два разных формата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4.Выбор места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5.Проектная подготовка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6.Выбор оборудования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7.Персонал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8.Стоимость открытия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9440" y="425160"/>
            <a:ext cx="6248160" cy="76356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rebuchet MS"/>
              </a:rPr>
              <a:t>СПЕЦИФИКА БИЗНЕСА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66720" y="1359000"/>
            <a:ext cx="640080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ткрыть свою заправку- непростая задача, требующая большого предпринимательского опыта. Новичкам рынка будет проще  открыть АЗС по франшизе и работать под крылом известной торговой марки. </a:t>
            </a:r>
            <a:endParaRPr b="0" lang="en-US" sz="32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8960" y="438120"/>
            <a:ext cx="3581640" cy="78408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rebuchet MS"/>
              </a:rPr>
              <a:t>ПЕРВЫЕ ШАГИ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6400" y="1542600"/>
            <a:ext cx="95313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ежде всего, мы изучили рынок АЗС и оценили уровень предложения в нашем регионе. Определили свои конкурентные преимущества.</a:t>
            </a:r>
            <a:endParaRPr b="0" lang="en-US" sz="36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4880" y="338040"/>
            <a:ext cx="5780160" cy="74448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ДВА РАЗНЫХ ФОРМАТА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9800" y="1348920"/>
            <a:ext cx="87487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уже было отмечено, прежде чем открывать свою заправку, мы определились с основополагающим принципом нашего будущего бизнеса. Это может быть целиком и полностью самостоятельная деятельность или же франчайзинг.</a:t>
            </a:r>
            <a:endParaRPr b="0" lang="en-US" sz="32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8"/>
          <p:cNvSpPr/>
          <p:nvPr/>
        </p:nvSpPr>
        <p:spPr>
          <a:xfrm>
            <a:off x="233280" y="973080"/>
            <a:ext cx="560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омощь опытных специалистов на этапе открытия предприятия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онсультирование в ходе организации работы заправки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беспечение поставок топлива надежными поставщиками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Работа от имени известного бренда – стабильный поток клиентов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9"/>
          <p:cNvSpPr/>
          <p:nvPr/>
        </p:nvSpPr>
        <p:spPr>
          <a:xfrm>
            <a:off x="321840" y="243000"/>
            <a:ext cx="5764680" cy="48996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яд преимуществ франчайзинга 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0"/>
          <p:cNvSpPr/>
          <p:nvPr/>
        </p:nvSpPr>
        <p:spPr>
          <a:xfrm>
            <a:off x="5780160" y="4048200"/>
            <a:ext cx="608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гое соблюдение корпоративных стандартов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сутствие свободы в вопросах ценовой политики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бязательные и регулярные платежи по франшиз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1"/>
          <p:cNvSpPr/>
          <p:nvPr/>
        </p:nvSpPr>
        <p:spPr>
          <a:xfrm>
            <a:off x="6138360" y="3386160"/>
            <a:ext cx="5377680" cy="52056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усы покупки франшизы 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6520" y="239400"/>
            <a:ext cx="4216320" cy="70956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ВЫБОР  МЕСТ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0240" y="1055520"/>
            <a:ext cx="947268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АЗС размещаются, как правило, на оживленных автомагистралях и развязках. Заправка должна быть обеспечена удобным подъездом. Размер необходимого участка определяется следующими критериями: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)Разнообразие видов продаваемого топлива (бензин, ДТ, метан, пропан);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)Количество ТРК;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)Наличи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отсутствие в составе АЗС работающих кафе, мини-магазина и т.п.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редняя площадь участка составляет, как правило, 100 м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399600"/>
            <a:ext cx="6080040" cy="655560"/>
          </a:xfrm>
          <a:prstGeom prst="rect">
            <a:avLst/>
          </a:prstGeom>
          <a:solidFill>
            <a:srgbClr val="f7d0d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РОЕКТНАЯ ПОДГОТОВК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4360" y="1287000"/>
            <a:ext cx="767376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орские документы планируемого сооружения должны учитывать множество требований, предъявляемых к объектам повышенной опасности. Действующими строительными регламентами предусмотрено выполнение следующих норм:</a:t>
            </a: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тивопожарные;</a:t>
            </a: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нитарные;</a:t>
            </a: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родоохранные.</a:t>
            </a: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0680" y="311040"/>
            <a:ext cx="6720120" cy="74448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ВЫБОР  ОБОРУДОВАНИ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99600" y="1305000"/>
            <a:ext cx="722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егодняшний рынок изобилует предложениями как зарубежных, так и отечественных производителей. Не стоит гнаться за дешевизной в этом вопросе, потому что от качества оборудования во многом зависит срок его эксплуатации. 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5T19:34:22Z</dcterms:created>
  <dc:creator>Владимир Сальников</dc:creator>
  <dc:description/>
  <dc:language>en-US</dc:language>
  <cp:lastModifiedBy>User</cp:lastModifiedBy>
  <dcterms:modified xsi:type="dcterms:W3CDTF">2019-12-15T13:49:41Z</dcterms:modified>
  <cp:revision>28</cp:revision>
  <dc:subject/>
  <dc:title>Презентация на тему: «Идея для бизнеса №9: как открыть заправку- с нуля или по франшизе?»</dc:title>
</cp:coreProperties>
</file>