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B05-A264-4F84-A97E-08CCDA46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DD0-D901-47B8-A5DD-DCC8B85A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E66-21DD-4F05-A86C-E1896737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942-65F5-4A1E-8EED-D50F09FC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FEB7-C46E-4C0A-BD2B-F1B8D3E6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6A5-0A56-499B-985C-493F685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F49F-9733-4226-B77F-88109C16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B367-AAD1-47F0-A3D7-AC57035B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22E7-F864-465C-BB64-834D519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8DAA-415F-45BD-A9AC-721EC861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B78E-8683-4C20-8BEB-47AA1D2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31D-E6CE-4BFB-A478-8C008C8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AF7-2A18-43A2-85B9-D5C06CC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55CC-E959-45AC-96E6-1123E23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563C-4F0B-4887-81F3-63D7089F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3C98-A97A-4A26-8C50-5C15B92B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567F-C961-4362-B837-D57DFC4F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C440-C86A-4F7D-AEB3-1EDD96AB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6132-D503-4DE6-9E93-ECD1853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450E-75C1-41E3-83EC-3375EB1C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265AC-A484-4F09-986B-3141750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48A1-98C1-4CEF-9C1C-ECB410DC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AC2-A47C-43D8-87EB-E981A0B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0444-63F9-4982-8C36-7C3E102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0932-8EAF-48DC-A706-9124039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BFFB-BB97-4CF3-A6F7-0D001D2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1061-6512-472E-8513-98F51FC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CE5A-91D9-449A-B46F-C312C7FE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3EBD-EB50-4D99-A3CB-9A39B17A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E089-F588-4D13-A86E-0FD17F07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5377-9FE5-4B4B-8CD0-20C59919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B9FC-3DC4-4A73-B1A9-A1FC695C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52F6-F74C-47AD-880D-83972573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BB2-5C96-4F1A-9862-22EFFB8A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3646-24D1-44FB-A44E-EF93477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00CF-B1C4-4FA8-9878-27F79D1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F9A1-7A7B-4865-9CBD-02EC075D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6ED1-B84A-4C0E-9092-0C569F1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F2E4-1684-4213-999C-2F226D7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1A85-14AF-4053-A671-B8A87DE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E991-D781-46A7-82EF-65EF7B72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F992-E3F1-41F3-AF36-86788524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E54F-B79E-4DF1-BD68-11456D9C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71F-68E2-41E3-A140-7C958FC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D82-3A30-4415-81B9-3E143055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28C-B851-4990-A454-9EDE8E1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93A-0573-41D7-B7DD-B1063B0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CB8-E819-448F-A113-4E582448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383-7F54-486C-8A4F-040AD3063958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06AB-71F2-4056-BC41-D4E62F5A9C60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3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A25-6874-48F5-B78D-CFDA096E9166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fd9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0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i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0a304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1C40-C155-462E-8895-865ECAAB19D0}" type="slidenum">
              <a:rPr b="0" lang="ru-RU" sz="3200" spc="-1" strike="noStrike">
                <a:solidFill>
                  <a:srgbClr val="0a304a"/>
                </a:solidFill>
                <a:latin typeface="Trebuchet MS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49120" y="267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«ИДЕЯ ДЛЯ БИЗНЕСА: КАК ОТКРЫТЬ ЗАПРАВКУ- С НУЛЯ ИЛИ ПО ФРАНШИЗЕ?»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17680" y="3897000"/>
            <a:ext cx="6602400" cy="23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чениц 10 класса «А»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МБОУ СОШ №45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Митяевой Мар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 Волковой Вероники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читель : Полещук Надежда                   Марковна</a:t>
            </a:r>
            <a:endParaRPr b="0" lang="en-US" sz="26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69800"/>
            <a:ext cx="6257880" cy="55080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Trebuchet MS"/>
              </a:rPr>
              <a:t>МИНИМАЛЬНЫЙ СОСТАВ :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360" y="1294920"/>
            <a:ext cx="8674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1)Резервуар для хранения топлива, V=15 м3 – 4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2)Аварийный резервуар для хранения топлива, V=15 м3 – 1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3)Ёмкость для системы ливнестока, V=10 м3 – 1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4)ТРК (заправочная колонка) с двумя рукавами – 2 шт.</a:t>
            </a: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7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2832120" cy="75564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ЕРСОНАЛ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1080" y="1294920"/>
            <a:ext cx="86770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итывая то, что АЗС работает круглосуточно, работа будет организована в несколько смен. В каждой рабочей смене необходима деятельность следующего штата: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· кассир – 1 чел.;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· оператор ТРК – 2 чел.;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· охранник – 1 чел.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3880" y="141120"/>
            <a:ext cx="5326200" cy="47160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ТОИМОСТЬ ОТКРЫТИЯ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05040" y="843120"/>
          <a:ext cx="10971000" cy="5483160"/>
        </p:xfrm>
        <a:graphic>
          <a:graphicData uri="http://schemas.openxmlformats.org/drawingml/2006/table">
            <a:tbl>
              <a:tblPr/>
              <a:tblGrid>
                <a:gridCol w="788760"/>
                <a:gridCol w="1596960"/>
                <a:gridCol w="5451480"/>
                <a:gridCol w="3133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1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e4e4e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ренда земельного участк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0 млн. руб. в 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дготовка проектно-сметной документации и оформление разрешительных документов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млн. руб.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роительные работы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млн. руб.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упка основного оборудования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5 млн. руб.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0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лата коммунальных услуг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120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9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работная плата персонал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5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упка топлива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лата пошлин, налогов и сборов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5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мортизационные отчисления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5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 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e4e4e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дажа топлива населению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чие доходы (мини-магазин, кафе и т.п.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 млн. руб./год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62324"/>
                      </a:solidFill>
                    </a:lnL>
                    <a:lnR w="5760">
                      <a:solidFill>
                        <a:srgbClr val="c62324"/>
                      </a:solidFill>
                    </a:lnR>
                    <a:lnT w="5760">
                      <a:solidFill>
                        <a:srgbClr val="c62324"/>
                      </a:solidFill>
                    </a:lnT>
                    <a:lnB w="5760">
                      <a:solidFill>
                        <a:srgbClr val="c62324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7360" y="2544480"/>
            <a:ext cx="8534160" cy="1506600"/>
          </a:xfrm>
          <a:prstGeom prst="rect">
            <a:avLst/>
          </a:prstGeom>
          <a:solidFill>
            <a:srgbClr val="d9ffd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0120" y="595440"/>
            <a:ext cx="4781520" cy="76032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ОДЕРЖАНИЕ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3360" y="1446120"/>
            <a:ext cx="8534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1.Специфика бизнес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2.Первые шаги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3.Два разных формат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4.Выбор мест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5.Проектная подготовка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6.Выбор оборудования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7.Персонал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8.Стоимость открытия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9440" y="425160"/>
            <a:ext cx="6248160" cy="7635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rebuchet MS"/>
              </a:rPr>
              <a:t>СПЕЦИФИКА БИЗНЕСА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66720" y="1359000"/>
            <a:ext cx="64008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ткрыть свою заправку- непростая задача, требующая большого предпринимательского опыта. Новичкам рынка будет проще  открыть АЗС по франшизе и работать под крылом известной торговой марки. </a:t>
            </a:r>
            <a:endParaRPr b="0" lang="en-US" sz="32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8960" y="438120"/>
            <a:ext cx="3581640" cy="78408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rebuchet MS"/>
              </a:rPr>
              <a:t>ПЕРВЫЕ ШАГИ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6400" y="1542600"/>
            <a:ext cx="95313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ежде всего, мы изучили рынок АЗС и оценили уровень предложения в нашем регионе. Определили свои конкурентные преимущества.</a:t>
            </a:r>
            <a:endParaRPr b="0" lang="en-US" sz="36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4880" y="338040"/>
            <a:ext cx="5780160" cy="74448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ДВА РАЗНЫХ ФОРМАТА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9800" y="1348920"/>
            <a:ext cx="87487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к уже было отмечено, прежде чем открывать свою заправку, мы определились с основополагающим принципом нашего будущего бизнеса. Это может быть целиком и полностью самостоятельная деятельность или же франчайзинг.</a:t>
            </a:r>
            <a:endParaRPr b="0" lang="en-US" sz="32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8"/>
          <p:cNvSpPr/>
          <p:nvPr/>
        </p:nvSpPr>
        <p:spPr>
          <a:xfrm>
            <a:off x="233280" y="973080"/>
            <a:ext cx="560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мощь опытных специалистов на этапе открытия предприятия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онсультирование в ходе организации работы заправки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еспечение поставок топлива надежными поставщиками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Работа от имени известного бренда – стабильный поток клиентов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9"/>
          <p:cNvSpPr/>
          <p:nvPr/>
        </p:nvSpPr>
        <p:spPr>
          <a:xfrm>
            <a:off x="321840" y="243000"/>
            <a:ext cx="5764680" cy="4899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яд преимуществ франчайзинга 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0"/>
          <p:cNvSpPr/>
          <p:nvPr/>
        </p:nvSpPr>
        <p:spPr>
          <a:xfrm>
            <a:off x="5780160" y="4048200"/>
            <a:ext cx="608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гое соблюдение корпоративных стандартов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сутствие свободы в вопросах ценовой политики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бязательные и регулярные платежи по франшиз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1"/>
          <p:cNvSpPr/>
          <p:nvPr/>
        </p:nvSpPr>
        <p:spPr>
          <a:xfrm>
            <a:off x="6138360" y="3386160"/>
            <a:ext cx="5377680" cy="5205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усы покупки франшизы 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6520" y="239400"/>
            <a:ext cx="4216320" cy="70956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ВЫБОР  МЕСТ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0240" y="1055520"/>
            <a:ext cx="947268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АЗС размещаются, как правило, на оживленных автомагистралях и развязках. Заправка должна быть обеспечена удобным подъездом. Размер необходимого участка определяется следующими критериями: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Разнообразие видов продаваемого топлива (бензин, ДТ, метан, пропан);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Количество ТРК;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)Наличие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отсутствие в составе АЗС работающих кафе, мини-магазина и т.п.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редняя площадь участка составляет, как правило, 100 м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.</a:t>
            </a:r>
            <a:endParaRPr b="0" lang="en-US" sz="22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399600"/>
            <a:ext cx="6080040" cy="655560"/>
          </a:xfrm>
          <a:prstGeom prst="rect">
            <a:avLst/>
          </a:prstGeom>
          <a:solidFill>
            <a:srgbClr val="f7d0d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ОЕКТНАЯ ПОДГОТОВ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4360" y="1287000"/>
            <a:ext cx="767376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орские документы планируемого сооружения должны учитывать множество требований, предъявляемых к объектам повышенной опасности. Действующими строительными регламентами предусмотрено выполнение следующих норм: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тивопожарные;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нитарные;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родоохранные.</a:t>
            </a: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0680" y="311040"/>
            <a:ext cx="6720120" cy="744480"/>
          </a:xfrm>
          <a:prstGeom prst="rect">
            <a:avLst/>
          </a:prstGeom>
          <a:solidFill>
            <a:srgbClr val="fae5d7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ВЫБОР  ОБОРУДОВАНИ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99600" y="1305000"/>
            <a:ext cx="722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егодняшний рынок изобилует предложениями как зарубежных, так и отечественных производителей. Не стоит гнаться за дешевизной в этом вопросе, потому что от качества оборудования во многом зависит срок его эксплуатации. </a:t>
            </a:r>
            <a:endParaRPr b="0" lang="en-US" sz="2800" spc="-1" strike="noStrike">
              <a:solidFill>
                <a:srgbClr val="0f496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5T19:34:22Z</dcterms:created>
  <dc:creator>Владимир Сальников</dc:creator>
  <dc:description/>
  <dc:language>en-US</dc:language>
  <cp:lastModifiedBy>User</cp:lastModifiedBy>
  <dcterms:modified xsi:type="dcterms:W3CDTF">2019-12-15T13:49:41Z</dcterms:modified>
  <cp:revision>28</cp:revision>
  <dc:subject/>
  <dc:title>Презентация на тему: «Идея для бизнеса №9: как открыть заправку- с нуля или по франшизе?»</dc:title>
</cp:coreProperties>
</file>