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626-2479-49B0-9E2D-AED8063A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5E16-2ACD-4F4D-96BB-B606D2BC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3B4E-013C-45CE-8D54-4475584A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DE17-D9B3-4BAD-B8AB-D3EAE1F3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13AE-9EC5-4910-AF53-1A13501F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2050-BFC6-453C-9151-E4D79A75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A527-0D6A-4874-B5D0-71627716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34A8-C471-487E-9860-994A8CFE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244B-2E0D-4CA4-A89B-A55A72BA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5205-D090-49C1-AD7D-B9B27D74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A94F-64B3-4EF4-8C90-C4C100C4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7D46-5F52-4CC0-863C-3AFAAB7F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C9E3-CDE1-4AFF-BCEF-CDCA34D1F0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ink-Gradient-Wallpap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395280" y="69228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ff"/>
                </a:solidFill>
                <a:latin typeface="Arial"/>
              </a:rPr>
              <a:t>Проект по «Окружающему миру»</a:t>
            </a:r>
            <a:br>
              <a:rPr sz="3200"/>
            </a:br>
            <a:r>
              <a:rPr b="1" i="1" lang="ru-RU" sz="3200" spc="-1" strike="noStrike">
                <a:solidFill>
                  <a:srgbClr val="3366ff"/>
                </a:solidFill>
                <a:latin typeface="Arial"/>
              </a:rPr>
              <a:t>на тему: «Красная книга или Возьмем под защит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788000" y="4149720"/>
            <a:ext cx="41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полнила: ученица 2 «Б» кл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Нахалова Екатер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ruoCv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59c5fbe9efb7515ead6009fe"/>
          <p:cNvPicPr/>
          <p:nvPr/>
        </p:nvPicPr>
        <p:blipFill>
          <a:blip r:embed="rId2"/>
          <a:stretch/>
        </p:blipFill>
        <p:spPr>
          <a:xfrm>
            <a:off x="611280" y="836640"/>
            <a:ext cx="3854520" cy="4968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4643280" y="1557360"/>
            <a:ext cx="403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Красную книгу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анесены редкие  исчезающие животные и  растения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Красный цве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это сигнал тревоги и опасности, это сигнал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S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который нам подают животные и рас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ruoCv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Лесная соня"/>
          <p:cNvPicPr/>
          <p:nvPr/>
        </p:nvPicPr>
        <p:blipFill>
          <a:blip r:embed="rId2"/>
          <a:stretch/>
        </p:blipFill>
        <p:spPr>
          <a:xfrm>
            <a:off x="250920" y="1916280"/>
            <a:ext cx="4584600" cy="3055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2700360" y="2602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cc"/>
                </a:solidFill>
                <a:latin typeface="Arial"/>
              </a:rPr>
              <a:t>Лесная со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148360" y="1052640"/>
            <a:ext cx="374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рызун маленького размера (около 10 см в длину) и небольшой массы (около 40 грамм). Цвет шерсти обычно серый. Но в разных местах обитания могут быть разные оттенки. Шерстка – короткая, мягкая и густая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Живет лесная соня, в основном, на дереве или кустарнике, но и на земле ее тоже можно увидеть. Сони живут 3 года, но в хороших домашних условиях могут прожить и 5 лет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имой они впадают в спяч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ruoCv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выдра"/>
          <p:cNvPicPr/>
          <p:nvPr/>
        </p:nvPicPr>
        <p:blipFill>
          <a:blip r:embed="rId2"/>
          <a:stretch/>
        </p:blipFill>
        <p:spPr>
          <a:xfrm>
            <a:off x="324000" y="1700280"/>
            <a:ext cx="4537080" cy="34178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2987640" y="260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Выд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148360" y="1125360"/>
            <a:ext cx="381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ыдра – это один из видов млекопитающих хищников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мером они от 50 см до 95 см, весит около 10 кг. Выдры всех видов имеют один цвет – бурый или коричневей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 счет маленьких глаз выдра хорошо видит на суше и под водой.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ыдры активны и днем и ночью, если не ощущают опасности или присутствия рядом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ruoCv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3!1200!798"/>
          <p:cNvPicPr/>
          <p:nvPr/>
        </p:nvPicPr>
        <p:blipFill>
          <a:blip r:embed="rId2"/>
          <a:stretch/>
        </p:blipFill>
        <p:spPr>
          <a:xfrm>
            <a:off x="324000" y="1557360"/>
            <a:ext cx="4321080" cy="28735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2268360" y="18900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Амурский тиг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859280" y="981000"/>
            <a:ext cx="428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мурский тигр – самый крупный, единственный вод тигра освоивший жизнь в снегах. Его масса может превышать даже 300 кг, длина тела составляет до 3-х метров, а длина хвоста до 1 метр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ищник употребляет в пищу только мясо и  чаще всего это добыча крупных размеров. Большую часть времени тигр тратит на поиски добычи.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стаивает свою территорию самец достаточно жестко – не званных гостей тигр просто пытается уничтожить, а вот с представителями своего вида конфликт пытается устранить грозным рёвом. Драка для амурского тигра крайняя ме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ruoCv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042920" y="1197000"/>
            <a:ext cx="74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Природа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 – это наша среда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обитания, мы часть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природы и должны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оберегать наш    общий д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0T17:35:38Z</dcterms:created>
  <dc:creator>S_I_D</dc:creator>
  <dc:description/>
  <dc:language>en-US</dc:language>
  <cp:lastModifiedBy>Оксана</cp:lastModifiedBy>
  <dcterms:modified xsi:type="dcterms:W3CDTF">2019-12-15T15:44:19Z</dcterms:modified>
  <cp:revision>4</cp:revision>
  <dc:subject/>
  <dc:title>Слайд 1</dc:title>
</cp:coreProperties>
</file>