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0591-AA2B-4FE5-903E-55889FF6B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7F1B-5316-485F-92FA-2737F53E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88F0-CA70-429C-8750-FF38F748B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586D-0B30-4FCB-9DF6-649EFB450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D663-C3B8-436C-84BF-BB2C2AA5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91EC-178E-4C45-8127-186D9630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FDFE-74D9-4DDE-B2F0-97DB8AC3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6164-C2BE-4025-9C4F-DC30A0C6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24CE-9CB6-4278-8AD7-2B3FC290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7261-165C-4320-937C-E63E9BBA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54A2-3749-4E81-A048-B5151F69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5980-BF68-42C4-8E53-A4DF290E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2A2F-7C50-4E63-AAB4-32C4C7E728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Pink-Gradient-Wallpap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395280" y="692280"/>
            <a:ext cx="87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ff"/>
                </a:solidFill>
                <a:latin typeface="Arial"/>
              </a:rPr>
              <a:t>Проект по «Окружающему миру»</a:t>
            </a:r>
            <a:br>
              <a:rPr sz="3200"/>
            </a:br>
            <a:r>
              <a:rPr b="1" i="1" lang="ru-RU" sz="3200" spc="-1" strike="noStrike">
                <a:solidFill>
                  <a:srgbClr val="3366ff"/>
                </a:solidFill>
                <a:latin typeface="Arial"/>
              </a:rPr>
              <a:t>на тему: «Красная книга или Возьмем под защит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4788000" y="4149720"/>
            <a:ext cx="41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ыполнила: ученица 2 «Б» кл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Нахалова Екатери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ruoCv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59c5fbe9efb7515ead6009fe"/>
          <p:cNvPicPr/>
          <p:nvPr/>
        </p:nvPicPr>
        <p:blipFill>
          <a:blip r:embed="rId2"/>
          <a:stretch/>
        </p:blipFill>
        <p:spPr>
          <a:xfrm>
            <a:off x="611280" y="836640"/>
            <a:ext cx="3854520" cy="49687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4643280" y="1557360"/>
            <a:ext cx="4032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Красную книгу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занесены редкие  исчезающие животные и  растения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Красный цвет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– это сигнал тревоги и опасности, это сигнал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S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который нам подают животные и раст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ruoCv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Лесная соня"/>
          <p:cNvPicPr/>
          <p:nvPr/>
        </p:nvPicPr>
        <p:blipFill>
          <a:blip r:embed="rId2"/>
          <a:stretch/>
        </p:blipFill>
        <p:spPr>
          <a:xfrm>
            <a:off x="250920" y="1916280"/>
            <a:ext cx="4584600" cy="3055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7"/>
          <p:cNvSpPr/>
          <p:nvPr/>
        </p:nvSpPr>
        <p:spPr>
          <a:xfrm>
            <a:off x="2700360" y="26028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cc"/>
                </a:solidFill>
                <a:latin typeface="Arial"/>
              </a:rPr>
              <a:t>Лесная со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5148360" y="1052640"/>
            <a:ext cx="3744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рызун маленького размера (около 10 см в длину) и небольшой массы (около 40 грамм). Цвет шерсти обычно серый. Но в разных местах обитания могут быть разные оттенки. Шерстка – короткая, мягкая и густая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Живет лесная соня, в основном, на дереве или кустарнике, но и на земле ее тоже можно увидеть. Сони живут 3 года, но в хороших домашних условиях могут прожить и 5 лет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имой они впадают в спяч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ruoCv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выдра"/>
          <p:cNvPicPr/>
          <p:nvPr/>
        </p:nvPicPr>
        <p:blipFill>
          <a:blip r:embed="rId2"/>
          <a:stretch/>
        </p:blipFill>
        <p:spPr>
          <a:xfrm>
            <a:off x="324000" y="1700280"/>
            <a:ext cx="4537080" cy="34178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2987640" y="2602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Выд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148360" y="1125360"/>
            <a:ext cx="3816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ыдра – это один из видов млекопитающих хищников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змером они от 50 см до 95 см, весит около 10 кг. Выдры всех видов имеют один цвет – бурый или коричневей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 счет маленьких глаз выдра хорошо видит на суше и под водой.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ыдры активны и днем и ночью, если не ощущают опасности или присутствия рядом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ruoCv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3!1200!798"/>
          <p:cNvPicPr/>
          <p:nvPr/>
        </p:nvPicPr>
        <p:blipFill>
          <a:blip r:embed="rId2"/>
          <a:stretch/>
        </p:blipFill>
        <p:spPr>
          <a:xfrm>
            <a:off x="324000" y="1557360"/>
            <a:ext cx="4321080" cy="28735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2268360" y="18900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Амурский тиг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4859280" y="981000"/>
            <a:ext cx="4284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мурский тигр – самый крупный, единственный вод тигра освоивший жизнь в снегах. Его масса может превышать даже 300 кг, длина тела составляет до 3-х метров, а длина хвоста до 1 метра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ищник употребляет в пищу только мясо и  чаще всего это добыча крупных размеров. Большую часть времени тигр тратит на поиски добычи.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тстаивает свою территорию самец достаточно жестко – не званных гостей тигр просто пытается уничтожить, а вот с представителями своего вида конфликт пытается устранить грозным рёвом. Драка для амурского тигра крайняя ме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ruoCv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1042920" y="1197000"/>
            <a:ext cx="741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Arial"/>
              </a:rPr>
              <a:t>Природа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 – это наша среда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обитания, мы часть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природы и должны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оберегать наш    общий д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10T17:35:38Z</dcterms:created>
  <dc:creator>S_I_D</dc:creator>
  <dc:description/>
  <dc:language>en-US</dc:language>
  <cp:lastModifiedBy>Оксана</cp:lastModifiedBy>
  <dcterms:modified xsi:type="dcterms:W3CDTF">2019-12-15T15:44:19Z</dcterms:modified>
  <cp:revision>4</cp:revision>
  <dc:subject/>
  <dc:title>Слайд 1</dc:title>
</cp:coreProperties>
</file>