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319F-C481-4C3B-B658-9EDA8A0851F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14A8-B9C7-45C0-9E3A-C2796259D2D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55AB-0FE7-4333-AD54-70696A5353C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B7B-FF6D-44A8-8DAC-316EB041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4BD-A83A-4253-8CDB-2B5E2F69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F1F-5DF1-4F25-A9CF-4BB63D34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66A-528F-4396-9A97-5AF94AE4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7CD-3616-4007-8441-5B793B50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480-F63F-4AD5-A25F-68093AE6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474-C2AA-429F-B221-42050368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ECD-305E-46BB-8EA2-734C56CB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179-9911-48F3-BDFB-DCA6B400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936-30A0-4F40-A606-F7C1A2E5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009-0966-4AE9-92B5-DDCFA8B5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013-3118-4BAC-B904-9AA14823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3C2D-AC1D-4D98-B1A4-2A65AC5E88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12600" y="1281240"/>
          <a:ext cx="913140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1281240"/>
                    <a:ext cx="913140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6"/>
          <p:cNvSpPr/>
          <p:nvPr/>
        </p:nvSpPr>
        <p:spPr>
          <a:xfrm>
            <a:off x="0" y="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Мониторинг качества образования по русскому язы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специальность «Банковское дел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ёнка</cp:lastModifiedBy>
  <cp:lastPrinted>2019-12-12T14:20:14Z</cp:lastPrinted>
  <dcterms:modified xsi:type="dcterms:W3CDTF">2019-12-12T14:20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