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C7C6-0EA7-47FA-9B24-15431713297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A808-C075-4AB7-AEAE-1B4A8968872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9FD0-4D0C-4013-B1F1-ADEFED9B445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5BE-20D1-490D-8C4C-28CF7EB2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D85-29BB-48A6-BC86-7B26B229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0AA-54FD-4133-8290-ED025690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6CD-DB6C-4989-8450-FBA3CB22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31F-9F7D-4862-A45B-C6B6634C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488-9BA4-4358-A367-21C3D135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CB7-0ED0-4499-AC0E-50FA2104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661-5696-4C1E-9057-55E5BB8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19B-A0D0-4CB4-A8DF-BD61DF7C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469-1108-4921-958B-9FCC1F8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9B2-DACD-40F5-AB61-60FC13B2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955-E13C-4463-9EA8-7E64D8A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A2B-6367-497D-9A12-E712F80B2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0" y="1219320"/>
          <a:ext cx="913140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3140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6"/>
          <p:cNvSpPr/>
          <p:nvPr/>
        </p:nvSpPr>
        <p:spPr>
          <a:xfrm>
            <a:off x="0" y="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ониторинг качества образования по рус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специальность «Банковское дел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Русски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ка</cp:lastModifiedBy>
  <cp:lastPrinted>2019-12-12T18:38:42Z</cp:lastPrinted>
  <dcterms:modified xsi:type="dcterms:W3CDTF">2019-12-12T18:39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