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38A2-7E93-436E-A066-CF5661E9E50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0AA-DA76-4D89-9727-17D5F6994F6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D93A-6D81-4482-9C07-D75AA8DFA9C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0E1-C65F-4C6F-A6B1-81E35DD1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EA5-3952-41AA-A1BD-4BE14C55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C5D-AF63-445A-A857-CA54CB8B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814-D0E3-4BBB-A57B-08053FD3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406-D18A-495B-83A6-8EF90CA8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6C5-BF20-476B-A277-9ABA787F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778-837E-4BEC-838D-112C0876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CE7-8903-4BF9-B0D1-47658C65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944-E2DF-465E-9E12-DBCE873F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08A-46B4-440E-9384-C45748D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F63-0D01-45BC-BC13-95FDAC3B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A94-0509-49EE-BF92-7555134F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A66F-176E-46FF-ADF8-616CE09DD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0" y="1219320"/>
          <a:ext cx="913140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3140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6"/>
          <p:cNvSpPr/>
          <p:nvPr/>
        </p:nvSpPr>
        <p:spPr>
          <a:xfrm>
            <a:off x="0" y="22860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ониторинг качества образования по литера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специальность «Банковское дел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562720" y="2133720"/>
            <a:ext cx="53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ёнка</cp:lastModifiedBy>
  <cp:lastPrinted>2019-12-12T14:17:13Z</cp:lastPrinted>
  <dcterms:modified xsi:type="dcterms:W3CDTF">2019-12-12T14:17:3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